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31B-B8BE-4338-A290-EC21E914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530-2931-41C1-B418-5FF0F429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882-988B-4230-8612-DF9E59FD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656-4F1F-4E6B-8BC0-D1DB3975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653-D247-4268-A7CB-97705F56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30D-ADF1-482A-8261-B43C9D2D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566-4D3C-4937-BD40-D571BF9C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DA5-8B98-4D60-8149-76D6B885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4D0-8227-4C75-ACCB-338D80CB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87C-A555-45D0-B8FD-AF894840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56D-98D1-4A96-B3FE-5AC6A18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81A-2B3A-410A-80DD-9813FE96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0CFB-0CB8-45C4-9110-3FE8A464C2C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iousios.gr/" TargetMode="External"/><Relationship Id="rId3" Type="http://schemas.openxmlformats.org/officeDocument/2006/relationships/hyperlink" Target="http://www.trikalinos.gr/" TargetMode="External"/><Relationship Id="rId4" Type="http://schemas.openxmlformats.org/officeDocument/2006/relationships/hyperlink" Target="http://www.mastihashop.com/" TargetMode="External"/><Relationship Id="rId5" Type="http://schemas.openxmlformats.org/officeDocument/2006/relationships/hyperlink" Target="http://www.krocuskozanis.com/" TargetMode="External"/><Relationship Id="rId6" Type="http://schemas.openxmlformats.org/officeDocument/2006/relationships/hyperlink" Target="http://www.eurodyn.com/" TargetMode="External"/><Relationship Id="rId7" Type="http://schemas.openxmlformats.org/officeDocument/2006/relationships/hyperlink" Target="http://www.globoplc.com/" TargetMode="External"/><Relationship Id="rId8" Type="http://schemas.openxmlformats.org/officeDocument/2006/relationships/hyperlink" Target="http://www.upstreamsystems.com/" TargetMode="External"/><Relationship Id="rId9" Type="http://schemas.openxmlformats.org/officeDocument/2006/relationships/hyperlink" Target="http://www.velti.com/" TargetMode="External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99cc00"/>
                </a:solidFill>
                <a:latin typeface="Arial"/>
              </a:rPr>
              <a:t>Το Συμβολικό Κεφάλαιο και η Επιστροφή του Τόπου ως κύριοι άξονες της Νέας Ελληνικής Αναπτυξιακής Στρατηγική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ήτρης Τσίγκ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όεδρ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– European Confederation of Young Entrepren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ράμ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Δεκεμβρίου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 Ελλάδα το 20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Βιώνουμε μια μεγάλη αντίφα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γεωοικονομία της χώρας, όπως και μια σειρά στρατηγικών παραμέτρων, είναι ευνοϊκότερες από ποτ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χρηματοοικονομική συγκυρία είναι εξαιρετικά δυσμενή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κατεστημένο, κρατικοδίαιτο οικονομικό μοντέλο ολοκληρώνει τον κύκλο τ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Έχουμε μπροστά μας μια μεγάλη ευκαιρία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Μια Εθνική Στρατηγική για την Ανάπτυξ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ραχυπρόθεσ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ιευκόλυνση της πρόσβασης σε κεφάλαιο ευκαιρίας – υψηλού ρίσκ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σοπρόθεσ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νίσχυση της δικτύωσης – πρόσβασης σε αγορές καθώς και μεταφορά τεχνογνωσίας από επιτυχημένα παραδείγ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ακροπρόθεσ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πτυξη της επιχειρηματικής κουλτούρας, απενεχοποίηση της επιχειρηματικότητ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 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πολύτως απαραίτητο για έναρξη δραστηριοτήτ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οναδική βραχυπρόθεσμα αποτελεσματική λύ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ήμερα είναι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μηδενικ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Η διαφορά του «λίγο» από το «καθόλου» είναι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άπειρ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λαδική Στρατηγικ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προσπάθειές μας πρέπει να επικεντρωθούν σε συγκεκριμένους τομείς για να υπάρξει αποτελεσματικότη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λιτισμός – τουρισμό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αστρονομία – αγροτική οικονομ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ψηλή τεχνολογ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νέργει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αφορέ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αιτείται το πολιτικό θάρρος για να τονιστεί ότι δεν είναι εφικτό, πολύ περισσότερο δεν είναι σωστό, να ενισχυθούν οριζόντια όλοι οι κλάδοι της οικονομ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Μαζική επιχειρηματικότη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επιχειρηματικότητα ως μια μαζική, καθολική επιλογή, ως η νέα λαϊκ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δυνατότητα του καθενός από εμάς να αλλάξει τη μοίρα του και να προσφέρει στους γύρω του πραγματώνοντας τη δημιουργικότητά τ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δυνατότητα αυτή ανήκει σε όλους, όχι σε λίγ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ίναι υποχρέωση του Κράτους να εξασφαλίζει τις ίσες ευκαιρίες κάθε νέου στην επιχειρηματικ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άνω απ’όλα χρειάζεται η ανάπτυξη της υπαίθρου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αδεικνύοντας το συμβολικό κεφάλαιο κάθε γωνιάς της πατρίδας μα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εριφερειακό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ι Περιφέρειες θα είναι η ηγέτιδες δυνάμεις της νέας αναπτυξιακής πορείας της Ελλάδ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ανάδειξη του τοπικού ανταγωνιστικού πλεονεκτήματος στην καρδιά της στρατηγική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 συμβολικό κεφάλαι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εξέλιξη της οικονομίας διεθνώς αυξάνει όλο και περισσότερο την αξία του «συμβολικού κεφαλαίο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πολιτισμός ως παράγοντας οικονομικής ανάπτυξης και ευημερ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ας διδάσκει ότι ο καταναλωτής αγοράζει κυρίως τον «μύθο» για το προϊόν, περισσότερο από το ίδιο το προϊό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Ευρώπη, πολύ περισσότερο από όλες τις χώρες της ΕΕ η Ελλάδα, έχει σημαντικότατο πλεονέκτημα στο συμβολικό της κεφάλα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πήλευση του ελληνικού συμβολικού κεφαλαίου από διεθνείς ομίλους, ακόμα και στην εγχώρια αγορ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άγκη για προστασία πνευματικών δικαιωμά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γάλες ευκαιρίες στην Ασ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Μακεδονί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ε όρους «Συμβολικού Κεφαλαίου» η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Μακεδονία είναι από τις πιο πλούσιες Περιφέρειες του πλανήτ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τί έχει διαιρεθεί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ι δύναμη έχει 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«Ανατολική Μακεδονία», «Κεντρική», «Δυτική», κλ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Η επιστροφή του Τόπο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«Τόπος» είναι μια νέα σημαντική παράμετρος για τη χάραξη αναπτυξιακής στρατηγικ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συμβολικό κεφάλαιο είναι άρρηκτα συνδεδεμένο με την έννοια του τόπ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ξαιρετικά παραδείγματα επιτυχίας σε χώρες όπως η Ιταλία, η Γαλλία και η Ισπανία – Ακόμα και τ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icon Val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marketing –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χι μόνο στον τουρισμ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Silcon Valey | Software, Γενεύη | Ρολόγια, Ντιζόν | Κρασί, Άργος | Πεπόνι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επιστροφή της Υπαίθρ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ύπαιθρος, ως χώρος βιώσιμης ανάπτυξης της αγροτικής οικονομίας, μπορεί να (ξανά) γίνει η ατμομηχανή της ελληνικής οικονομί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Η Ελλάδα μετά την κρίση: Ανασυνθέτοντας το εθνικό μας προϊό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κπαιδευτική στρατηγική για την επιχειρηματικότη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υ θα έπρεπε να είναι τα καλύτερα Πανεπιστημιακά τμήματα 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ιεθνώ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για τον τομέα της Ναυτιλία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τον τουρισμό &amp; τον πολιτισμ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την γαστρονομία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όσ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χουμε στην Ελλάδα σε Τουριστικ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όσο καλά θεραπεύεται πανεπιστημιακά ο Τουρισμός &amp; η Γαστρονομί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τί δεν υπάρχει σχετικό Τμήμα στο Πανεπιστήμιο Κρήτη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διάσταση του «Τόπου» πρέπει να καθοδηγήσει και την εκπαιδευτική στρατηγική μ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ι θέλουμε από το κρά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μην δημιουργεί εμπόδια στην επιχειρηματικ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προωθήσει την επιχειρηματικότητα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preneurship –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ντός των δομών &amp; των διαδικασιών τ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εξασφαλίζει τον υγιή ανταγωνισμ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χαράζει στρατηγική επιχειρηματικής ανάπτυξης βάσει των παραμέτρων της γεωοικονομ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ενισχύσει αποτελεσματικά την εξωστρέφεια της επιχειρηματικότητ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Η κουλτούρα της αποτυχία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ασικότατο ρόλο στην ανάπτυξη της επιχειρηματικότητας παίζει η «κουλτούρα της αποτυχία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έπει να είναι οικονομικά &amp; κοινωνικά αποδεκτό το αυτονόητ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ια προσπάθεια για κάτι μη – τετριμμένο πιο συχνά αποτυγχάνει και σπανιότερα επιτυγχάν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όδοση της επιτυχίας των λίγων υπερκαλύπτει το κόστος αποτυχίας των πολλ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αποτυχία είναι γνώση – Ο μόνος σίγουρος τρόπος να μην αποτύχεις είναι να μην προσπαθή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 δημιουργικότητα στην εκπαίδευ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ασική αιτία της χαμηλής επιχειρηματικότητας των νέων στην Ελλάδα είναι η άνθιση του φροντιστηρίου(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νέοι έχουν πολύ χαμηλή αυτοπεποίθησ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πτυξη προσέγγισης της «αρπαχτή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λατειακό πολιτικό σύστη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ό την ιδεολογία του «βολέματος» πρέπει να πάμε στην ιδεολογία της «δημιουργία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Να γίνουμε όλοι μάστορε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κονομική, κοινωνική και πολιτική καταξίωση της επιχειρηματικότητ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ι συμβαίνει σήμερα στον κόσμο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4928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378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78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up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ίμαστε μάρτυρες μιας πρωτόγνωρης ανάπτυξη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up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πιχειρήσε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ονόδρομος για την αντιμετώπιση της παγκόσμιας οικονομικής κρίση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γγύηση αποτροπής επανάληψής τ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την Ελλάδα τ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up Revolution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θα ξεκινήσει από την Περιφέρε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ιν ~ 40 χρόνι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Βασικό αίτημα της ελληνικής κοινωνίας τη δεκαετία του 1970 ήταν η ισότητα των ευκαιριών στη μόρφω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Ένα όραμα που εν τέλει πραγματώθηκε ως αποτέλεσμα μεγάλων κοινωνικών αγώνων &amp; ανατροπώ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Μπορούμε να τα καταφέρουμ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Η συνάντηση του Παραδοσιακού με το Σύγχρονο θα οδηγήσει στην άνοιξη της ελληνικής οικονομ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ναι απολύτως βέβαιο: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 Ελλάδα θα πρωταγωνιστήσε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αστρονομ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ιούσιος Οίνος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riousios.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υγοτάραχο Τρικαλινός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trikalinos.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αστίχα Χίου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astihasho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ρόκος Κοζάνης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krocuskozani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ψηλή τεχνολογ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Dynamics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eurody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o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globopl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stream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upstreamsystem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ti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velt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Σας ευχαριστώ πολύ </a:t>
            </a:r>
            <a:r>
              <a:rPr b="0" lang="el-G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νδιάμεσ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Ζήσαμε μια τεράστια στρέβλω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Το μορφωτικό άλμα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ε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οδήγησε σε αναπτυξιακό άλ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πικράτησε η αντίληψη ότι κάθε πτυχιούχος «πρέπει» να διοριστεί για να «εξασφαλιστεί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πό το δικαίωμα στη δημιουργία πήγαμε στο δικαίωμα στην τεμπελι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Σταθερές της Μεταπολίτευσ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Η ελληνική κοινωνία στην περίοδο που ονομάστηκε «Μεταπολίτευση» χαρακτηρίστηκε από δυο σταθερέ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Το αδιάβλητο των πανελληνίων εξετάσε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τη αδύνατο της απόλυσης δημοσίου υπαλλήλ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ο παραπάνω υποκρύπτει μια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ένοχη συναλλαγ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Υπόλογης για πολλά από τα σημερινά δεινά που αντιμετωπίζ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θύν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εν χωρά αμφιβολία ότ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όλε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οι κυβερνήσεις από το 1974 μέχρι σήμερα έχουν μεγάλη ευθύνη στην καλλιέργεια αυτής της αντίληψ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υρίως στη διάλυση της δημόσιας διοίκ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Στην επικράτηση τη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απαράδεκτη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άποψης ότι μια δημόσια επιχείρηση είναι αδύνατον να διοικηθεί σωστ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Είναι πράγματι αδύνατον εφόσον την αντιμετωπίσεις ως ρουσφετολογικό εργαλείο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Σήμε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Το αντίστοιχο αίτημα σήμερα με εκείνο του 1970 για την ισότητα ευκαιριών στη μόρφωση είναι αυτό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της ισότητας ευκαιριών στην επιχειρηματικότητ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πιχειρηματικότητα ως πραγμάτωση της δημιουργ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Όχι σαν αρπαχτή, σαν αισχροκέρδει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Η επιχειρηματικότητα στην Ελλάδ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ελληνική κοινωνία αποστρέφεται την επιχειρηματικ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ολύ καλά κάνε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υτό διότι στη χώρα μας η επιχειρηματικότητα είχε τα ακόλουθα χαρακτηριστ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ξικό &amp; κληρονομικό προνόμ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σέγγιση της «αρπαχτή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μπεριφορά «ιδιωτικο-δημοσίου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εηλασία του δημοσίου πλούτ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Είναι δείγμα πολιτικής υγείας η αποστροφή προς αυτήν την «επιχειρηματικότητα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ES European Confederation of Young Entrepreneur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3:19:42Z</dcterms:created>
  <dc:creator>VTRIP-M32</dc:creator>
  <dc:description/>
  <dc:language>en-US</dc:language>
  <cp:lastModifiedBy> </cp:lastModifiedBy>
  <dcterms:modified xsi:type="dcterms:W3CDTF">2011-12-05T13:00:41Z</dcterms:modified>
  <cp:revision>24</cp:revision>
  <dc:subject/>
  <dc:title>Jobs, growth and values. Creating opportunities  for new generations</dc:title>
</cp:coreProperties>
</file>