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FEE62-E4F6-4AFA-A32D-0C873454C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2FC4-594A-474F-A2B4-13471081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9C3F9-1A57-4A57-98D2-429AEDDE7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B9365-92D0-4CB2-9315-A2F40AF3E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9C18-15F2-41C0-A865-01E8A8E7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B919-6BD0-4E7C-BD94-441FD6AAA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1B86F-8389-4169-87B6-57B6044D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12C0-7091-42E9-9187-779627E6D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6436-5EDB-40EA-ADA6-021551D7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F178-2240-4F5A-89B0-3BBFC47F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71D8B-906A-4DD3-9E2B-4E092CFB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CDA1-0CEB-4D4B-88C0-09274750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60EC-2C23-4718-8954-6298D8D19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00"/>
                </a:solidFill>
                <a:latin typeface="Arial Black"/>
              </a:rPr>
              <a:t>ΠΡΟΤΑΣΕΙΣ ΓΙΑ ΜΙΑ ΟΛΟΚΛΗΡΩΜΕΝΗ ΣΤΡΑΤΗΓΙΚΗ ΓΙΑ ΤΗΝ ΠΕΡΙΦΕΡΕΙΑΚΗ ΚΑΙ ΑΓΡΟΤΙΚΗ ΑΝΑΠΤΥΞΗ</a:t>
            </a:r>
            <a:r>
              <a:rPr b="1" lang="en-US" sz="2000" spc="-1" strike="noStrike">
                <a:solidFill>
                  <a:srgbClr val="009900"/>
                </a:solidFill>
                <a:latin typeface="Arial Black"/>
              </a:rPr>
              <a:t> </a:t>
            </a:r>
            <a:r>
              <a:rPr b="1" lang="el-GR" sz="2000" spc="-1" strike="noStrike">
                <a:solidFill>
                  <a:srgbClr val="009900"/>
                </a:solidFill>
                <a:latin typeface="Arial Black"/>
              </a:rPr>
              <a:t>ΣΤΗΝ ΠΑΜΘ</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99"/>
                </a:solidFill>
                <a:latin typeface="Arial Black"/>
              </a:rPr>
              <a:t>ΔΑΜΙΑΝΟΣ ΣΤΑΘΑΚΗΣ</a:t>
            </a:r>
            <a:endParaRPr b="0" lang="en-US" sz="2400" spc="-1" strike="noStrike">
              <a:solidFill>
                <a:srgbClr val="000000"/>
              </a:solidFill>
              <a:latin typeface="Arial"/>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33399"/>
                </a:solidFill>
                <a:latin typeface="Arial Black"/>
              </a:rPr>
              <a:t>(</a:t>
            </a:r>
            <a:r>
              <a:rPr b="1" lang="en-US" sz="1400" spc="-1" strike="noStrike">
                <a:solidFill>
                  <a:srgbClr val="333399"/>
                </a:solidFill>
                <a:latin typeface="Arial Black"/>
              </a:rPr>
              <a:t>HND, </a:t>
            </a:r>
            <a:r>
              <a:rPr b="1" lang="el-GR" sz="1400" spc="-1" strike="noStrike">
                <a:solidFill>
                  <a:srgbClr val="333399"/>
                </a:solidFill>
                <a:latin typeface="Arial Black"/>
              </a:rPr>
              <a:t>ΜΑ</a:t>
            </a:r>
            <a:r>
              <a:rPr b="1" lang="en-US" sz="1400" spc="-1" strike="noStrike">
                <a:solidFill>
                  <a:srgbClr val="333399"/>
                </a:solidFill>
                <a:latin typeface="Arial Black"/>
              </a:rPr>
              <a:t>, MBA T.</a:t>
            </a:r>
            <a:r>
              <a:rPr b="1" lang="el-GR" sz="1400" spc="-1" strike="noStrike">
                <a:solidFill>
                  <a:srgbClr val="333399"/>
                </a:solidFill>
                <a:latin typeface="Arial Black"/>
              </a:rPr>
              <a:t>ΓΔ ΠΑΜΘ)</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CBD0225-91C0-4695-B591-A146A9F30A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Black"/>
              </a:rPr>
              <a:t>ΒΑΣΙΚΑ ΠΡΟΒΛΗΜΑΤΑ-ΑΝΤΙΚΙΝΗΤΡΑ ΠΟΥ ΕΧΟΥΝ ΕΝΤΟΠΙΣΤΕΙ ΚΑΙ ΕΙΝΑΙ ΕΦΙΚΤΗ Η ΕΠΙΛΥΣΗ ΤΟΥΣ ΣΕ ΜΕΣΟΠΡΟΘΕΣΜΗ ΒΑΣΗ (ΣΥΝΕΧΕΙΑ)</a:t>
            </a:r>
            <a:endParaRPr b="0" lang="en-US" sz="1600" spc="-1" strike="noStrike">
              <a:solidFill>
                <a:srgbClr val="000000"/>
              </a:solidFill>
              <a:latin typeface="Arial"/>
            </a:endParaRPr>
          </a:p>
        </p:txBody>
      </p:sp>
      <p:sp>
        <p:nvSpPr>
          <p:cNvPr id="60"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βάση τα προηγούμενα προβλήματα και ανεπάρκειες του αγροτικού τομέα,  που πλέον έχουν δομικό χαρακτήρα, απαιτούνται και ανάλογες προσεγγίσεις επίλυσης τους, δηλαδή  λύσεις ριζοσπαστικές, στρατηγικού χαρακτήρα, που σε γενικές γραμμές θα επιδιώκουν:</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ελτίωση του αγροτικού εισοδήματος μέσω βελτίωσης της μέσης τιμής των παραγόμενων και πωλούμενων προϊόντων με </a:t>
            </a:r>
            <a:r>
              <a:rPr b="1" lang="el-GR" sz="2000" spc="-1" strike="noStrike">
                <a:solidFill>
                  <a:srgbClr val="000000"/>
                </a:solidFill>
                <a:latin typeface="Arial"/>
              </a:rPr>
              <a:t>κλείσιμο της ψαλίδας τιμών παραγωγού και καταναλωτή.</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ύξηση της ποιοτικής παραγωγής και πα</a:t>
            </a:r>
            <a:r>
              <a:rPr b="0" lang="el-GR" sz="2000" spc="-1" strike="noStrike">
                <a:solidFill>
                  <a:srgbClr val="000000"/>
                </a:solidFill>
                <a:latin typeface="Arial"/>
              </a:rPr>
              <a:t>ραγωγικότητας  σε όλα τα αγροτικά προϊόντα της περιφέρειας. Η κουλτούρα της ποιότητας παντού πρέπει να γίνει σημαία για όλο τον αγροτικό κόσμο της περιφέρειας.</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ψηλότερες τιμές στον παραγωγό–είσπραξη υψηλότερου ποσοστού για νωπής κατανάλωσης προϊόντα από την τελική τιμή στην αγορά με καλύτερη οργάνωση του εμπορικού κυκλώματο</a:t>
            </a:r>
            <a:r>
              <a:rPr b="1" lang="el-GR" sz="2000" spc="-1" strike="noStrike">
                <a:solidFill>
                  <a:srgbClr val="000000"/>
                </a:solidFill>
                <a:latin typeface="Arial"/>
              </a:rPr>
              <a:t>ς μέσω παρεμβάσεων συνεργάτιδων δομών των αγροτών</a:t>
            </a:r>
            <a:r>
              <a:rPr b="0" lang="el-G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70AC669-107D-4550-A050-7CA18AB46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Black"/>
              </a:rPr>
              <a:t>ΒΑΣΙΚΑ ΠΡΟΒΛΗΜΑΤΑ-ΑΝΤΙΚΙΝΗΤΡΑ ΠΟΥ ΕΧΟΥΝ ΕΝΤΟΠΙΣΤΕΙ ΚΑΙ ΕΙΝΑΙ ΕΦΙΚΤΗ Η ΕΠΙΛΥΣΗ ΤΟΥΣ ΣΕ ΜΕΣΟΠΡΟΘΕΣΜΗ ΒΑΣΗ (ΣΥΝΕΧΕΙΑ)</a:t>
            </a:r>
            <a:endParaRPr b="0" lang="en-US" sz="1600" spc="-1" strike="noStrike">
              <a:solidFill>
                <a:srgbClr val="000000"/>
              </a:solidFill>
              <a:latin typeface="Arial"/>
            </a:endParaRPr>
          </a:p>
        </p:txBody>
      </p:sp>
      <p:sp>
        <p:nvSpPr>
          <p:cNvPr id="62" name="PlaceHolder 2"/>
          <p:cNvSpPr>
            <a:spLocks noGrp="1"/>
          </p:cNvSpPr>
          <p:nvPr>
            <p:ph/>
          </p:nvPr>
        </p:nvSpPr>
        <p:spPr>
          <a:xfrm>
            <a:off x="468360" y="169992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ιατήρηση και ενίσχυση των θέσεων εργασίας στον αγροτικό τομέα με </a:t>
            </a:r>
            <a:r>
              <a:rPr b="1" lang="el-GR" sz="2000" spc="-1" strike="noStrike">
                <a:solidFill>
                  <a:srgbClr val="000000"/>
                </a:solidFill>
                <a:latin typeface="Arial"/>
              </a:rPr>
              <a:t>είσοδο κυρίως νέων αγροτώ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δυασμός της πρωτογενούς παραγωγής με τη μεταποίηση κυρίως μέσω της </a:t>
            </a:r>
            <a:r>
              <a:rPr b="1" lang="el-GR" sz="2000" spc="-1" strike="noStrike">
                <a:solidFill>
                  <a:srgbClr val="000000"/>
                </a:solidFill>
                <a:latin typeface="Arial"/>
              </a:rPr>
              <a:t>συμβολαιακης γεωργίας</a:t>
            </a:r>
            <a:r>
              <a:rPr b="0" lang="el-GR" sz="2000" spc="-1" strike="noStrike">
                <a:solidFill>
                  <a:srgbClr val="000000"/>
                </a:solidFill>
                <a:latin typeface="Arial"/>
              </a:rPr>
              <a:t>, αλλά και άλλων μορφών δικτυώσεων και συνεργασιών. Οι αγροτικοί συνεταιρισμοί, οι ομάδες παραγωγών, τα σύμφωνα ποιότητας, και τα δίκτυα πρέπει να παίξουν στρατηγικό ρόλο στην απογείωση της γεωργία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νίσχυση εξαγωγών</a:t>
            </a:r>
            <a:r>
              <a:rPr b="0" lang="el-GR" sz="2000" spc="-1" strike="noStrike">
                <a:solidFill>
                  <a:srgbClr val="000000"/>
                </a:solidFill>
                <a:latin typeface="Arial"/>
              </a:rPr>
              <a:t> με αποτελεσματικά εργαλεία δικτυώσεων- συνεργασιών, διεργασιών της παραγωγής μετά το χωράφι και  έξυπνες στρατηγικές εξαγωγικού μάρκετινγκ για διεύρυνση των αγορών.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ελτίωση και</a:t>
            </a:r>
            <a:r>
              <a:rPr b="1" lang="el-GR" sz="2000" spc="-1" strike="noStrike">
                <a:solidFill>
                  <a:srgbClr val="000000"/>
                </a:solidFill>
                <a:latin typeface="Arial"/>
              </a:rPr>
              <a:t> σταθεροποίηση της παραγωγής και τροφοδοσίας των αγορών</a:t>
            </a:r>
            <a:r>
              <a:rPr b="0" lang="el-GR" sz="2000" spc="-1" strike="noStrike">
                <a:solidFill>
                  <a:srgbClr val="000000"/>
                </a:solidFill>
                <a:latin typeface="Arial"/>
              </a:rPr>
              <a:t>  με προϊόντα  ποιότητας για να υπάρξει ενδιαφέρον από διεθνή εμπορικά δίκτυα και αλυσίδε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D693966-5DF5-4D6C-9E29-E089E1EDF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Black"/>
              </a:rPr>
              <a:t>ΒΑΣΙΚΑ ΠΡΟΒΛΗΜΑΤΑ-ΑΝΤΙΚΙΝΗΤΡΑ ΠΟΥ ΕΧΟΥΝ ΕΝΤΟΠΙΣΤΕΙ ΚΑΙ ΕΙΝΑΙ ΕΦΙΚΤΗ Η ΕΠΙΛΥΣΗ ΤΟΥΣ ΣΕ ΜΕΣΟΠΡΟΘΕΣΜΗ ΒΑΣΗ (ΣΥΝΕΧΕΙΑ</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οστασία του περιβάλλοντος – αειφορική διαχείριση των φυσικών πόρων, υδάτινοι πόροι, δάση, αλιευτικοί πόροι και γεωθερμικά  πεδία.</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ξιοποίηση των </a:t>
            </a:r>
            <a:r>
              <a:rPr b="1" lang="el-GR" sz="2000" spc="-1" strike="noStrike">
                <a:solidFill>
                  <a:srgbClr val="000000"/>
                </a:solidFill>
                <a:latin typeface="Arial"/>
              </a:rPr>
              <a:t>γεωγραφικών πλεονεκτημάτων θέσης</a:t>
            </a:r>
            <a:r>
              <a:rPr b="0" lang="el-GR" sz="2000" spc="-1" strike="noStrike">
                <a:solidFill>
                  <a:srgbClr val="000000"/>
                </a:solidFill>
                <a:latin typeface="Arial"/>
              </a:rPr>
              <a:t>- Εγνατίας Οδού και των κάθετων αξόνων της- για διεύρυνση των αγορών μέσω μείωσης του κόστους μεταφοράς και διανομών λόγω της μεγάλης ποσοστιαίας συμμετοχής του στη διακίνηση αγροτικών προϊόντων-και κλιματικών πλεονεκτημάτων της-ποικίλα μικροκλίματα-για διαφοροποιημένη παραγωγή.</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νεργοποίηση των πανεπιστημιακών και ερευνητικών δομών της περιφέρειας μας για </a:t>
            </a:r>
            <a:r>
              <a:rPr b="1" lang="el-GR" sz="2000" spc="-1" strike="noStrike">
                <a:solidFill>
                  <a:srgbClr val="000000"/>
                </a:solidFill>
                <a:latin typeface="Arial"/>
              </a:rPr>
              <a:t>συνδυαστικές και καινοτόμες ενέργειες</a:t>
            </a:r>
            <a:r>
              <a:rPr b="0" lang="el-GR" sz="2000" spc="-1" strike="noStrike">
                <a:solidFill>
                  <a:srgbClr val="000000"/>
                </a:solidFill>
                <a:latin typeface="Arial"/>
              </a:rPr>
              <a:t> για την γεωργία και ανάπτυξη ανάλογων ερευνητικών πεδίων ώστε να μπορέσουμε να γίνουμε ένα μικρό κέντρο αγροτικής έρευνας και καινοτομίας- της Ν.Α Ευρώπη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AD3A56-51A5-4DAA-B25F-F8CE4C861D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ΑΞΙΟΛΟΓΗΣΗ ΚΑΙ ΙΕΡΑΡΧΗΣΗ ΤΩΝ ΒΑΣΙΚΩΝ ΠΑΡΑΓΟΝΤΩΝ ΚΑΙ ΠΑΡΑΜΕΤΡΩΝ ΑΝΑΠΤΥΞΗΣ ΠΟΥ ΠΗΓΑΖΟΥΝ ΑΠΟ ΤΗ ΣΗΜΕΡΙΝΗ ΚΑΤΑΣΤΑΣΗ</a:t>
            </a:r>
            <a:endParaRPr b="0" lang="en-US" sz="2400" spc="-1" strike="noStrike">
              <a:solidFill>
                <a:srgbClr val="000000"/>
              </a:solidFill>
              <a:latin typeface="Arial"/>
            </a:endParaRPr>
          </a:p>
        </p:txBody>
      </p:sp>
      <p:sp>
        <p:nvSpPr>
          <p:cNvPr id="66" name="PlaceHolder 2"/>
          <p:cNvSpPr>
            <a:spLocks noGrp="1"/>
          </p:cNvSpPr>
          <p:nvPr>
            <p:ph/>
          </p:nvPr>
        </p:nvSpPr>
        <p:spPr>
          <a:xfrm>
            <a:off x="457200" y="2565360"/>
            <a:ext cx="8229600" cy="25192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Με βάση τη προηγούμενη ανάλυση της παρούσας κατάστασης προκύπτει ότι οι παράγοντες και παράμετροι</a:t>
            </a:r>
            <a:r>
              <a:rPr b="1" lang="en-US" sz="2000" spc="-1" strike="noStrike">
                <a:solidFill>
                  <a:srgbClr val="333399"/>
                </a:solidFill>
                <a:latin typeface="Arial Black"/>
              </a:rPr>
              <a:t> </a:t>
            </a:r>
            <a:r>
              <a:rPr b="0" lang="en-US" sz="2000" spc="-1" strike="noStrike">
                <a:solidFill>
                  <a:srgbClr val="333399"/>
                </a:solidFill>
                <a:latin typeface="Arial Black"/>
              </a:rPr>
              <a:t>που επηρεάζουν την ανταγωνιστικότητα του τομέα, το περιβάλλον εξέλιξης του και την προσαρμογή του στις παγκοσμιοποιημενες συνθήκες της αγοράς και κατά συνέπεια με το κοινωνικοοικονομικό επίπεδο των αγροτών, </a:t>
            </a:r>
            <a:r>
              <a:rPr b="0" lang="en-US" sz="2000" spc="-1" strike="noStrike">
                <a:solidFill>
                  <a:srgbClr val="ff0000"/>
                </a:solidFill>
                <a:latin typeface="Arial Black"/>
              </a:rPr>
              <a:t>συνδέονται</a:t>
            </a:r>
            <a:r>
              <a:rPr b="0" lang="en-US" sz="2000" spc="-1" strike="noStrike">
                <a:solidFill>
                  <a:srgbClr val="333399"/>
                </a:solidFill>
                <a:latin typeface="Arial Black"/>
              </a:rPr>
              <a:t> σε σειρά σπουδαιότητας μ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7B3C694-8015-4728-BC71-BEE2EA5AD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9900"/>
                </a:solidFill>
                <a:latin typeface="Arial Narrow"/>
              </a:rPr>
              <a:t>ΑΞΙΟΛΟΓΗΣΗ ΚΑΙ ΙΕΡΑΡΧΗΣΗ ΤΩΝ ΒΑΣΙΚΩΝ ΠΑΡΑΓΟΝΤΩΝ ΚΑΙ ΠΑΡΑΜΕΤΡΩΝ ΑΝΑΠΤΥΞΗΣ ΠΟΥ ΠΗΓΑΖΟΥΝ ΑΠΟ ΤΗ ΣΗΜΕΡΙΝΗ ΚΑΤΑΣΤΑΣΗ</a:t>
            </a:r>
            <a:r>
              <a:rPr b="1" lang="en-US" sz="1600" spc="-1" strike="noStrike">
                <a:solidFill>
                  <a:srgbClr val="009900"/>
                </a:solidFill>
                <a:latin typeface="Arial Narrow"/>
              </a:rPr>
              <a:t> (</a:t>
            </a:r>
            <a:r>
              <a:rPr b="1" lang="el-GR" sz="1600" spc="-1" strike="noStrike">
                <a:solidFill>
                  <a:srgbClr val="009900"/>
                </a:solidFill>
                <a:latin typeface="Arial Narrow"/>
              </a:rPr>
              <a:t>ΣΥΝΕΧΕΙΑ</a:t>
            </a:r>
            <a:r>
              <a:rPr b="1" lang="el-GR" sz="1800" spc="-1" strike="noStrike">
                <a:solidFill>
                  <a:srgbClr val="009900"/>
                </a:solidFill>
                <a:latin typeface="Arial"/>
              </a:rPr>
              <a:t>)</a:t>
            </a:r>
            <a:endParaRPr b="0" lang="en-US" sz="1800" spc="-1" strike="noStrike">
              <a:solidFill>
                <a:srgbClr val="000000"/>
              </a:solidFill>
              <a:latin typeface="Arial"/>
            </a:endParaRPr>
          </a:p>
        </p:txBody>
      </p:sp>
      <p:sp>
        <p:nvSpPr>
          <p:cNvPr id="68"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ις </a:t>
            </a:r>
            <a:r>
              <a:rPr b="1" lang="el-GR" sz="2000" spc="-1" strike="noStrike">
                <a:solidFill>
                  <a:srgbClr val="ff0000"/>
                </a:solidFill>
                <a:latin typeface="Arial"/>
              </a:rPr>
              <a:t>υποδομές μετά τη παραγωγή</a:t>
            </a:r>
            <a:r>
              <a:rPr b="0" lang="el-GR" sz="2000" spc="-1" strike="noStrike">
                <a:solidFill>
                  <a:srgbClr val="000000"/>
                </a:solidFill>
                <a:latin typeface="Arial"/>
              </a:rPr>
              <a:t> και συγκομιδή ήτοι, διαλογής, τυποποίησης, συσκευασίας, μεταποίησης και  εμπορίας </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η </a:t>
            </a:r>
            <a:r>
              <a:rPr b="1" lang="el-GR" sz="2000" spc="-1" strike="noStrike">
                <a:solidFill>
                  <a:srgbClr val="ff0000"/>
                </a:solidFill>
                <a:latin typeface="Arial"/>
              </a:rPr>
              <a:t>διοικητική,  επιστημονική και τεχνική στήριξη</a:t>
            </a:r>
            <a:r>
              <a:rPr b="0" lang="el-GR" sz="2000" spc="-1" strike="noStrike">
                <a:solidFill>
                  <a:srgbClr val="000000"/>
                </a:solidFill>
                <a:latin typeface="Arial"/>
              </a:rPr>
              <a:t> του τομέα από τις σχετικές υπηρεσίες.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ις </a:t>
            </a:r>
            <a:r>
              <a:rPr b="1" lang="el-GR" sz="2000" spc="-1" strike="noStrike">
                <a:solidFill>
                  <a:srgbClr val="ff0000"/>
                </a:solidFill>
                <a:latin typeface="Arial"/>
              </a:rPr>
              <a:t>συνεργατικές δομές των</a:t>
            </a:r>
            <a:r>
              <a:rPr b="1" lang="el-GR" sz="2000" spc="-1" strike="noStrike">
                <a:solidFill>
                  <a:srgbClr val="000000"/>
                </a:solidFill>
                <a:latin typeface="Arial"/>
              </a:rPr>
              <a:t> α</a:t>
            </a:r>
            <a:r>
              <a:rPr b="0" lang="el-GR" sz="2000" spc="-1" strike="noStrike">
                <a:solidFill>
                  <a:srgbClr val="000000"/>
                </a:solidFill>
                <a:latin typeface="Arial"/>
              </a:rPr>
              <a:t>γροτών όπως, συνεταιρισμοί, ομάδες παραγωγών, δίκτυα,</a:t>
            </a:r>
            <a:r>
              <a:rPr b="0" lang="en-US" sz="2000" spc="-1" strike="noStrike">
                <a:solidFill>
                  <a:srgbClr val="000000"/>
                </a:solidFill>
                <a:latin typeface="Arial"/>
              </a:rPr>
              <a:t>clusters</a:t>
            </a:r>
            <a:r>
              <a:rPr b="0" lang="el-GR" sz="2000" spc="-1" strike="noStrike">
                <a:solidFill>
                  <a:srgbClr val="000000"/>
                </a:solidFill>
                <a:latin typeface="Arial"/>
              </a:rPr>
              <a:t>, κλπ. </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η </a:t>
            </a:r>
            <a:r>
              <a:rPr b="1" lang="el-GR" sz="2000" spc="-1" strike="noStrike">
                <a:solidFill>
                  <a:srgbClr val="ff0000"/>
                </a:solidFill>
                <a:latin typeface="Arial"/>
              </a:rPr>
              <a:t>ποιότητα του ανθρώπινου δυναμικού</a:t>
            </a:r>
            <a:r>
              <a:rPr b="0" lang="el-GR" sz="2000" spc="-1" strike="noStrike">
                <a:solidFill>
                  <a:srgbClr val="ff0000"/>
                </a:solidFill>
                <a:latin typeface="Arial"/>
              </a:rPr>
              <a:t>,</a:t>
            </a:r>
            <a:r>
              <a:rPr b="0" lang="el-GR" sz="2000" spc="-1" strike="noStrike">
                <a:solidFill>
                  <a:srgbClr val="000000"/>
                </a:solidFill>
                <a:latin typeface="Arial"/>
              </a:rPr>
              <a:t> την ηλικιακή του σύνθεση, την εξειδίκευση και  κατάρτιση του, κλπ.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μέγεθος και τη διάρθρωση των γεωργικών εκμεταλλεύσεων (εγγειοδιαρθρωτικό). </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ις </a:t>
            </a:r>
            <a:r>
              <a:rPr b="1" lang="el-GR" sz="2000" spc="-1" strike="noStrike">
                <a:solidFill>
                  <a:srgbClr val="ff0000"/>
                </a:solidFill>
                <a:latin typeface="Arial"/>
              </a:rPr>
              <a:t>υποδομές άρδευσης</a:t>
            </a:r>
            <a:r>
              <a:rPr b="0" lang="el-GR" sz="2000" spc="-1" strike="noStrike">
                <a:solidFill>
                  <a:srgbClr val="000000"/>
                </a:solidFill>
                <a:latin typeface="Arial"/>
              </a:rPr>
              <a:t> για κοστολογικά ανταγωνιστική και διευρυμένη παραγωγή. </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α </a:t>
            </a:r>
            <a:r>
              <a:rPr b="1" lang="el-GR" sz="2000" spc="-1" strike="noStrike">
                <a:solidFill>
                  <a:srgbClr val="ff0000"/>
                </a:solidFill>
                <a:latin typeface="Arial"/>
              </a:rPr>
              <a:t>περιβαλλοντικά προβλήματα</a:t>
            </a:r>
            <a:r>
              <a:rPr b="0" lang="el-GR" sz="2000" spc="-1" strike="noStrike">
                <a:solidFill>
                  <a:srgbClr val="000000"/>
                </a:solidFill>
                <a:latin typeface="Arial"/>
              </a:rPr>
              <a:t> σχετιζομενα, ενεργητικά η παθητικά, με την ανάπτυξη δραστηριοτήτων, όπως πχ από τα </a:t>
            </a:r>
            <a:r>
              <a:rPr b="0" lang="en-US" sz="2000" spc="-1" strike="noStrike">
                <a:solidFill>
                  <a:srgbClr val="000000"/>
                </a:solidFill>
                <a:latin typeface="Arial"/>
              </a:rPr>
              <a:t>Natura</a:t>
            </a:r>
            <a:r>
              <a:rPr b="0" lang="el-GR" sz="2000" spc="-1" strike="noStrike">
                <a:solidFill>
                  <a:srgbClr val="000000"/>
                </a:solidFill>
                <a:latin typeface="Arial"/>
              </a:rPr>
              <a:t> και </a:t>
            </a:r>
            <a:r>
              <a:rPr b="0" lang="en-US" sz="2000" spc="-1" strike="noStrike">
                <a:solidFill>
                  <a:srgbClr val="000000"/>
                </a:solidFill>
                <a:latin typeface="Arial"/>
              </a:rPr>
              <a:t>Ramsar</a:t>
            </a:r>
            <a:r>
              <a:rPr b="0" lang="el-GR"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ην </a:t>
            </a:r>
            <a:r>
              <a:rPr b="1" lang="el-GR" sz="2000" spc="-1" strike="noStrike">
                <a:solidFill>
                  <a:srgbClr val="ff0000"/>
                </a:solidFill>
                <a:latin typeface="Arial"/>
              </a:rPr>
              <a:t>καινοτόμα αγροτική επιχειρηματικότητα</a:t>
            </a:r>
            <a:r>
              <a:rPr b="0" lang="el-GR" sz="2000" spc="-1" strike="noStrike">
                <a:solidFill>
                  <a:srgbClr val="000000"/>
                </a:solidFill>
                <a:latin typeface="Arial"/>
              </a:rPr>
              <a:t> σε κλάδους υψηλών δυνατοτήτων.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064DD6-CE35-4265-97E3-C52631455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Black"/>
              </a:rPr>
              <a:t>ΟΙ 4 ΒΑΣΙΚΟΙ ΣΤΡΑΤΗΓΙΚΟΙ ΣΤΟΧΟΙ ΑΝΑΠΤΥΞΗ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Η βελτίωση της συνολικής  ανταγωνιστικότητας</a:t>
            </a:r>
            <a:r>
              <a:rPr b="1" lang="en-US" sz="2000" spc="-1" strike="noStrike">
                <a:solidFill>
                  <a:srgbClr val="000000"/>
                </a:solidFill>
                <a:latin typeface="Arial"/>
              </a:rPr>
              <a:t> </a:t>
            </a:r>
            <a:r>
              <a:rPr b="0" lang="en-US" sz="2000" spc="-1" strike="noStrike">
                <a:solidFill>
                  <a:srgbClr val="000000"/>
                </a:solidFill>
                <a:latin typeface="Arial"/>
              </a:rPr>
              <a:t>του τομέα τουλάχιστον κατά 15%,  ποσοτική, ποιοτική, τεχνολογική,  τεχνογνωσιακή και κοστολογική.</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Η διεύρυνση της γκάμας των παραγόμενων αγροδιατροφικών προϊόντων με εξαγωγικό προσανατολισμό</a:t>
            </a:r>
            <a:r>
              <a:rPr b="0" lang="en-US" sz="2000" spc="-1" strike="noStrike">
                <a:solidFill>
                  <a:srgbClr val="000000"/>
                </a:solidFill>
                <a:latin typeface="Arial"/>
              </a:rPr>
              <a:t> και γενικά με προσανατολισμό τις αγορές, όχι τις επιδοτήσεις. Η εξαγομένη ακαθάριστη αξία παραγωγής σε ποσοτική και χρηματική βάση πρέπει να υπερδιπλασιασθεί των σημερινών επιπέδων.</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Η προστασία του περιβάλλοντος</a:t>
            </a:r>
            <a:r>
              <a:rPr b="0" lang="en-US" sz="2000" spc="-1" strike="noStrike">
                <a:solidFill>
                  <a:srgbClr val="000000"/>
                </a:solidFill>
                <a:latin typeface="Arial"/>
              </a:rPr>
              <a:t> που αναπτύσσεται και επηρεάζει η αγροτική δραστηριότητα, δηλαδή η αειφορική κατεύθυνση της.</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αντιμετώπιση των </a:t>
            </a:r>
            <a:r>
              <a:rPr b="0" lang="en-US" sz="2000" spc="-1" strike="noStrike">
                <a:solidFill>
                  <a:srgbClr val="ff0000"/>
                </a:solidFill>
                <a:latin typeface="Arial"/>
              </a:rPr>
              <a:t>προβλημάτων που συνεπάγεται η νέα ΚΑΠ</a:t>
            </a:r>
            <a:r>
              <a:rPr b="0" lang="en-US" sz="2000" spc="-1" strike="noStrike">
                <a:solidFill>
                  <a:srgbClr val="000000"/>
                </a:solidFill>
                <a:latin typeface="Arial"/>
              </a:rPr>
              <a:t> και προσαρμογή σ’αυτή.</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1FCD792-377A-4EB5-ABEA-C12B125665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ΕΠΙΧΕΙΡΗΣΙΑΚΗ ΚΑΙ ΘΕΜΑΤΙΚΗ ΠΡΟΣΕΓΓΙΣΗ ΤΗΣ ΑΝΑΠΤΥΞΗ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Α. Για τη βελτίωση της μικρής και πολυτεμαχισμένης εκμετάλλευσης</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Έως τώρα έγιναν αναδασμοί σε </a:t>
            </a:r>
            <a:r>
              <a:rPr b="1" lang="en-US" sz="2000" spc="-1" strike="noStrike">
                <a:solidFill>
                  <a:srgbClr val="000000"/>
                </a:solidFill>
                <a:latin typeface="Arial"/>
              </a:rPr>
              <a:t>22 αγροκτήματα και καλύπτουν έκταση 190.000 στρ.</a:t>
            </a:r>
            <a:r>
              <a:rPr b="0" lang="en-US" sz="2000" spc="-1" strike="noStrike">
                <a:solidFill>
                  <a:srgbClr val="000000"/>
                </a:solidFill>
                <a:latin typeface="Arial"/>
              </a:rPr>
              <a:t> Είναι προφανές ότι θα πρέπει να επεκταθεί άμεσα η διαδικασία του αναδασμού τουλάχιστον σε μια έκταση </a:t>
            </a:r>
            <a:r>
              <a:rPr b="1" lang="en-US" sz="2000" spc="-1" strike="noStrike">
                <a:solidFill>
                  <a:srgbClr val="000000"/>
                </a:solidFill>
                <a:latin typeface="Arial"/>
              </a:rPr>
              <a:t>200.000 στρ για την οποία απαιτείτε δαπάνη ύψους περίπου 30.000.000 €.</a:t>
            </a:r>
            <a:r>
              <a:rPr b="0" lang="en-US" sz="2000" spc="-1" strike="noStrike">
                <a:solidFill>
                  <a:srgbClr val="000000"/>
                </a:solidFill>
                <a:latin typeface="Arial"/>
              </a:rPr>
              <a:t> Όμως  στα πλαίσια του προγράμματος ΓΕΩΡΓΙΑ της 4ης προγραμματικής περιόδου υπάρχει πρόβλεψη για αναδασμούς σ’ολη τη χώρα ποσού μόνο 35.000.000 € που καλύπτει περίπου 250.000 στρεμ. Φαίνεται ότι θα είναι δύσκολο η περιφέρεια μας να εξασφαλίσει το 90% της συνολικής πίστωσης</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BA6CB8-035C-4709-9A00-16598CEA47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ΕΠΙΧΕΙΡΗΣΙΑΚΗ ΚΑΙ ΘΕΜΑΤΙΚΗ ΠΡΟΣΕΓΓΙΣΗ ΤΗΣ ΑΝΑΠΤΥΞΗΣ</a:t>
            </a:r>
            <a:endParaRPr b="0" lang="en-US" sz="1800" spc="-1" strike="noStrike">
              <a:solidFill>
                <a:srgbClr val="000000"/>
              </a:solidFill>
              <a:latin typeface="Arial"/>
            </a:endParaRPr>
          </a:p>
        </p:txBody>
      </p:sp>
      <p:sp>
        <p:nvSpPr>
          <p:cNvPr id="74"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Β. Για την αύξηση των αρδεύσιμων εκτάσεων με καλής ποιότητας και φθηνό νερό</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ήμερα  υπάρχει σοβαρό πρόβλημα στις αρδεύσεις όχι μόνο λόγω υψηλού κόστους χρήσης νερού αλλά και λόγω έντονων προβλημάτων υφαλμύρωσης σε όλες τις παράκτιες περιοχές λόγω υπεράντλησης του υπόγειου υδροφόρου ορίζοντα. Επομένως η λύση είναι η κατασκευή </a:t>
            </a:r>
            <a:r>
              <a:rPr b="1" lang="en-US" sz="2400" spc="-1" strike="noStrike">
                <a:solidFill>
                  <a:srgbClr val="000000"/>
                </a:solidFill>
                <a:latin typeface="Arial"/>
              </a:rPr>
              <a:t>φραγμάτων και ταμιευτήρων</a:t>
            </a:r>
            <a:r>
              <a:rPr b="0" lang="en-US" sz="2400" spc="-1" strike="noStrike">
                <a:solidFill>
                  <a:srgbClr val="000000"/>
                </a:solidFill>
                <a:latin typeface="Arial"/>
              </a:rPr>
              <a:t> που εξασφαλίζουν μεγάλες ποσότητες καλής ποιότητας και φθηνού νερού. Έτσι θα αρδεύονται επιπλέον  </a:t>
            </a:r>
            <a:r>
              <a:rPr b="1" lang="en-US" sz="2400" spc="-1" strike="noStrike">
                <a:solidFill>
                  <a:srgbClr val="000000"/>
                </a:solidFill>
                <a:latin typeface="Arial"/>
              </a:rPr>
              <a:t>250.000 στρ με 60%</a:t>
            </a:r>
            <a:r>
              <a:rPr b="0" lang="en-US" sz="2400" spc="-1" strike="noStrike">
                <a:solidFill>
                  <a:srgbClr val="000000"/>
                </a:solidFill>
                <a:latin typeface="Arial"/>
              </a:rPr>
              <a:t> χαμηλότερο κόστος άρδευσης. Σε επίπεδο ΠΕ οι προτάσεις είναι:</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106AD65-DD1A-4967-BA4D-256DED6E8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ΕΝΔΕΙΚΤΙΚΕΣ ΠΡΟΤΑΣΕΙΣ ΓΙΑ ΤΗ ΠΕ ΔΡΑΜΑΣ ΌΠΩΣ ΔΙΑΤΥΠΩΘΗΚΑΝ ΑΠΌ ΤΙΣ ΥΠΗΡΕΣΙΕΣ ΤΗΣ</a:t>
            </a:r>
            <a:endParaRPr b="0" lang="en-US" sz="2000" spc="-1" strike="noStrike">
              <a:solidFill>
                <a:srgbClr val="000000"/>
              </a:solidFill>
              <a:latin typeface="Arial"/>
            </a:endParaRPr>
          </a:p>
        </p:txBody>
      </p:sp>
      <p:sp>
        <p:nvSpPr>
          <p:cNvPr id="76"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πίσπευση ολοκλήρωσης μελέτης και κατασκευής αντιπλημμυρικού φράγματος </a:t>
            </a:r>
            <a:r>
              <a:rPr b="1" lang="en-US" sz="2400" spc="-1" strike="noStrike">
                <a:solidFill>
                  <a:srgbClr val="000000"/>
                </a:solidFill>
                <a:latin typeface="Arial"/>
              </a:rPr>
              <a:t>Κάτω Βροντούς</a:t>
            </a:r>
            <a:r>
              <a:rPr b="0" lang="en-US" sz="2400" spc="-1" strike="noStrike">
                <a:solidFill>
                  <a:srgbClr val="000000"/>
                </a:solidFill>
                <a:latin typeface="Arial"/>
              </a:rPr>
              <a:t> στη θέση Καρβουνόρεμα του Δήμου Νευροκοπίου για την αντιπλημμυρική προστασία και άρδευση </a:t>
            </a:r>
            <a:r>
              <a:rPr b="1" lang="en-US" sz="2400" spc="-1" strike="noStrike">
                <a:solidFill>
                  <a:srgbClr val="000000"/>
                </a:solidFill>
                <a:latin typeface="Arial"/>
              </a:rPr>
              <a:t>5.000 στρ</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κτέλεση αναδασμών  και κατασκευή  παράλληλων υδραυλικών έργων για την εξυπηρέτηση </a:t>
            </a:r>
            <a:r>
              <a:rPr b="1" lang="en-US" sz="2400" spc="-1" strike="noStrike">
                <a:solidFill>
                  <a:srgbClr val="000000"/>
                </a:solidFill>
                <a:latin typeface="Arial"/>
              </a:rPr>
              <a:t>123.000 στρ</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ατασκευή παράλληλων υδραυλικών έργων αγροκτήματος Νευροκοπίου για την εξυπηρέτηση </a:t>
            </a:r>
            <a:r>
              <a:rPr b="1" lang="en-US" sz="2400" spc="-1" strike="noStrike">
                <a:solidFill>
                  <a:srgbClr val="000000"/>
                </a:solidFill>
                <a:latin typeface="Arial"/>
              </a:rPr>
              <a:t>60.000 στρ</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νακατασκευή σημερινών αρδευτικών δικτύων τα οποία λόγω παλαιότητας έχουν φθορές και απώλειες αρδευτικού νερού</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83385C5-8E09-4A01-8C4E-A72CE48B0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Black"/>
              </a:rPr>
              <a:t>Αναδιάρθρωση των καλλιεργει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4960" indent="-264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ίναι το δυσκολότερο έργο, διότι σχετίζεται με πολλούς παράγοντες, όπως, ποιότητα αγρών, δυνατότητα άρδευσης, κλίμα, συνθήκες ανταγωνισμού και ανταγωνιστικότητας των παραγομένων προϊόντων, κλπ. Επομένως απαιτεί καλά σχεδιασμένες στρατηγικές και πολιτικές και στενές συνεργασίες και  δικτυώσεις των γεωργών με μεταποιητές, εμπόρους και αλυσίδες Σ/Μ για  τη σύναψη μακροχρόνιων στρατηγικών συνεργασιών, και  για εξασφάλιση οικονομιών κλίμακας  σε όλη την αλυσίδα παραγωγής και διάθεσης και  για αυξημένη διαπραγματευτική δύναμη έναντι των εμπόρων.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970109C-78AF-41CA-BF56-F6E080FB55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ΓΕΝΙΚΗ ΣΤΡΑΤΗΓΙΚΗ ΠΡΟΣΕΓΓΙΣΗ---- ΠΡΙΝ ΤΗΝ ΚΥΡΙΑ ΕΙΣΗΓΗΣΗ ΜΑΣ</a:t>
            </a:r>
            <a:endParaRPr b="0" lang="en-US" sz="2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1.ΧΡΕΙΑΖΟΜΑΣΤΕ ΈΝΑ ΝΕΟ ΑΝΑΠΤΥΞΙΑΚΟ ΠΡΟΤΥΠΟ ΣΤΗΡΙΓΜΕΝΟ ΣΤΟΥΣ </a:t>
            </a:r>
            <a:r>
              <a:rPr b="1" lang="el-GR" sz="1400" spc="-1" strike="noStrike">
                <a:solidFill>
                  <a:srgbClr val="000000"/>
                </a:solidFill>
                <a:latin typeface="Arial Black"/>
              </a:rPr>
              <a:t>ΠΟΡΟΥΣ</a:t>
            </a:r>
            <a:r>
              <a:rPr b="1" lang="el-GR" sz="1400" spc="-1" strike="noStrike">
                <a:solidFill>
                  <a:srgbClr val="000000"/>
                </a:solidFill>
                <a:latin typeface="Arial"/>
              </a:rPr>
              <a:t>, </a:t>
            </a:r>
            <a:r>
              <a:rPr b="1" lang="el-GR" sz="1400" spc="-1" strike="noStrike" u="sng">
                <a:solidFill>
                  <a:srgbClr val="009900"/>
                </a:solidFill>
                <a:uFillTx/>
                <a:latin typeface="Arial"/>
              </a:rPr>
              <a:t>ΓΝΩΣΗ, ΑΝΘΡΩΠΟΣ, ΠΑΡΑΓΩΓΙΚΑ ΣΥΜΠΛΕΓΜΑΤΑ</a:t>
            </a:r>
            <a:r>
              <a:rPr b="1" lang="el-GR" sz="1400" spc="-1" strike="noStrike">
                <a:solidFill>
                  <a:srgbClr val="000000"/>
                </a:solidFill>
                <a:latin typeface="Arial"/>
              </a:rPr>
              <a:t>, ΑΠΌ ΤΟ </a:t>
            </a:r>
            <a:r>
              <a:rPr b="1" lang="el-GR" sz="1400" spc="-1" strike="noStrike">
                <a:solidFill>
                  <a:srgbClr val="000000"/>
                </a:solidFill>
                <a:latin typeface="Arial Black"/>
              </a:rPr>
              <a:t>ΠΡΟΤΥΠΟ</a:t>
            </a:r>
            <a:r>
              <a:rPr b="1" lang="en-US" sz="1400" spc="-1" strike="noStrike">
                <a:solidFill>
                  <a:srgbClr val="000000"/>
                </a:solidFill>
                <a:latin typeface="Arial Black"/>
              </a:rPr>
              <a:t> </a:t>
            </a:r>
            <a:r>
              <a:rPr b="1" lang="el-GR" sz="1400" spc="-1" strike="noStrike">
                <a:solidFill>
                  <a:srgbClr val="000000"/>
                </a:solidFill>
                <a:latin typeface="Arial Black"/>
              </a:rPr>
              <a:t>ΣΤΗΡΙΓΜΕΝΟ ΣΕ</a:t>
            </a:r>
            <a:r>
              <a:rPr b="1" lang="el-GR" sz="1400" spc="-1" strike="noStrike">
                <a:solidFill>
                  <a:srgbClr val="000000"/>
                </a:solidFill>
                <a:latin typeface="Arial"/>
              </a:rPr>
              <a:t>, </a:t>
            </a:r>
            <a:r>
              <a:rPr b="1" lang="el-GR" sz="1400" spc="-1" strike="noStrike">
                <a:solidFill>
                  <a:srgbClr val="333399"/>
                </a:solidFill>
                <a:latin typeface="Arial"/>
              </a:rPr>
              <a:t>ΑΞΙΟΠΟΙΗΣΗ</a:t>
            </a:r>
            <a:r>
              <a:rPr b="1" lang="el-GR" sz="1400" spc="-1" strike="noStrike">
                <a:solidFill>
                  <a:srgbClr val="000000"/>
                </a:solidFill>
                <a:latin typeface="Arial"/>
              </a:rPr>
              <a:t> </a:t>
            </a:r>
            <a:r>
              <a:rPr b="1" lang="el-GR" sz="1400" spc="-1" strike="noStrike">
                <a:solidFill>
                  <a:srgbClr val="333399"/>
                </a:solidFill>
                <a:latin typeface="Arial"/>
              </a:rPr>
              <a:t>ΦΥΣΙΚΩΝ ΠΟΡΩΝ,ΚΑΙ ΓΕΝΝΑΙΕΣ ΚΡΑΤΙΚΕΣ ΕΝΙΣΧΥΣΕΙΣ ΤΟΜΕΩΝ ΚΑΙ ΚΛΑΔΩΝ ΠΑΡΑΓΩΓΗΣ ΙΔΙΩΤΙΚΟΥ ΚΑΙ ΔΗΜΟΣΙΟΥ ΤΟΜΕΑ</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0000"/>
                </a:solidFill>
                <a:latin typeface="Arial"/>
              </a:rPr>
              <a:t>2. ΤΡΙΑ ΒΑΣΙΙΚΑ ΕΡΩΤΗΜΑΤΑ</a:t>
            </a:r>
            <a:r>
              <a:rPr b="1" lang="el-GR"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Α. ΕΧΟΥΜΕ ΣΤΡΑΤΗΓΙΚΗ ΓΙΑ ΤΗ ΠΕΡΙΦΕΡΕΙΑ ΜΑΣ, Η ΠΡΟΧΩΡΑΜΕ ΣΤΗ ΒΑΣΗ ΤΟΥ ΕΛΛΗΝΟΠΡΕΠΟΥΣ «</a:t>
            </a:r>
            <a:r>
              <a:rPr b="1" lang="el-GR" sz="1400" spc="-1" strike="noStrike">
                <a:solidFill>
                  <a:srgbClr val="000000"/>
                </a:solidFill>
                <a:latin typeface="Arial Black"/>
              </a:rPr>
              <a:t>ΒΛΕΠΟΝΤΑΣ ΚΑΙ ΚΑΝΟΝΤΑΣ</a:t>
            </a:r>
            <a:r>
              <a:rPr b="1" lang="el-GR"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Β.ΠΟΙΟΙ ΟΙ ΠΑΡΑΓΟΝΤΕΣ ΠΟΥ ΕΜΠΟΔΙΖΟΥΝ Η ΑΝΑΣΤΕΛΟΥΝ ΤΗΝ ΑΝΑΠΤΥΞΗ ΜΑΣ, ΤΟ ΣΥΝΕΙΔΗΤΟΠΟΙΗΣΑΜΕ  ΓΙΑ ΝΑ ΑΛΛΑΞΟΥΜΕ, ΕΊΝΑΙ Η ΕΛΛΕΙΨΗ ΚΕΦΑΛΑΙΩΝ Η, Η ΕΛΛΕΙΨΗ </a:t>
            </a:r>
            <a:r>
              <a:rPr b="1" lang="el-GR" sz="1400" spc="-1" strike="noStrike">
                <a:solidFill>
                  <a:srgbClr val="000000"/>
                </a:solidFill>
                <a:latin typeface="Arial Black"/>
              </a:rPr>
              <a:t>ΕΝΌΣ ΔΥΝΑΜΙΚΟΥ ΑΝΑΠΤΥΞΙΑΚΟΥ  ΠΡΟΣΑΝΑΤΟΛΙΣΜΟΥ</a:t>
            </a:r>
            <a:r>
              <a:rPr b="1" lang="el-GR"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Γ. ΕΧΟΥΜΕ ΤΑ ΚΟΤΣΙΑ ΝΑ ΑΠΟΓΑΛΑΚΤΙΣΤΟΥΜΕ ΑΠΌ ΣΤΡΑΤΗΓΙΚΕΣ ΚΑΙ ΤΑΚΤΙΚΙΣΜΟΥΣ ΤΟΥ ΠΑΡΕΛΘΟΝΤΩΣ  ΚΑΙ ΝΑ ΚΑΙΝΟΤΟΜΗΣΟΥΜΕ ΠΑΝΤΟ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 Ο  ΑΝΑΠΤΥΞΙΑΚΟΣ ΜΑΣ ΠΡΟΣΑΝΑΤΟΛΙΣΜΟΣ ΠΡΕΠΕΙ ΑΠΛΑ  ΝΑ ΚΑΤΕΥΘΥΝΕΤΑΙ ΑΠΌ ΤΑ ΑΡΙΣΤΑ ΠΑΡΑΔΕΙΓΜΑΤΑ,  </a:t>
            </a:r>
            <a:r>
              <a:rPr b="1" lang="el-GR" sz="1400" spc="-1" strike="noStrike">
                <a:solidFill>
                  <a:srgbClr val="ff0000"/>
                </a:solidFill>
                <a:latin typeface="Arial"/>
              </a:rPr>
              <a:t>ΝΑ ΒΛΕΠΕΙ ΤΙ ΚΑΝΟΥΝ ΆΛΛΕΣ ΠΕΤΥΧΗΜΕΝΕΣ ΠΕΡΙΦΕΡΕΙΕΣ ΣΤΗΝ ΕΕ</a:t>
            </a:r>
            <a:r>
              <a:rPr b="1" lang="el-GR" sz="1400" spc="-1" strike="noStrike">
                <a:solidFill>
                  <a:srgbClr val="000000"/>
                </a:solidFill>
                <a:latin typeface="Arial"/>
                <a:ea typeface="Arial"/>
              </a:rPr>
              <a:t>→ΝΑ ΠΡΟΣΑΡΜΟΖΟΜΑΣΤΕ ΣΤΙΣ ΝΕΕΣ ΣΥΝΘΗΚΕΣ ΤΟΥ ΔΙΕΘΝΟΥΣ ΑΝΤΑΓΩΝΙΣΜΟΥ→ΑΚΟΜΗ ΚΑΙ ΤΙΣ ΠΑΡΑΔΟΣΙΑΚΕΣ ΔΡΑΣΤΗΡΙΟΤΗΤΕΣ ΚΑΙ ΚΛΑΔΟΥΣ ΜΑΣ ΤΟΥΣ ΑΝΑΠΡΟΣΑΡΜΟΖΟΥΜΕ ΣΤΟ ΤΙ ΖΗΤΟΥΝ ΟΙ ΔΙΕΘΝΕΙΣ ΑΓΟΡΕΣ</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B7235D0-7D3C-4C19-A6ED-3E110E3322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Black"/>
              </a:rPr>
              <a:t>Αναδιάρθρωση των καλλιεργειών</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πίσης, απαιτείτε στενή συνεργασία  και με φορείς ενίσχυσης της εξωστρέφειας όπως, τον ΟΠΕ, το ΠΣΕ, το ΣΕΒΕ, και τους εμπορικούς ακόλουθους.</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Πρέπει να γίνει ανασχεδιασμός στην καλλιέργεια </a:t>
            </a:r>
            <a:r>
              <a:rPr b="1" lang="en-US" sz="2400" spc="-1" strike="noStrike">
                <a:solidFill>
                  <a:srgbClr val="000000"/>
                </a:solidFill>
                <a:latin typeface="Arial"/>
              </a:rPr>
              <a:t>σιτηρών, μαλακού, σκληρού και αραβοσίτου</a:t>
            </a:r>
            <a:r>
              <a:rPr b="0" lang="en-US" sz="2400" spc="-1" strike="noStrike">
                <a:solidFill>
                  <a:srgbClr val="000000"/>
                </a:solidFill>
                <a:latin typeface="Arial"/>
              </a:rPr>
              <a:t>, ούτως ώστε να υπάρχει, καλύτερη προσαρμογή στις τοπικές εδαφοκλιματικές συνθήκες, ενίσχυση της εθνικής αυτάρκειας και προσαρμογή στις συνθήκες των αγορών. Σε κάθε περίπτωση οι καλλιέργειες αυτές θα πρέπει να παραμείνουν για να στηρίξουν και την κτηνοτροφική ανάπτυξη που είναι μια διαρθρωτική διέξοδος, έστω και αν συνδέετε με δυσκολίε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72C0AF-69D2-4D1D-BD9B-A5A04C280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Αναδιάρθρωση των καλλιεργειών</a:t>
            </a:r>
            <a:endParaRPr b="0" lang="en-US" sz="2400" spc="-1" strike="noStrike">
              <a:solidFill>
                <a:srgbClr val="000000"/>
              </a:solidFill>
              <a:latin typeface="Arial"/>
            </a:endParaRPr>
          </a:p>
        </p:txBody>
      </p:sp>
      <p:sp>
        <p:nvSpPr>
          <p:cNvPr id="82" name="PlaceHolder 2"/>
          <p:cNvSpPr>
            <a:spLocks noGrp="1"/>
          </p:cNvSpPr>
          <p:nvPr>
            <p:ph/>
          </p:nvPr>
        </p:nvSpPr>
        <p:spPr>
          <a:xfrm>
            <a:off x="395280" y="1484280"/>
            <a:ext cx="8229600" cy="485784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Arial"/>
              </a:rPr>
              <a:t>Η επόμενη δυναμική, με καλές  προοπτικές, επιλογή είναι τα λεγόμενα βιομηχανικέ </a:t>
            </a:r>
            <a:r>
              <a:rPr b="1" lang="el-GR" sz="2300" spc="-1" strike="noStrike">
                <a:solidFill>
                  <a:srgbClr val="000000"/>
                </a:solidFill>
                <a:latin typeface="Arial"/>
              </a:rPr>
              <a:t>κηπευτικά</a:t>
            </a:r>
            <a:r>
              <a:rPr b="0" lang="el-GR" sz="2300" spc="-1" strike="noStrike">
                <a:solidFill>
                  <a:srgbClr val="000000"/>
                </a:solidFill>
                <a:latin typeface="Arial"/>
              </a:rPr>
              <a:t> τα οποία μπορούν να διατεθούν ως νωπά, κυρίως όμως ως μεταποιημένα τρόφιμα. Η Περιφέρειά μας τα προηγούμενα χρόνια είχε πολύ καλές επιδόσεις σε βιομηχανικά κηπευτικά αλλά, αρκετές αστοχίες των συνεταιριστικών μεταποιητικών μονάδων (</a:t>
            </a:r>
            <a:r>
              <a:rPr b="0" i="1" lang="el-GR" sz="2300" spc="-1" strike="noStrike">
                <a:solidFill>
                  <a:srgbClr val="000000"/>
                </a:solidFill>
                <a:latin typeface="Arial"/>
              </a:rPr>
              <a:t>μη ανασχεδιασμός λειτουργιών, έλλειψη τμημάτων έρευνας και ανάπτυξης για παραγωγή νέων προϊόντων, υπερβάλλον κόστος παραγωγής κυρίως λόγω εργατικού κόστους, κλπ</a:t>
            </a:r>
            <a:r>
              <a:rPr b="0" lang="el-GR" sz="2300" spc="-1" strike="noStrike">
                <a:solidFill>
                  <a:srgbClr val="000000"/>
                </a:solidFill>
                <a:latin typeface="Arial"/>
              </a:rPr>
              <a:t>) οδήγησαν στην κάμψη αυτών των καλλιεργειών. Θα πρέπει να γίνει μια ολοκληρωμένη προσέγγιση στο θέμα αυτό για να διερευνηθεί εάν υπάρχει δυνατότητα να </a:t>
            </a:r>
            <a:r>
              <a:rPr b="1" lang="el-GR" sz="2300" spc="-1" strike="noStrike">
                <a:solidFill>
                  <a:srgbClr val="000000"/>
                </a:solidFill>
                <a:latin typeface="Arial"/>
              </a:rPr>
              <a:t>δημιουργηθούν μικρές ευέλικτες μονάδες (</a:t>
            </a:r>
            <a:r>
              <a:rPr b="0" i="1" lang="el-GR" sz="2300" spc="-1" strike="noStrike">
                <a:solidFill>
                  <a:srgbClr val="000000"/>
                </a:solidFill>
                <a:latin typeface="Arial"/>
              </a:rPr>
              <a:t>ελάχιστου άριστου μεγέθους</a:t>
            </a:r>
            <a:r>
              <a:rPr b="1" lang="el-GR" sz="2300" spc="-1" strike="noStrike">
                <a:solidFill>
                  <a:srgbClr val="000000"/>
                </a:solidFill>
                <a:latin typeface="Arial"/>
              </a:rPr>
              <a:t>)</a:t>
            </a:r>
            <a:r>
              <a:rPr b="0" lang="el-GR" sz="2300" spc="-1" strike="noStrike">
                <a:solidFill>
                  <a:srgbClr val="000000"/>
                </a:solidFill>
                <a:latin typeface="Arial"/>
              </a:rPr>
              <a:t> που θα είναι χωροθετημένες  κοντά στο τόπο παραγωγής και θα προμηθεύονται πρώτες ύλες μέσω συμβολαιακής γεωργίας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45AD9ECB-6CA9-439D-AF20-A3A128C288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Αναδιάρθρωση των καλλιεργειών</a:t>
            </a:r>
            <a:endParaRPr b="0"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λάδος με καλές προοπτικές είναι αυτός των </a:t>
            </a:r>
            <a:r>
              <a:rPr b="1" lang="el-GR" sz="2400" spc="-1" strike="noStrike">
                <a:solidFill>
                  <a:srgbClr val="000000"/>
                </a:solidFill>
                <a:latin typeface="Arial"/>
              </a:rPr>
              <a:t>νωπών κηπευτικών </a:t>
            </a:r>
            <a:r>
              <a:rPr b="0" lang="el-GR" sz="2400" spc="-1" strike="noStrike">
                <a:solidFill>
                  <a:srgbClr val="000000"/>
                </a:solidFill>
                <a:latin typeface="Arial"/>
              </a:rPr>
              <a:t>που για να αναπτυχθεί απαιτεί δικτυώσεις και συνεργασίες και το πρόγραμμα </a:t>
            </a:r>
            <a:r>
              <a:rPr b="1" lang="el-GR" sz="2400" spc="-1" strike="noStrike">
                <a:solidFill>
                  <a:srgbClr val="000000"/>
                </a:solidFill>
                <a:latin typeface="Arial"/>
              </a:rPr>
              <a:t>καλάθι τοπικών προϊόντων</a:t>
            </a:r>
            <a:r>
              <a:rPr b="0" lang="el-GR" sz="2400" spc="-1" strike="noStrike">
                <a:solidFill>
                  <a:srgbClr val="000000"/>
                </a:solidFill>
                <a:latin typeface="Arial"/>
              </a:rPr>
              <a:t> προσφέρει μια καλή βάση για την προώθησή τους στις αγορές.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κλάδος των </a:t>
            </a:r>
            <a:r>
              <a:rPr b="1" lang="el-GR" sz="2400" spc="-1" strike="noStrike">
                <a:solidFill>
                  <a:srgbClr val="000000"/>
                </a:solidFill>
                <a:latin typeface="Arial"/>
              </a:rPr>
              <a:t>βιολογικών προϊόντων</a:t>
            </a:r>
            <a:r>
              <a:rPr b="0" lang="el-GR" sz="2400" spc="-1" strike="noStrike">
                <a:solidFill>
                  <a:srgbClr val="000000"/>
                </a:solidFill>
                <a:latin typeface="Arial"/>
              </a:rPr>
              <a:t> και αυτός της </a:t>
            </a:r>
            <a:r>
              <a:rPr b="1" lang="el-GR" sz="2400" spc="-1" strike="noStrike">
                <a:solidFill>
                  <a:srgbClr val="000000"/>
                </a:solidFill>
                <a:latin typeface="Arial"/>
              </a:rPr>
              <a:t>ολοκληρωμένης διαχείρισης</a:t>
            </a:r>
            <a:r>
              <a:rPr b="0" lang="el-GR" sz="2400" spc="-1" strike="noStrike">
                <a:solidFill>
                  <a:srgbClr val="000000"/>
                </a:solidFill>
                <a:latin typeface="Arial"/>
              </a:rPr>
              <a:t> προσφέρουν αξιόλογες ευκαιρίες όχι μόνο για κηπευτικά (ντομάτα, αγγουράκι, μαρούλι, κλπ) αλλά και για δενδρώδεις (κεράσια, μήλα, αχλάδια, κλπ). Μπορούν να υπερδιπλασιαστούν  οι εκτάσεις και να διευρυνθούν τα είδη ώστε να συνεισφέρουν πάνω από 10% στο περιφερειακό γεωργικό εισόδημα και ΑΕΠ.(σήμερα συνεισφέρουν λιγότερο του 5%)</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E3718D-E1F1-4F78-B0FC-821C2AB971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Αναδιάρθρωση των καλλιεργειών</a:t>
            </a:r>
            <a:endParaRPr b="0" lang="en-US" sz="2400" spc="-1" strike="noStrike">
              <a:solidFill>
                <a:srgbClr val="000000"/>
              </a:solidFill>
              <a:latin typeface="Arial"/>
            </a:endParaRPr>
          </a:p>
        </p:txBody>
      </p:sp>
      <p:sp>
        <p:nvSpPr>
          <p:cNvPr id="86" name="PlaceHolder 2"/>
          <p:cNvSpPr>
            <a:spLocks noGrp="1"/>
          </p:cNvSpPr>
          <p:nvPr>
            <p:ph/>
          </p:nvPr>
        </p:nvSpPr>
        <p:spPr>
          <a:xfrm>
            <a:off x="457200" y="1197000"/>
            <a:ext cx="8229600" cy="5183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Για το </a:t>
            </a:r>
            <a:r>
              <a:rPr b="1" lang="el-GR" sz="2400" spc="-1" strike="noStrike">
                <a:solidFill>
                  <a:srgbClr val="000000"/>
                </a:solidFill>
                <a:latin typeface="Arial"/>
              </a:rPr>
              <a:t>βαμβάκι</a:t>
            </a:r>
            <a:r>
              <a:rPr b="0" lang="el-GR" sz="2400" spc="-1" strike="noStrike">
                <a:solidFill>
                  <a:srgbClr val="000000"/>
                </a:solidFill>
                <a:latin typeface="Arial"/>
              </a:rPr>
              <a:t> οι εξελίξεις στη νέα ΚΑΠ θα καθορίσουν και τις προοπτικές του.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 </a:t>
            </a:r>
            <a:r>
              <a:rPr b="1" lang="el-GR" sz="2400" spc="-1" strike="noStrike">
                <a:solidFill>
                  <a:srgbClr val="000000"/>
                </a:solidFill>
                <a:latin typeface="Arial"/>
              </a:rPr>
              <a:t>καπνός</a:t>
            </a:r>
            <a:r>
              <a:rPr b="0" lang="el-GR" sz="2400" spc="-1" strike="noStrike">
                <a:solidFill>
                  <a:srgbClr val="000000"/>
                </a:solidFill>
                <a:latin typeface="Arial"/>
              </a:rPr>
              <a:t> τύπου </a:t>
            </a:r>
            <a:r>
              <a:rPr b="1" lang="el-GR" sz="2400" spc="-1" strike="noStrike">
                <a:solidFill>
                  <a:srgbClr val="000000"/>
                </a:solidFill>
                <a:latin typeface="Arial"/>
              </a:rPr>
              <a:t>μπασμά</a:t>
            </a:r>
            <a:r>
              <a:rPr b="0" lang="el-GR" sz="2400" spc="-1" strike="noStrike">
                <a:solidFill>
                  <a:srgbClr val="000000"/>
                </a:solidFill>
                <a:latin typeface="Arial"/>
              </a:rPr>
              <a:t> πρέπει να κρατηθεί γιατί είναι εξαιρετικής ποιότητας, μοναδικός και πρέπει να αποτελέσει βασικό προϊόν του καλαθιού τοπικών προϊόντων.</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l-GR" sz="2400" spc="-1" strike="noStrike">
                <a:solidFill>
                  <a:srgbClr val="000000"/>
                </a:solidFill>
                <a:latin typeface="Arial"/>
              </a:rPr>
              <a:t>α </a:t>
            </a:r>
            <a:r>
              <a:rPr b="1" lang="el-GR" sz="2400" spc="-1" strike="noStrike">
                <a:solidFill>
                  <a:srgbClr val="000000"/>
                </a:solidFill>
                <a:latin typeface="Arial"/>
              </a:rPr>
              <a:t>ενεργειακά φυτά</a:t>
            </a:r>
            <a:r>
              <a:rPr b="0" lang="el-GR" sz="2400" spc="-1" strike="noStrike">
                <a:solidFill>
                  <a:srgbClr val="000000"/>
                </a:solidFill>
                <a:latin typeface="Arial"/>
              </a:rPr>
              <a:t> και, γενικότερα τα μη εδώδιμα φυτά (</a:t>
            </a:r>
            <a:r>
              <a:rPr b="0" lang="en-US" sz="2400" spc="-1" strike="noStrike">
                <a:solidFill>
                  <a:srgbClr val="000000"/>
                </a:solidFill>
                <a:latin typeface="Arial"/>
              </a:rPr>
              <a:t>non food</a:t>
            </a:r>
            <a:r>
              <a:rPr b="0" lang="el-GR" sz="2400" spc="-1" strike="noStrike">
                <a:solidFill>
                  <a:srgbClr val="000000"/>
                </a:solidFill>
                <a:latin typeface="Arial"/>
              </a:rPr>
              <a:t>), φαίνεται ότι προσφέρουν μια διέξοδο στη κατεύθυνση της διατήρησης της γεωργικής δραστηριότητας σε περιοχές της περιφέρειας μας με μικρές δυνατότητες για άλλες καλλιέργειες.  Επειδή το βιοαέριο φαίνεται να έχει καλύτερες προοπτικές στη χώρα μας απ΄ότι το βιοντίζελ και η βιοαιθανόλη, ορισμένα  ενεργειακά φυτά δίνουν διέξοδο προς αυτή την κατεύθυνση.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028CE12-70BD-421A-A4DC-AA428D229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Για την ανάπτυξη της κτηνοτροφίας –μελισσοκομία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Η Περιφέρειά μας είναι η πλέον κατάλληλη για κτηνοτροφική ανάπτυξη με δημιουργία αρκετών κτηνοτροφικών μονάδων διπλής κατεύθυνσης </a:t>
            </a:r>
            <a:r>
              <a:rPr b="1" lang="el-GR" sz="2100" spc="-1" strike="noStrike">
                <a:solidFill>
                  <a:srgbClr val="000000"/>
                </a:solidFill>
                <a:latin typeface="Arial"/>
              </a:rPr>
              <a:t>(γάλα-κρέας) μεγέθους 15-40 αγελάδων  ή πάχυνσης 20-200 μόσχους, η 200-300 προβάτων, κλπ.</a:t>
            </a:r>
            <a:r>
              <a:rPr b="0" lang="el-GR" sz="2100" spc="-1" strike="noStrike">
                <a:solidFill>
                  <a:srgbClr val="000000"/>
                </a:solidFill>
                <a:latin typeface="Arial"/>
              </a:rPr>
              <a:t> Τα βασικότερα προβλήματα είναι 2, των υψηλών τιμών ζωοτροφών  και των χαμηλών τιμών πώλησης κρέατος γάλακτος. Επομένως απαιτούνται συνεργασίες,, δικτυώσεις και αποτελεσματικοί συνεταιρισμοί για να αυξάνουν τη διαπραγματευτική ισχύ των κτηνοτρόφων έναντι του εμπορίου, ακόμα και σε περίπτωση συμβολαιακής κτηνοτροφίας.</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Arial"/>
              </a:rPr>
              <a:t>Προφανώς θα χρειαστεί να αριστοποιήσουν το μέγεθός τους και  οι υφιστάμενες μονάδες προβάτων, αγελαδοτροφίας,  χοίρων, πτηνοτροφικές.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Η μελισσοκομία</a:t>
            </a:r>
            <a:r>
              <a:rPr b="0" lang="el-GR" sz="2100" spc="-1" strike="noStrike">
                <a:solidFill>
                  <a:srgbClr val="000000"/>
                </a:solidFill>
                <a:latin typeface="Arial"/>
              </a:rPr>
              <a:t> είναι ο κλάδος που είναι ανεπτυγμένος, αλλά υπάρχουν πολλά  περιθώρια και για περαιτέρω ανάπτυξη.</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B8330CE-877A-4F77-B4C6-6F7339EA6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Για την αξιοποίηση των γεωθερμικών πεδίω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εριφέρειά μας διαθέτει από τα σημαντικότερα γεωθερμικά πεδία της χώρας που έχουν παροχές, τόσο ποιοτικά όσο και ποσοτικά, πολύ καλές για εκμετάλλευση. Επομένως προσφέρονται για πολλές και διαφορετικές χρήσεις: α) κατασκευή μεγάλων θερμοκηπιακών εγκαταστάσεων για παραγωγή εκτός εποχής κηπευτικών και ανθοκομικών ειδών β) για ιχθυοκαλλιέργειες τόσο θαλάσσιων όσο και εσωτερικών υδάτων γ) για εγκαταστάσεις ιαματικές και αγροτουριστικές δίνοντας ευκαιρίες σε αγρότες μας για πρόσθετες δραστηριότητες και ενίσχυση του εισοδήματός του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874401-034E-4A57-A2F7-0DA1BB672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Black"/>
              </a:rPr>
              <a:t>Γεωθερμικά πεδία ΠΑΜΘ και ενδεικτικές αξιοποιήσεις</a:t>
            </a:r>
            <a:endParaRPr b="0" lang="en-US" sz="2000" spc="-1" strike="noStrike">
              <a:solidFill>
                <a:srgbClr val="000000"/>
              </a:solidFill>
              <a:latin typeface="Arial"/>
            </a:endParaRPr>
          </a:p>
        </p:txBody>
      </p:sp>
      <p:graphicFrame>
        <p:nvGraphicFramePr>
          <p:cNvPr id="92" name=""/>
          <p:cNvGraphicFramePr/>
          <p:nvPr/>
        </p:nvGraphicFramePr>
        <p:xfrm>
          <a:off x="457200" y="1600200"/>
          <a:ext cx="8229600" cy="5106960"/>
        </p:xfrm>
        <a:graphic>
          <a:graphicData uri="http://schemas.openxmlformats.org/drawingml/2006/table">
            <a:tbl>
              <a:tblPr/>
              <a:tblGrid>
                <a:gridCol w="2817720"/>
                <a:gridCol w="1014480"/>
                <a:gridCol w="946080"/>
                <a:gridCol w="924120"/>
                <a:gridCol w="961920"/>
                <a:gridCol w="1565280"/>
              </a:tblGrid>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ΠΕΔΙΟ/ΠΕΡΙΟΧ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Έκταση</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πεδίου</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σε κμ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Βάθος</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πεδίου</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Σε με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Max</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99"/>
                          </a:solidFill>
                          <a:latin typeface="Times New Roman"/>
                          <a:ea typeface="Times New Roman"/>
                        </a:rPr>
                        <a:t>παροχή</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99"/>
                          </a:solidFill>
                          <a:latin typeface="Times New Roman"/>
                          <a:ea typeface="Times New Roman"/>
                        </a:rPr>
                        <a:t>Σε τ/</a:t>
                      </a:r>
                      <a:r>
                        <a:rPr b="1" lang="en-US" sz="1200" spc="-1" strike="noStrike">
                          <a:solidFill>
                            <a:srgbClr val="009999"/>
                          </a:solidFill>
                          <a:latin typeface="Times New Roman"/>
                          <a:ea typeface="Times New Roman"/>
                        </a:rPr>
                        <a: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Max</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9999"/>
                          </a:solidFill>
                          <a:latin typeface="Times New Roman"/>
                          <a:ea typeface="Times New Roman"/>
                        </a:rPr>
                        <a:t>θερμοκρασ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Times New Roman"/>
                          <a:ea typeface="Times New Roman"/>
                        </a:rPr>
                        <a:t>αξιοποίηση</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Αριστηνου Έβρο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0-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Ιχθυοκαλλιέργεια</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Ιαματικός του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Τυχερό Έβρο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Τραιανουπολη Έβρο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1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Ιαματικός τουρισμό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Σαμοθράκη Έβρο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Ιαματικός τουρισμό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Σαπες Ροδόπη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Νότια Κομοτηνή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Μητρικό Ροδόπη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Πόρτο Λαγος Ξάνθη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Νέα Κεσσανη Ξάνθη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Ερατεινό-Χρυσουπολη Καβάλα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0-8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Θερμοκήπια</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a:t>
                      </a:r>
                      <a:r>
                        <a:rPr b="1" lang="el-GR" sz="1200" spc="-1" strike="noStrike">
                          <a:solidFill>
                            <a:srgbClr val="000000"/>
                          </a:solidFill>
                          <a:latin typeface="Times New Roman"/>
                          <a:ea typeface="Times New Roman"/>
                        </a:rPr>
                        <a:t>χθυοκαλλιέργεια</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Times New Roman"/>
                        </a:rPr>
                        <a:t>Ιαματικός του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Ελευθερών καβάλα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μικρό</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0-2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Ιαματικός τουρισμό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E31FFD7F-0013-4257-86EA-440317290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 Οι προτάσεις σε επίπεδο προϊόντος η καλύτερα  για αναδιάρθρωση της παραγωγικής βάσης, με βάση ότι η νέα ΚΑΠ θα προβλέπει για τη χώρα μας ίδιες πιστώσεις και ότι οι επιδοτήσεις θα δίνονται με βάση τη συνολική καλλιεργούμενη έκταση-άρα η αυξημένη παραγωγή είναι θέμα- είναι οι εξής:</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00"/>
                </a:solidFill>
                <a:latin typeface="Arial"/>
              </a:rPr>
              <a:t>Σκληρό στάρι</a:t>
            </a:r>
            <a:r>
              <a:rPr b="0" lang="el-GR" sz="2000" spc="-1" strike="noStrike">
                <a:solidFill>
                  <a:srgbClr val="009900"/>
                </a:solidFill>
                <a:latin typeface="Arial"/>
              </a:rPr>
              <a:t>:</a:t>
            </a:r>
            <a:r>
              <a:rPr b="0" lang="el-GR" sz="2000" spc="-1" strike="noStrike">
                <a:solidFill>
                  <a:srgbClr val="000000"/>
                </a:solidFill>
                <a:latin typeface="Arial"/>
              </a:rPr>
              <a:t> Επιθυμητό να καλλιεργείται στα ξερικά εδάφη, μείωση τους αν  προωθηθούν επιτυχημένα οι ενεργειακές καλλιέργειες.</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00"/>
                </a:solidFill>
                <a:latin typeface="Arial"/>
              </a:rPr>
              <a:t>Μαλακό στάρι</a:t>
            </a:r>
            <a:r>
              <a:rPr b="0" lang="el-GR" sz="2000" spc="-1" strike="noStrike">
                <a:solidFill>
                  <a:srgbClr val="009900"/>
                </a:solidFill>
                <a:latin typeface="Arial"/>
              </a:rPr>
              <a:t>:</a:t>
            </a:r>
            <a:r>
              <a:rPr b="0" lang="el-GR" sz="2000" spc="-1" strike="noStrike">
                <a:solidFill>
                  <a:srgbClr val="000000"/>
                </a:solidFill>
                <a:latin typeface="Arial"/>
              </a:rPr>
              <a:t> Επιθυμητό να καλλιεργείται στα ξερικά εδάφη, μείωση τους αν  προωθηθούν επιτυχημένα οι ενεργειακές καλλιέργειες.</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00"/>
                </a:solidFill>
                <a:latin typeface="Arial"/>
              </a:rPr>
              <a:t>Κριθάρι</a:t>
            </a:r>
            <a:r>
              <a:rPr b="0" lang="el-GR" sz="2000" spc="-1" strike="noStrike">
                <a:solidFill>
                  <a:srgbClr val="009900"/>
                </a:solidFill>
                <a:latin typeface="Arial"/>
              </a:rPr>
              <a:t>:</a:t>
            </a:r>
            <a:r>
              <a:rPr b="0" lang="el-GR" sz="2000" spc="-1" strike="noStrike">
                <a:solidFill>
                  <a:srgbClr val="000000"/>
                </a:solidFill>
                <a:latin typeface="Arial"/>
              </a:rPr>
              <a:t> Επιθυμητό να καλλιεργείται στα ξερικά εδάφη, αύξηση αν  προωθηθούν επιτυχημένα η κτηνοτροφία και η συμβολαιακη καλλιέργεια για μπύρα( ζυθοποια Μακεδονίας Θράκης Βεργίνα)</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BDF8257-399E-4037-8356-EE38A2F2BA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endParaRPr b="0" lang="en-US" sz="2400" spc="-1" strike="noStrike">
              <a:solidFill>
                <a:srgbClr val="000000"/>
              </a:solidFill>
              <a:latin typeface="Arial"/>
            </a:endParaRPr>
          </a:p>
        </p:txBody>
      </p:sp>
      <p:sp>
        <p:nvSpPr>
          <p:cNvPr id="9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Βαμβάκι</a:t>
            </a:r>
            <a:r>
              <a:rPr b="0" lang="en-US" sz="1800" spc="-1" strike="noStrike">
                <a:solidFill>
                  <a:srgbClr val="009900"/>
                </a:solidFill>
                <a:latin typeface="Arial"/>
              </a:rPr>
              <a:t>:</a:t>
            </a:r>
            <a:r>
              <a:rPr b="0" lang="en-US" sz="1800" spc="-1" strike="noStrike">
                <a:solidFill>
                  <a:srgbClr val="000000"/>
                </a:solidFill>
                <a:latin typeface="Arial"/>
              </a:rPr>
              <a:t> Επιθυμητή η καλλιέργεια στα άριστα χωράφια με μείωση, η διατήρηση των εκτάσεων, εφόσον η νανοβιοτεχνολογικη τεχνολογία δώσει λύσεις για παραγωγή νέων καινοτόμων προϊόντων υψηλής τεχνολογίας, ίνες, ιατρικές χρήσεις, κλπ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Αραβόσιτος</a:t>
            </a:r>
            <a:r>
              <a:rPr b="0" lang="en-US" sz="1800" spc="-1" strike="noStrike">
                <a:solidFill>
                  <a:srgbClr val="009900"/>
                </a:solidFill>
                <a:latin typeface="Arial"/>
              </a:rPr>
              <a:t>::</a:t>
            </a:r>
            <a:r>
              <a:rPr b="0" lang="en-US" sz="1800" spc="-1" strike="noStrike">
                <a:solidFill>
                  <a:srgbClr val="000000"/>
                </a:solidFill>
                <a:latin typeface="Arial"/>
              </a:rPr>
              <a:t> Να συνεχίσει να καλλιεργείτε σε ποτιστικούς αγρούς, ανταγωνιζόμενος το βαμβάκι, ανάλογα με τις διαμορφούμενες τιμές και τη ζήτηση. Διακύμανση της έκτασης ανάλογα με τη ζήτηση του από την ελληνική κτηνοτροφία.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Κτηνοτροφικά φυτά</a:t>
            </a:r>
            <a:r>
              <a:rPr b="0" lang="en-US" sz="1800" spc="-1" strike="noStrike">
                <a:solidFill>
                  <a:srgbClr val="000000"/>
                </a:solidFill>
                <a:latin typeface="Arial"/>
              </a:rPr>
              <a:t>: Επιθυμητή η αύξηση των εκτάσεων, εφόσον αυξηθεί η κτηνοτροφία σε μορφή μικρομεσαίας επιχειρηματικότητας.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Βρώσιμα όσπρια</a:t>
            </a:r>
            <a:r>
              <a:rPr b="0" lang="en-US" sz="1800" spc="-1" strike="noStrike">
                <a:solidFill>
                  <a:srgbClr val="009900"/>
                </a:solidFill>
                <a:latin typeface="Arial"/>
              </a:rPr>
              <a:t>:</a:t>
            </a:r>
            <a:r>
              <a:rPr b="0" lang="en-US" sz="1800" spc="-1" strike="noStrike">
                <a:solidFill>
                  <a:srgbClr val="000000"/>
                </a:solidFill>
                <a:latin typeface="Arial"/>
              </a:rPr>
              <a:t> Επιθυμητή η αύξηση των εκτάσεων με παράλληλη δημιουργία μικρών οικοτεχνικών μονάδων συσκευασίας και τυποποίησης, κλπ.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Καπνός ανατολικού τύπου</a:t>
            </a:r>
            <a:r>
              <a:rPr b="0" lang="en-US" sz="1800" spc="-1" strike="noStrike">
                <a:solidFill>
                  <a:srgbClr val="009900"/>
                </a:solidFill>
                <a:latin typeface="Arial"/>
              </a:rPr>
              <a:t>:</a:t>
            </a:r>
            <a:r>
              <a:rPr b="0" lang="en-US" sz="1800" spc="-1" strike="noStrike">
                <a:solidFill>
                  <a:srgbClr val="000000"/>
                </a:solidFill>
                <a:latin typeface="Arial"/>
              </a:rPr>
              <a:t> Μείωση των εκτάσεων άλλων ποικιλιών, διατήρηση των εκτάσεων των ποικιλιών – μπασμά.</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1DCD5F-78C3-41D2-834C-6F6283B950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endParaRPr b="0" lang="en-US" sz="2400" spc="-1" strike="noStrike">
              <a:solidFill>
                <a:srgbClr val="000000"/>
              </a:solidFill>
              <a:latin typeface="Arial"/>
            </a:endParaRPr>
          </a:p>
        </p:txBody>
      </p:sp>
      <p:sp>
        <p:nvSpPr>
          <p:cNvPr id="98" name="PlaceHolder 2"/>
          <p:cNvSpPr>
            <a:spLocks noGrp="1"/>
          </p:cNvSpPr>
          <p:nvPr>
            <p:ph/>
          </p:nvPr>
        </p:nvSpPr>
        <p:spPr>
          <a:xfrm>
            <a:off x="250560" y="1600200"/>
            <a:ext cx="85690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Ζαχαρότευτλα</a:t>
            </a:r>
            <a:r>
              <a:rPr b="0" lang="en-US" sz="2000" spc="-1" strike="noStrike">
                <a:solidFill>
                  <a:srgbClr val="009900"/>
                </a:solidFill>
                <a:latin typeface="Arial"/>
              </a:rPr>
              <a:t>:</a:t>
            </a:r>
            <a:r>
              <a:rPr b="0" lang="en-US" sz="2000" spc="-1" strike="noStrike">
                <a:solidFill>
                  <a:srgbClr val="000000"/>
                </a:solidFill>
                <a:latin typeface="Arial"/>
              </a:rPr>
              <a:t> Επιθυμητή η αύξηση των εκτάσεων με παράλληλη εξασφάλιση λειτουργίας τουλάχιστον της μονάδας Ορεστιάδας και αν αποδειχθεί συμφέρουσα η καλλιέργεια να διευρυνθεί  για παραγωγή βιοκαυσίμων από τη μονάδα της Ξάνθης.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Αρωματικά και φαρμακευτικά φυτά</a:t>
            </a:r>
            <a:r>
              <a:rPr b="0" lang="en-US" sz="2000" spc="-1" strike="noStrike">
                <a:solidFill>
                  <a:srgbClr val="009900"/>
                </a:solidFill>
                <a:latin typeface="Arial"/>
              </a:rPr>
              <a:t>:</a:t>
            </a:r>
            <a:r>
              <a:rPr b="0" lang="en-US" sz="2000" spc="-1" strike="noStrike">
                <a:solidFill>
                  <a:srgbClr val="000000"/>
                </a:solidFill>
                <a:latin typeface="Arial"/>
              </a:rPr>
              <a:t> Επιθυμητή η αύξηση των εκτάσεων, αμφίβολη η εξέλιξή τους λόγω μη ύπαρξης καλών μονάδων τυποποίησης και συσκευασίας με χρήση έξυπνων εργαλείων εξαγωγικού μάρκετινγκ.</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Πατάτες</a:t>
            </a:r>
            <a:r>
              <a:rPr b="0" lang="en-US" sz="2000" spc="-1" strike="noStrike">
                <a:solidFill>
                  <a:srgbClr val="009900"/>
                </a:solidFill>
                <a:latin typeface="Arial"/>
              </a:rPr>
              <a:t>:</a:t>
            </a:r>
            <a:r>
              <a:rPr b="0" lang="en-US" sz="2000" spc="-1" strike="noStrike">
                <a:solidFill>
                  <a:srgbClr val="000000"/>
                </a:solidFill>
                <a:latin typeface="Arial"/>
              </a:rPr>
              <a:t> Η εξέλιξή τους εξαρτάται από την  ικανότητα των παραγωγών-οργανώσεων τους να κερδίσουν, ποιοτικά και κοστολογικά, ικανά μερίδια αγοράς. </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Πεπονοειδή:</a:t>
            </a:r>
            <a:r>
              <a:rPr b="1" lang="en-US" sz="2000" spc="-1" strike="noStrike">
                <a:solidFill>
                  <a:srgbClr val="000000"/>
                </a:solidFill>
                <a:latin typeface="Arial"/>
              </a:rPr>
              <a:t> </a:t>
            </a:r>
            <a:r>
              <a:rPr b="0" lang="en-US" sz="2000" spc="-1" strike="noStrike">
                <a:solidFill>
                  <a:srgbClr val="000000"/>
                </a:solidFill>
                <a:latin typeface="Arial"/>
              </a:rPr>
              <a:t> Η εξέλιξή τους εξαρτάται από την  ικανότητα των παραγωγών-οργανώσεων τους να κερδίσουν, ποιοτικά και κοστολογικά, ικανά μερίδια αγοράς</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Λαχανικά</a:t>
            </a:r>
            <a:r>
              <a:rPr b="0" lang="en-US" sz="2000" spc="-1" strike="noStrike">
                <a:solidFill>
                  <a:srgbClr val="009900"/>
                </a:solidFill>
                <a:latin typeface="Arial"/>
              </a:rPr>
              <a:t>:</a:t>
            </a:r>
            <a:r>
              <a:rPr b="0" lang="en-US" sz="2000" spc="-1" strike="noStrike">
                <a:solidFill>
                  <a:srgbClr val="000000"/>
                </a:solidFill>
                <a:latin typeface="Arial"/>
              </a:rPr>
              <a:t> Επιθυμητή η αύξηση των εκτάσεων με παράλληλη έξυπνη οργάνωση της παραγωγής και εμπορίας.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AF544EF-9BD8-4E3F-B739-600552705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Black"/>
              </a:rPr>
              <a:t>4 ΣΟΦΑ ΠΡΑΓΜΑΤΑ ΠΟΥ ΕΚΑΝΕ Η ΠΕΡΙΦΕΡΕΙΑ ΕΝΔΙΒΟΥΡΓΟΥ ΜΕΤΑ ΤΗΝ ΕΝΤΟΝΗ ΑΠΟΒΙΟΜΗΧΑΝΙΣΗ ΤΗΣ ΔΕΚΑΕΤΙΑΣ 1990   ΛΟΓΩ</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ΣΥΣΤΗΜΑΤΙΚΗ </a:t>
            </a:r>
            <a:r>
              <a:rPr b="1" lang="el-GR" sz="1400" spc="-1" strike="noStrike">
                <a:solidFill>
                  <a:srgbClr val="000000"/>
                </a:solidFill>
                <a:latin typeface="Arial Black"/>
              </a:rPr>
              <a:t>ΕΙΣΑΓΩΓΗ ΝΕΑΣ ΓΝΩΣΗΣ ΚΑΙ ΚΑΙΝΟΤΟΜΙΑΣ</a:t>
            </a:r>
            <a:r>
              <a:rPr b="1" lang="el-GR" sz="1400" spc="-1" strike="noStrike">
                <a:solidFill>
                  <a:srgbClr val="000000"/>
                </a:solidFill>
                <a:latin typeface="Arial"/>
              </a:rPr>
              <a:t> ΣΕ </a:t>
            </a:r>
            <a:r>
              <a:rPr b="1" lang="el-GR" sz="1400" spc="-1" strike="noStrike">
                <a:solidFill>
                  <a:srgbClr val="ff0000"/>
                </a:solidFill>
                <a:latin typeface="Arial"/>
              </a:rPr>
              <a:t>ΥΦΙΣΤΑΜΕΝΕΣ ΠΑΡΑΓΩΓΙΚΕΣ ΔΟΜΕΣ</a:t>
            </a:r>
            <a:r>
              <a:rPr b="1" lang="el-GR" sz="1400" spc="-1" strike="noStrike">
                <a:solidFill>
                  <a:srgbClr val="000000"/>
                </a:solidFill>
                <a:latin typeface="Arial"/>
              </a:rPr>
              <a:t>… ΔΙΚΤΥΑ ΑΓΡΟΤΟΥΡΙΣΜΟΥ ΣΤΑ </a:t>
            </a:r>
            <a:r>
              <a:rPr b="1" lang="en-US" sz="1400" spc="-1" strike="noStrike">
                <a:solidFill>
                  <a:srgbClr val="000000"/>
                </a:solidFill>
                <a:latin typeface="Arial"/>
              </a:rPr>
              <a:t>COTTAGES</a:t>
            </a:r>
            <a:r>
              <a:rPr b="1" lang="el-GR" sz="1400" spc="-1" strike="noStrike">
                <a:solidFill>
                  <a:srgbClr val="000000"/>
                </a:solidFill>
                <a:latin typeface="Arial"/>
              </a:rPr>
              <a:t>, ΔΙΚΤΥΑ ΕΠΙΧΕΙΡΗΣΕΩΝ ΠΛΗΡΟΦΟΡΙΚΗΣ ΜΕ </a:t>
            </a:r>
            <a:r>
              <a:rPr b="1" lang="en-US" sz="1400" spc="-1" strike="noStrike">
                <a:solidFill>
                  <a:srgbClr val="000000"/>
                </a:solidFill>
                <a:latin typeface="Arial"/>
              </a:rPr>
              <a:t> T</a:t>
            </a:r>
            <a:r>
              <a:rPr b="1" lang="el-GR" sz="1400" spc="-1" strike="noStrike">
                <a:solidFill>
                  <a:srgbClr val="000000"/>
                </a:solidFill>
                <a:latin typeface="Arial"/>
              </a:rPr>
              <a:t>ΙΣ ΥΠΑΡΧΟΥΣΕΣ 234 ΜΜΕ ΠΛΗΡΟΦΟΡΙΚΗΣ, ΚΛΠ</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ΝΕΑ </a:t>
            </a:r>
            <a:r>
              <a:rPr b="1" lang="el-GR" sz="1400" spc="-1" strike="noStrike">
                <a:solidFill>
                  <a:srgbClr val="000000"/>
                </a:solidFill>
                <a:latin typeface="Arial Black"/>
              </a:rPr>
              <a:t>ΓΝΩΣΗ ΚΑΙ ΚΑΙΝΟΤΟΜΙΕΣ</a:t>
            </a:r>
            <a:r>
              <a:rPr b="1" lang="el-GR" sz="1400" spc="-1" strike="noStrike">
                <a:solidFill>
                  <a:srgbClr val="000000"/>
                </a:solidFill>
                <a:latin typeface="Arial"/>
              </a:rPr>
              <a:t> </a:t>
            </a:r>
            <a:r>
              <a:rPr b="1" lang="el-GR" sz="1400" spc="-1" strike="noStrike">
                <a:solidFill>
                  <a:srgbClr val="009999"/>
                </a:solidFill>
                <a:latin typeface="Arial"/>
              </a:rPr>
              <a:t>ΣΤΗ ΠΑΡΑΓΩΓΗ ΝΕΩΝ ΠΡΟΙΟΝΤΩΝ ΚΑΙ ΥΠΗΡΕΣΙΩΝ</a:t>
            </a:r>
            <a:r>
              <a:rPr b="1" lang="el-GR" sz="1400" spc="-1" strike="noStrike">
                <a:solidFill>
                  <a:srgbClr val="000000"/>
                </a:solidFill>
                <a:latin typeface="Arial"/>
              </a:rPr>
              <a:t> ΚΑΙ ΝΕΑ </a:t>
            </a:r>
            <a:r>
              <a:rPr b="1" lang="el-GR" sz="1400" spc="-1" strike="noStrike">
                <a:solidFill>
                  <a:srgbClr val="333399"/>
                </a:solidFill>
                <a:latin typeface="Arial"/>
              </a:rPr>
              <a:t>ΕΞΥΠΝΑ ΕΡΓΑΛΕΙΑ ΤΟΥ ΜΑΡΚΕΤΙΝΓΚ</a:t>
            </a:r>
            <a:r>
              <a:rPr b="1" lang="el-GR" sz="1400" spc="-1" strike="noStrike">
                <a:solidFill>
                  <a:srgbClr val="000000"/>
                </a:solidFill>
                <a:latin typeface="Arial"/>
              </a:rPr>
              <a:t> ΓΙΑ ΝΑ ΔΙΕΙΣΔΥΣΕΙ ΣΤΙΣ ΥΦΙΣΤΑΜΕΝΕΣ ΚΑΙ ΝΕΕΣ ΑΓΟΡΕΣ</a:t>
            </a:r>
            <a:r>
              <a:rPr b="1" lang="el-GR" sz="1400" spc="-1" strike="noStrike">
                <a:solidFill>
                  <a:srgbClr val="000000"/>
                </a:solidFill>
                <a:latin typeface="Arial"/>
                <a:ea typeface="Arial"/>
              </a:rPr>
              <a:t>►ΖΩΝΕΣ ΚΑΙΝΟΤΟΜΙΑΣ, ΔΩΡΕΑΝ ΔΗΜΟΤΙΚΗ ΓΗ ΓΙΑ ΕΓΚΑΤΑΣΤΑΣΗ ΝΕΩΝ ΕΠΙΧΕΙΡΗΣΕΩΝ, ΑΠΑΛΛΑΓΗ ΑΠΌ ΦΟΡΟΥΣ, ΕΙΔΙΚΕΣ ΖΩΝΕΣ ΧΩΡΙΚΟΥ </a:t>
            </a:r>
            <a:r>
              <a:rPr b="1" lang="en-US" sz="1400" spc="-1" strike="noStrike">
                <a:solidFill>
                  <a:srgbClr val="000000"/>
                </a:solidFill>
                <a:latin typeface="Arial"/>
                <a:ea typeface="Arial"/>
              </a:rPr>
              <a:t>FAST TRACK, </a:t>
            </a:r>
            <a:r>
              <a:rPr b="1" lang="el-GR" sz="1400" spc="-1" strike="noStrike">
                <a:solidFill>
                  <a:srgbClr val="000000"/>
                </a:solidFill>
                <a:latin typeface="Arial"/>
                <a:ea typeface="Arial"/>
              </a:rPr>
              <a:t> ΕΞΥΠΝΑ ΣΥΣΤΗΜΑΤΑ ΠΡΟΩΘΗΣΗΣ ΑΓΡΟΔΙΑΤΡΟΦΙΚΩΝ ΠΡΟΙΟΝΤΩΝ , ΚΛΠ</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Arial"/>
              </a:rPr>
              <a:t>ΠΟΛΥ ΣΤΕΝΗ, </a:t>
            </a:r>
            <a:r>
              <a:rPr b="1" lang="el-GR" sz="1400" spc="-1" strike="noStrike">
                <a:solidFill>
                  <a:srgbClr val="ff0000"/>
                </a:solidFill>
                <a:latin typeface="Arial"/>
                <a:ea typeface="Arial"/>
              </a:rPr>
              <a:t>ΣΤΡΑΤΗΓΙΚΗΣ ΦΥΣΗΣ, </a:t>
            </a:r>
            <a:r>
              <a:rPr b="1" lang="el-GR" sz="1400" spc="-1" strike="noStrike">
                <a:solidFill>
                  <a:srgbClr val="ff0000"/>
                </a:solidFill>
                <a:latin typeface="Arial Black"/>
                <a:ea typeface="Arial"/>
              </a:rPr>
              <a:t>ΣΥΝΕΡΓΑΣΙΑ</a:t>
            </a:r>
            <a:r>
              <a:rPr b="1" lang="el-GR" sz="1400" spc="-1" strike="noStrike">
                <a:solidFill>
                  <a:srgbClr val="000000"/>
                </a:solidFill>
                <a:latin typeface="Arial Black"/>
                <a:ea typeface="Arial"/>
              </a:rPr>
              <a:t> ΠΕΡΙΦΕΡΕΙΑΣ, ΔΗΜΩΝ, ΕΠΙΧΕΙΡΗΣΕΩΝ</a:t>
            </a:r>
            <a:r>
              <a:rPr b="1" lang="el-GR" sz="1400" spc="-1" strike="noStrike">
                <a:solidFill>
                  <a:srgbClr val="000000"/>
                </a:solidFill>
                <a:latin typeface="Arial"/>
                <a:ea typeface="Arial"/>
              </a:rPr>
              <a:t> ΏΣΤΕ ΤΟ ΔΙΚΤΥΩΜΕΝΟ ΠΑΡΑΓΩΓΙΚΟ ΣΥΣΤΗΜΑ ΤΗΣ ΠΕΡΙΟΧΗΣ  ΝΑ ΑΠΟΚΤΗΣΕΙ ΣΥΝΕΡΓΙΚΟ ΑΝΤΑΓΩΝΙΣΤΙΚΟ ΠΛΕΟΝΕΚΤΗΜΑ ΚΑΙ Η ΠΕΡΙΦΕΡΕΙΑ ΑΝΑΓΝΩΡΙΣΙΜΗ ΔΙΕΘΝΩΣ ΕΞΕΙΔΙΚΕΥΣΗ</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Arial"/>
              </a:rPr>
              <a:t>ΚΟΙΝΟΤΙΚΟΙ ΠΟΡΟΙ ΕΚΑΤΟΜΥΡΙΩΝ € ΟΔΗΓΗΘΗΚΑΝ ΣΤΗΝ </a:t>
            </a:r>
            <a:r>
              <a:rPr b="1" lang="el-GR" sz="1400" spc="-1" strike="noStrike">
                <a:solidFill>
                  <a:srgbClr val="ff0000"/>
                </a:solidFill>
                <a:latin typeface="Arial"/>
                <a:ea typeface="Arial"/>
              </a:rPr>
              <a:t>ΠΡΑΓΜΑΤΙΚΗ ΑΝΑΒΑΘΜΙΣΗ ΤΟΥ ΑΝΘΡΩΠΙΝΟΥ ΔΥΝΑΜΙΚΟΥ-</a:t>
            </a:r>
            <a:r>
              <a:rPr b="1" lang="el-GR" sz="1400" spc="-1" strike="noStrike">
                <a:solidFill>
                  <a:srgbClr val="000000"/>
                </a:solidFill>
                <a:latin typeface="Arial"/>
                <a:ea typeface="Arial"/>
              </a:rPr>
              <a:t>---ΠΑΡΗΧΘΗ ΔΕΞΑΜΕΝΗ 6000 ΕΠΙΣΤΗΜΟΝΩΝ ΜΗΧΑΝΙΚΩΝ, ΒΙΟΤΕΧΝΟΛΟΓΩΝ, ΓΕΝΕΤΙΣΤΩΝ, ΒΙΟΧΗΜΙΚΩΝ, ΚΛΠ</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 </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Α </a:t>
            </a:r>
            <a:r>
              <a:rPr b="1" lang="en-US" sz="1400" spc="-1" strike="noStrike">
                <a:solidFill>
                  <a:srgbClr val="000000"/>
                </a:solidFill>
                <a:latin typeface="Arial"/>
                <a:ea typeface="Arial"/>
              </a:rPr>
              <a:t>CV’s </a:t>
            </a:r>
            <a:r>
              <a:rPr b="1" lang="el-GR" sz="1400" spc="-1" strike="noStrike">
                <a:solidFill>
                  <a:srgbClr val="000000"/>
                </a:solidFill>
                <a:latin typeface="Arial"/>
                <a:ea typeface="Arial"/>
              </a:rPr>
              <a:t>ΤΟΥΣ ΠΡΟΩΘΗΘΗΚΑΝ ΣΕ ΔΙΕΘΝΗ ΕΠΕΝΔΥΤΙΚΑ </a:t>
            </a:r>
            <a:r>
              <a:rPr b="1" lang="en-US" sz="1400" spc="-1" strike="noStrike">
                <a:solidFill>
                  <a:srgbClr val="000000"/>
                </a:solidFill>
                <a:latin typeface="Arial"/>
                <a:ea typeface="Arial"/>
              </a:rPr>
              <a:t>ROAD SHOWS…  KAI </a:t>
            </a:r>
            <a:r>
              <a:rPr b="1" lang="el-GR" sz="1400" spc="-1" strike="noStrike">
                <a:solidFill>
                  <a:srgbClr val="000000"/>
                </a:solidFill>
                <a:latin typeface="Arial"/>
                <a:ea typeface="Arial"/>
              </a:rPr>
              <a:t>ΕΤΣΙ ΠΡΟΣΕΛΚΥΣΘΗΚΑΝ ΣΗΜΑΝΤΙΚΑ ΕΠΕΝΔΥΤΙΚΑ ΚΕΦΑΛΑΙΑ…ΠΕΡΙΠΟΥ 1.245 ΕΚΑΤ </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 ΣΕ </a:t>
            </a:r>
            <a:r>
              <a:rPr b="1" lang="en-US" sz="1400" spc="-1" strike="noStrike">
                <a:solidFill>
                  <a:srgbClr val="000000"/>
                </a:solidFill>
                <a:latin typeface="Arial"/>
                <a:ea typeface="Arial"/>
              </a:rPr>
              <a:t>FDI</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3648D5B-74CA-4669-9F70-4D442096C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endParaRPr b="0" lang="en-US" sz="2400" spc="-1" strike="noStrike">
              <a:solidFill>
                <a:srgbClr val="000000"/>
              </a:solidFill>
              <a:latin typeface="Arial"/>
            </a:endParaRPr>
          </a:p>
        </p:txBody>
      </p:sp>
      <p:sp>
        <p:nvSpPr>
          <p:cNvPr id="10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9900"/>
                </a:solidFill>
                <a:latin typeface="Arial"/>
              </a:rPr>
              <a:t>Κηπευτικά</a:t>
            </a:r>
            <a:r>
              <a:rPr b="0" lang="el-GR" sz="2400" spc="-1" strike="noStrike">
                <a:solidFill>
                  <a:srgbClr val="009900"/>
                </a:solidFill>
                <a:latin typeface="Arial"/>
              </a:rPr>
              <a:t>:</a:t>
            </a:r>
            <a:r>
              <a:rPr b="0" lang="el-GR" sz="2400" spc="-1" strike="noStrike">
                <a:solidFill>
                  <a:srgbClr val="000000"/>
                </a:solidFill>
                <a:latin typeface="Arial"/>
              </a:rPr>
              <a:t> Υπάρχουν δυνατότητες όπως στα λαχανικά, ενώ τα δημοπρατήρια και άλλα εργαλεία δίνουν εμπορική διέξοδ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9900"/>
                </a:solidFill>
                <a:latin typeface="Arial"/>
              </a:rPr>
              <a:t>Αμπέλια</a:t>
            </a:r>
            <a:r>
              <a:rPr b="0" lang="el-GR" sz="2400" spc="-1" strike="noStrike">
                <a:solidFill>
                  <a:srgbClr val="009900"/>
                </a:solidFill>
                <a:latin typeface="Arial"/>
              </a:rPr>
              <a:t>:</a:t>
            </a:r>
            <a:r>
              <a:rPr b="0" lang="el-GR" sz="2400" spc="-1" strike="noStrike">
                <a:solidFill>
                  <a:srgbClr val="000000"/>
                </a:solidFill>
                <a:latin typeface="Arial"/>
              </a:rPr>
              <a:t> Υπάρχουν ευνοϊκές συνθήκες για παραγωγή επώνυμων προϊόντων-επιτραπέζια, οίνος- υψηλής ποιότητας. Η δημιουργία ενός </a:t>
            </a:r>
            <a:r>
              <a:rPr b="0" lang="en-US" sz="2400" spc="-1" strike="noStrike">
                <a:solidFill>
                  <a:srgbClr val="000000"/>
                </a:solidFill>
                <a:latin typeface="Arial"/>
              </a:rPr>
              <a:t>cluster</a:t>
            </a:r>
            <a:r>
              <a:rPr b="0" lang="el-GR" sz="2400" spc="-1" strike="noStrike">
                <a:solidFill>
                  <a:srgbClr val="000000"/>
                </a:solidFill>
                <a:latin typeface="Arial"/>
              </a:rPr>
              <a:t> μικρών οινοποιών θα εξασφαλίσει οικονομίες κλίμακας παντού.</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9900"/>
                </a:solidFill>
                <a:latin typeface="Arial"/>
              </a:rPr>
              <a:t>Δεντροκαλλιέργειες</a:t>
            </a:r>
            <a:r>
              <a:rPr b="0" lang="el-GR" sz="2400" spc="-1" strike="noStrike">
                <a:solidFill>
                  <a:srgbClr val="009900"/>
                </a:solidFill>
                <a:latin typeface="Arial"/>
              </a:rPr>
              <a:t>:</a:t>
            </a:r>
            <a:r>
              <a:rPr b="0" lang="el-GR" sz="2400" spc="-1" strike="noStrike">
                <a:solidFill>
                  <a:srgbClr val="000000"/>
                </a:solidFill>
                <a:latin typeface="Arial"/>
              </a:rPr>
              <a:t> Επιθυμητή η αύξηση των εκτάσεων τους με διαφοροποίηση ειδών και ποικιλιών για παραγωγή προϊόντων  πολύ υψηλής ποιότητας με παράλληλη δημιουργία καλών μονάδων τυποποίησης και συσκευασίας και χρήση έξυπνων εργαλείων εξαγωγικού μάρκετινγκ.</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1ECC19-D13A-4E76-A759-3627985CAE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endParaRPr b="0" lang="en-US" sz="2400" spc="-1" strike="noStrike">
              <a:solidFill>
                <a:srgbClr val="000000"/>
              </a:solidFill>
              <a:latin typeface="Arial"/>
            </a:endParaRPr>
          </a:p>
        </p:txBody>
      </p:sp>
      <p:sp>
        <p:nvSpPr>
          <p:cNvPr id="10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Ενεργειακές καλλιέργειες</a:t>
            </a:r>
            <a:r>
              <a:rPr b="0" lang="en-US" sz="2400" spc="-1" strike="noStrike">
                <a:solidFill>
                  <a:srgbClr val="009900"/>
                </a:solidFill>
                <a:latin typeface="Arial"/>
              </a:rPr>
              <a:t>:</a:t>
            </a:r>
            <a:r>
              <a:rPr b="0" lang="en-US" sz="2400" spc="-1" strike="noStrike">
                <a:solidFill>
                  <a:srgbClr val="000000"/>
                </a:solidFill>
                <a:latin typeface="Arial"/>
              </a:rPr>
              <a:t> Επιθυμητή η σταδιακή αύξηση των εκτάσεων τους με εισαγωγή τους σε ξερικά η οριακά εδάφη, πάντως το μέλλον τους εξαρτάται από την συγκριτική οικονομική ανταγωνιστικότητα τους.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Βοοτροφία</a:t>
            </a:r>
            <a:r>
              <a:rPr b="0" lang="en-US" sz="2400" spc="-1" strike="noStrike">
                <a:solidFill>
                  <a:srgbClr val="009900"/>
                </a:solidFill>
                <a:latin typeface="Arial"/>
              </a:rPr>
              <a:t>:</a:t>
            </a:r>
            <a:r>
              <a:rPr b="0" lang="en-US" sz="2400" spc="-1" strike="noStrike">
                <a:solidFill>
                  <a:srgbClr val="000000"/>
                </a:solidFill>
                <a:latin typeface="Arial"/>
              </a:rPr>
              <a:t> Επιθυμητή η σταδιακή αύξηση των μεγεθών, προς τη κατεύθυνση να αυξηθεί η γαλακτοπαραγωγός και η κρεωπαραγωγος κτηνοτροφία σε μορφή μικρομεσαίας επιχείρησης, ώστε να υπάρχουν οικονομίες κλίμακας παντού.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Αιγοπροβατοτροφία</a:t>
            </a:r>
            <a:r>
              <a:rPr b="0" lang="en-US" sz="2400" spc="-1" strike="noStrike">
                <a:solidFill>
                  <a:srgbClr val="009900"/>
                </a:solidFill>
                <a:latin typeface="Arial"/>
              </a:rPr>
              <a:t>:</a:t>
            </a:r>
            <a:r>
              <a:rPr b="0" lang="en-US" sz="2400" spc="-1" strike="noStrike">
                <a:solidFill>
                  <a:srgbClr val="000000"/>
                </a:solidFill>
                <a:latin typeface="Arial"/>
              </a:rPr>
              <a:t> Επιθυμητή η σταδιακή αύξηση των μεγεθών, η τουλάχιστον διατήρηση της σημερινής κατάστασης, με μετεξέλιξη της προς τη κατεύθυνση μικρομεσαίας επιχείρηση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8E2838-F6F0-4A11-ABC5-D00E33B6E0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ΣΤΙΑΣΜΕΝΗ ΠΡΟΪΟΝΤΙΚΗ ΠΡΟΣΕΓΓΙΣΗ ΤΗΣ ΑΝΑΠΤΥΞΗΣ</a:t>
            </a:r>
            <a:endParaRPr b="0" lang="en-US" sz="2400" spc="-1" strike="noStrike">
              <a:solidFill>
                <a:srgbClr val="000000"/>
              </a:solidFill>
              <a:latin typeface="Arial"/>
            </a:endParaRPr>
          </a:p>
        </p:txBody>
      </p:sp>
      <p:sp>
        <p:nvSpPr>
          <p:cNvPr id="10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Χοιροτροφία</a:t>
            </a:r>
            <a:r>
              <a:rPr b="0" lang="en-US" sz="2400" spc="-1" strike="noStrike">
                <a:solidFill>
                  <a:srgbClr val="009900"/>
                </a:solidFill>
                <a:latin typeface="Arial"/>
              </a:rPr>
              <a:t>:</a:t>
            </a:r>
            <a:r>
              <a:rPr b="0" lang="en-US" sz="2400" spc="-1" strike="noStrike">
                <a:solidFill>
                  <a:srgbClr val="000000"/>
                </a:solidFill>
                <a:latin typeface="Arial"/>
              </a:rPr>
              <a:t> Επιθυμητή η σταδιακή  εξέλιξη του κλάδου με αύξηση της παραγωγής, που όμως εξαρτάται από την αγορά, άρα απαιτούνται τα άριστα μικρομεσαία μεγέθη που να εξασφαλίζουν οικονομίες κλίμακας παντού.</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Ορνιθοτροφία</a:t>
            </a:r>
            <a:r>
              <a:rPr b="0" lang="en-US" sz="2400" spc="-1" strike="noStrike">
                <a:solidFill>
                  <a:srgbClr val="009900"/>
                </a:solidFill>
                <a:latin typeface="Arial"/>
              </a:rPr>
              <a:t>:</a:t>
            </a:r>
            <a:r>
              <a:rPr b="0" lang="en-US" sz="2400" spc="-1" strike="noStrike">
                <a:solidFill>
                  <a:srgbClr val="000000"/>
                </a:solidFill>
                <a:latin typeface="Arial"/>
              </a:rPr>
              <a:t> Επιθυμητή η σταδιακή  εξέλιξη του κλάδου με αύξηση της παραγωγής, που όμως εξαρτάται και εδώ από την αγορά, άρα απαιτούνται τα άριστα μικρομεσαία μεγέθη που να εξασφαλίζουν οικονομίες κλίμακας παντού</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Μελισσοκομία</a:t>
            </a:r>
            <a:r>
              <a:rPr b="0" lang="en-US" sz="2400" spc="-1" strike="noStrike">
                <a:solidFill>
                  <a:srgbClr val="000000"/>
                </a:solidFill>
                <a:latin typeface="Arial"/>
              </a:rPr>
              <a:t>: Υπάρχουν πολύ καλές προοπτικές,, απαιτούνται όμως συνεργασίες παντού για αντιμετώπιση του σκληρού, εγχώριου και εισαγόμενου, ανταγωνισμού</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7FDE26-ADA6-410D-BCA9-857FA2273D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Προτάσεις για αναβάθμιση της διαχείρισης συστημάτων αγροτικής παραγωγικής δομής</a:t>
            </a:r>
            <a:endParaRPr b="0" lang="en-US" sz="2400" spc="-1" strike="noStrike">
              <a:solidFill>
                <a:srgbClr val="000000"/>
              </a:solidFill>
              <a:latin typeface="Arial"/>
            </a:endParaRPr>
          </a:p>
        </p:txBody>
      </p:sp>
      <p:sp>
        <p:nvSpPr>
          <p:cNvPr id="106" name="PlaceHolder 2"/>
          <p:cNvSpPr>
            <a:spLocks noGrp="1"/>
          </p:cNvSpPr>
          <p:nvPr>
            <p:ph/>
          </p:nvPr>
        </p:nvSpPr>
        <p:spPr>
          <a:xfrm>
            <a:off x="250920" y="1844640"/>
            <a:ext cx="8642160" cy="41767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Προϊόντα πιστοποιημένα:</a:t>
            </a:r>
            <a:r>
              <a:rPr b="0" lang="en-US" sz="2400" spc="-1" strike="noStrike">
                <a:solidFill>
                  <a:srgbClr val="000000"/>
                </a:solidFill>
                <a:latin typeface="Arial"/>
              </a:rPr>
              <a:t> Πρέπει όλο και περισσότερα τοπικά προϊόντα να πιστοποιούνται ώστε να έχουμε αύξηση του αριθμού των προϊόντων ονομασίας προέλευσης (ΠΟΠ) και προϊόντων γεωγραφικής ένδειξης (ΠΓΕ), κλπ, για να διευρύνουν ευκολότερα τα μερίδια τους στις εγχώριες και διεθνείς  αγορές.</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Ολοκληρωμένη διαχείριση της παραγωγής</a:t>
            </a:r>
            <a:r>
              <a:rPr b="0" lang="en-US" sz="2400" spc="-1" strike="noStrike">
                <a:solidFill>
                  <a:srgbClr val="000000"/>
                </a:solidFill>
                <a:latin typeface="Arial"/>
              </a:rPr>
              <a:t>: Πρέπει να επικρατήσει η ολοκληρωμένη διαχείριση της παραγωγής όπου είναι εφικτό το συντομότερο, για να διευρύνουν τα έτσι παραγόμενα προϊόντα ευκολότερα τα μερίδια τους στις εγχώριες και διεθνείς αγορέ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C809D4-B16D-45B0-A9F8-F239C1FC8C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Προτάσεις για αναβάθμιση της διαχείρισης συστημάτων αγροτικής παραγωγικής δομής</a:t>
            </a:r>
            <a:endParaRPr b="0" lang="en-US" sz="2400" spc="-1" strike="noStrike">
              <a:solidFill>
                <a:srgbClr val="000000"/>
              </a:solidFill>
              <a:latin typeface="Arial"/>
            </a:endParaRPr>
          </a:p>
        </p:txBody>
      </p:sp>
      <p:sp>
        <p:nvSpPr>
          <p:cNvPr id="10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9900"/>
                </a:solidFill>
                <a:latin typeface="Arial"/>
              </a:rPr>
              <a:t>Βιολογική γεωργία:</a:t>
            </a:r>
            <a:r>
              <a:rPr b="0" lang="el-GR" sz="2400" spc="-1" strike="noStrike">
                <a:solidFill>
                  <a:srgbClr val="000000"/>
                </a:solidFill>
                <a:latin typeface="Arial"/>
              </a:rPr>
              <a:t> Άκρως επιθυμητή η σταδιακή αύξηση των παραγόμενων βιολογικά φυτικών, ζωικών, αλιευτικών και μεταποιημένων τροφίμων, μια που οι αγορές παγκόσμια αυξάνονται ετήσια με ρυθμούς άνω του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9900"/>
                </a:solidFill>
                <a:latin typeface="Arial"/>
              </a:rPr>
              <a:t>Άρδευση και υδάτινο δυναμικό</a:t>
            </a:r>
            <a:r>
              <a:rPr b="1" lang="el-GR" sz="2400" spc="-1" strike="noStrike">
                <a:solidFill>
                  <a:srgbClr val="000000"/>
                </a:solidFill>
                <a:latin typeface="Arial"/>
              </a:rPr>
              <a:t>: </a:t>
            </a:r>
            <a:r>
              <a:rPr b="0" lang="el-GR" sz="2400" spc="-1" strike="noStrike">
                <a:solidFill>
                  <a:srgbClr val="000000"/>
                </a:solidFill>
                <a:latin typeface="Arial"/>
              </a:rPr>
              <a:t>Πρέπει να γίνει ανασχεδιασμός της αρδευτικής πολιτικής στη περιφέρεια πρώτα για</a:t>
            </a:r>
            <a:r>
              <a:rPr b="1" lang="el-GR" sz="2400" spc="-1" strike="noStrike">
                <a:solidFill>
                  <a:srgbClr val="000000"/>
                </a:solidFill>
                <a:latin typeface="Arial"/>
              </a:rPr>
              <a:t> </a:t>
            </a:r>
            <a:r>
              <a:rPr b="0" lang="el-GR" sz="2400" spc="-1" strike="noStrike">
                <a:solidFill>
                  <a:srgbClr val="000000"/>
                </a:solidFill>
                <a:latin typeface="Arial"/>
              </a:rPr>
              <a:t>λογούς περιβαλλοντικούς-υφάλμυρωσης και σπατάλης-, δεύτερο για μείωση της συμμετοχής του κόστους άρδευσης, από το 13% περίπου επί του συνολικού παραγωγικού κόστους που είναι σήμερα,  στο 7-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7465AE-5913-4079-9C3D-5D3A705487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ιδικού χαρακτήρα ενέργειες βελτίωσης της συνολικής ανταγωνιστικότητας του τομέα</a:t>
            </a:r>
            <a:endParaRPr b="0" lang="en-US" sz="2400" spc="-1" strike="noStrike">
              <a:solidFill>
                <a:srgbClr val="000000"/>
              </a:solidFill>
              <a:latin typeface="Arial"/>
            </a:endParaRPr>
          </a:p>
        </p:txBody>
      </p:sp>
      <p:sp>
        <p:nvSpPr>
          <p:cNvPr id="110"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ρέπει το </a:t>
            </a:r>
            <a:r>
              <a:rPr b="1" lang="en-US" sz="2800" spc="-1" strike="noStrike">
                <a:solidFill>
                  <a:srgbClr val="000000"/>
                </a:solidFill>
                <a:latin typeface="Arial"/>
              </a:rPr>
              <a:t>σύστημα ενημερώσεων, πληροφόρησης</a:t>
            </a:r>
            <a:r>
              <a:rPr b="0" lang="en-US" sz="2800" spc="-1" strike="noStrike">
                <a:solidFill>
                  <a:srgbClr val="000000"/>
                </a:solidFill>
                <a:latin typeface="Arial"/>
              </a:rPr>
              <a:t> και οδηγιών-συστάσεων να εκσυγχρονισθεί και προσαρμοσθεί στα της διαδικτυακής εποχής. Είναι ανάγκη  να εφαρμόζονται παντού ορθές πρακτικές, στην παραγωγή προϊόντων με απλή η ολοκληρωμένη διαχείριση, ώστε τα ήδη καλά προϊόντα  να βελτιώσουν ακόμα περισσότερο την ποιότητά και τα χαρακτηριστικά τους.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3E1B68-C0BC-4638-9AFE-8237F8915D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ιδικού χαρακτήρα ενέργειες βελτίωσης της συνολικής ανταγωνιστικότητας του τομέα</a:t>
            </a:r>
            <a:endParaRPr b="0" lang="en-US" sz="2400" spc="-1" strike="noStrike">
              <a:solidFill>
                <a:srgbClr val="000000"/>
              </a:solidFill>
              <a:latin typeface="Arial"/>
            </a:endParaRPr>
          </a:p>
        </p:txBody>
      </p:sp>
      <p:sp>
        <p:nvSpPr>
          <p:cNvPr id="11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α πρέπει προβλεφθεί η χρηματοδότηση όλων εκείνων των αναγκαίων υποδομών που δίνουν υψηλή προστιθέμενη άξια  στο  προϊόν. </a:t>
            </a:r>
            <a:r>
              <a:rPr b="1" lang="en-US" sz="2800" spc="-1" strike="noStrike">
                <a:solidFill>
                  <a:srgbClr val="000000"/>
                </a:solidFill>
                <a:latin typeface="Arial"/>
              </a:rPr>
              <a:t>Διαλογητήρια, τυποποιητήρια, δημοπρατήρια, μεταποιητικές μονάδες, συσκευαστήρια</a:t>
            </a:r>
            <a:r>
              <a:rPr b="0" lang="en-US" sz="2800" spc="-1" strike="noStrike">
                <a:solidFill>
                  <a:srgbClr val="000000"/>
                </a:solidFill>
                <a:latin typeface="Arial"/>
              </a:rPr>
              <a:t> είναι εργαλεία που χρειάζονται. Βέβαια θα εφαρμοσθούν επιστημονικά τεχνοοικονομικά μοντέλα επιλογής των </a:t>
            </a:r>
            <a:r>
              <a:rPr b="1" lang="en-US" sz="1600" spc="-1" strike="noStrike">
                <a:solidFill>
                  <a:srgbClr val="009900"/>
                </a:solidFill>
                <a:latin typeface="Arial Black"/>
              </a:rPr>
              <a:t>ΑΡΙΣΤΩΝ ΜΙΚΡΟΤΕΡΩΝ ΜΕΓΕΘΩΝ ΤΩΝ ΑΝΩΤΕΡΩ ΥΠΟΔΟΜΩΝ</a:t>
            </a:r>
            <a:r>
              <a:rPr b="0" lang="en-US" sz="2800" spc="-1" strike="noStrike">
                <a:solidFill>
                  <a:srgbClr val="000000"/>
                </a:solidFill>
                <a:latin typeface="Arial"/>
              </a:rPr>
              <a:t>  ώστε να εξασφαλίζονται οικονομίες κλίμακας σε όλες τις λειτουργίες αλλά και να υπάρχει  το μικρότερο δυνατό χρηματοοικονομικό κόστος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834003C-3870-4986-831A-D53EB1B806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Ειδικού χαρακτήρα ενέργειες βελτίωσης της συνολικής ανταγωνιστικότητας του τομέα</a:t>
            </a:r>
            <a:endParaRPr b="0" lang="en-US" sz="2400" spc="-1" strike="noStrike">
              <a:solidFill>
                <a:srgbClr val="000000"/>
              </a:solidFill>
              <a:latin typeface="Arial"/>
            </a:endParaRPr>
          </a:p>
        </p:txBody>
      </p:sp>
      <p:sp>
        <p:nvSpPr>
          <p:cNvPr id="114"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νέργειες με σημαντικό βαθμό δυσκολίας αλλά με πολύ υψηλή μόχλευση, είναι οι δραστηριότητες </a:t>
            </a:r>
            <a:r>
              <a:rPr b="1" lang="el-GR" sz="2400" spc="-1" strike="noStrike">
                <a:solidFill>
                  <a:srgbClr val="000000"/>
                </a:solidFill>
                <a:latin typeface="Arial"/>
              </a:rPr>
              <a:t>έξυπνου και αποτελεσματικού μάρκετινγκ</a:t>
            </a:r>
            <a:r>
              <a:rPr b="0" lang="el-GR" sz="2400" spc="-1" strike="noStrike">
                <a:solidFill>
                  <a:srgbClr val="000000"/>
                </a:solidFill>
                <a:latin typeface="Arial"/>
              </a:rPr>
              <a:t>. Ίσως θα πρέπει όλα τα προϊόντα να πωλούνται κάτω από ενιαίο εμπορικό όνομα (</a:t>
            </a:r>
            <a:r>
              <a:rPr b="0" lang="en-US" sz="2400" spc="-1" strike="noStrike">
                <a:solidFill>
                  <a:srgbClr val="000000"/>
                </a:solidFill>
                <a:latin typeface="Arial"/>
              </a:rPr>
              <a:t>brandname</a:t>
            </a:r>
            <a:r>
              <a:rPr b="0" lang="el-GR" sz="2400" spc="-1" strike="noStrike">
                <a:solidFill>
                  <a:srgbClr val="000000"/>
                </a:solidFill>
                <a:latin typeface="Arial"/>
              </a:rPr>
              <a:t>) το οποίο θα πρέπει να υποστηριχθεί με καλή διαφημιστική καμπανιά ώστε να γίνει, στη συνείδηση των καταναλωτών, συνώνυμο της υψηλής ποιότητας. Η χρηματοδότηση τέτοιων μέτρων θα μπορούσε να  είναι από πολλές πηγές (πολυταμειακά, Ν.3908/11, </a:t>
            </a:r>
            <a:r>
              <a:rPr b="0" lang="en-US" sz="1400" spc="-1" strike="noStrike">
                <a:solidFill>
                  <a:srgbClr val="009900"/>
                </a:solidFill>
                <a:latin typeface="Arial Black"/>
              </a:rPr>
              <a:t>LEADER</a:t>
            </a:r>
            <a:r>
              <a:rPr b="0" lang="el-GR" sz="1400" spc="-1" strike="noStrike">
                <a:solidFill>
                  <a:srgbClr val="009900"/>
                </a:solidFill>
                <a:latin typeface="Arial Black"/>
              </a:rPr>
              <a:t>, ΟΠΑΧ, ΕΣΠΑ/ΑΝΤΑΓΩΝΙΣΤΙΚΟΤΗΤΑ, «Α. ΜΠΑΛΤΑΤΖΗΣ</a:t>
            </a:r>
            <a:r>
              <a:rPr b="0" lang="el-G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826DA98-037C-453C-AC2C-740FDAAE81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Άμεση προώθηση ειδικών υπερδομών και υποδομ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Ίδρυση </a:t>
            </a:r>
            <a:r>
              <a:rPr b="1" lang="en-US" sz="2400" spc="-1" strike="noStrike">
                <a:solidFill>
                  <a:srgbClr val="009900"/>
                </a:solidFill>
                <a:latin typeface="Arial"/>
              </a:rPr>
              <a:t>Παρατηρητηρίου Αγροδιατροφικών Προϊόντων</a:t>
            </a:r>
            <a:r>
              <a:rPr b="0" lang="en-US" sz="2400" spc="-1" strike="noStrike">
                <a:solidFill>
                  <a:srgbClr val="000000"/>
                </a:solidFill>
                <a:latin typeface="Arial"/>
              </a:rPr>
              <a:t> στα πλαίσια του Προγράμματος «</a:t>
            </a:r>
            <a:r>
              <a:rPr b="1" lang="en-US" sz="1600" spc="-1" strike="noStrike">
                <a:solidFill>
                  <a:srgbClr val="009900"/>
                </a:solidFill>
                <a:latin typeface="Arial Black"/>
              </a:rPr>
              <a:t>ΚΑΛΑΘΙ ΤΟΠΙΚΩΝ ΠΡΟΪΟΝΤΩΝ</a:t>
            </a:r>
            <a:r>
              <a:rPr b="0" lang="en-US" sz="2400" spc="-1" strike="noStrike">
                <a:solidFill>
                  <a:srgbClr val="000000"/>
                </a:solidFill>
                <a:latin typeface="Arial"/>
              </a:rPr>
              <a:t>» που θα στελεχωθεί από το υφιστάμενο προσωπικό με εμπειρία και βέβαια θα στεγαστεί σε υπάρχοντες χώρους της Π-ΑΜΘ. Σκοπός του να λειτουργήσει ως δεξαμενή καινοτόμων ιδεών –άρα και μεταφοράς τεχνογνωσίας και καλών πρακτικών- για ενίσχυση της συνολικής ανταγωνιστικότητας  των αγροδιατροφικών προϊόντων μας. Δηλαδή να παράγονται καλλίτερης ποιότητας, χαμηλότερου κόστους, να βρίσκονται αγορές για διεύρυνση της εξωστρέφειάς τους, να καταπολεμείται το παραεμπόριο με μοντέρνες τεχνικές ιχνηλασιμότητας, να γίνονται προτάσεις αναδιαρθρώσεων και ανασχεδιασμών με βάση τις διεθνείς τάσεις και εξελίξεις, κλπ.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31DBFAA-4092-4640-A1FB-35207A3E41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Black"/>
              </a:rPr>
              <a:t>Άμεση προώθηση ειδικών υπερδομών και υποδομών</a:t>
            </a:r>
            <a:endParaRPr b="0" lang="en-US" sz="2400" spc="-1" strike="noStrike">
              <a:solidFill>
                <a:srgbClr val="000000"/>
              </a:solidFill>
              <a:latin typeface="Arial"/>
            </a:endParaRPr>
          </a:p>
        </p:txBody>
      </p:sp>
      <p:sp>
        <p:nvSpPr>
          <p:cNvPr id="118" name="PlaceHolder 2"/>
          <p:cNvSpPr>
            <a:spLocks noGrp="1"/>
          </p:cNvSpPr>
          <p:nvPr>
            <p:ph/>
          </p:nvPr>
        </p:nvSpPr>
        <p:spPr>
          <a:xfrm>
            <a:off x="457200" y="1599840"/>
            <a:ext cx="8229600" cy="5141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ημιουργία  </a:t>
            </a:r>
            <a:r>
              <a:rPr b="1" lang="el-GR" sz="2400" spc="-1" strike="noStrike">
                <a:solidFill>
                  <a:srgbClr val="000000"/>
                </a:solidFill>
                <a:latin typeface="Arial"/>
              </a:rPr>
              <a:t>Δημοπρατηρίων Αγροδιατροφικών Προϊόντων</a:t>
            </a:r>
            <a:r>
              <a:rPr b="0" lang="el-GR" sz="2400" spc="-1" strike="noStrike">
                <a:solidFill>
                  <a:srgbClr val="000000"/>
                </a:solidFill>
                <a:latin typeface="Arial"/>
              </a:rPr>
              <a:t> (1-2) σε 2 θέσεις επιλεγμένες με επιστημονικά κριτήρια  χωροθέτησης. </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ροώθηση της </a:t>
            </a:r>
            <a:r>
              <a:rPr b="1" lang="el-GR" sz="2400" spc="-1" strike="noStrike">
                <a:solidFill>
                  <a:srgbClr val="000000"/>
                </a:solidFill>
                <a:latin typeface="Arial"/>
              </a:rPr>
              <a:t>αποδοτικής συνεργασίας παραγωγών</a:t>
            </a:r>
            <a:r>
              <a:rPr b="0" lang="el-GR" sz="2400" spc="-1" strike="noStrike">
                <a:solidFill>
                  <a:srgbClr val="000000"/>
                </a:solidFill>
                <a:latin typeface="Arial"/>
              </a:rPr>
              <a:t> με κοινά παραγωγικά ενδιαφέροντα ώστε να δημιουργηθούν δυνατές οικονομίες κλίμακας παντού. Προτείνουμε σε πρώτη φάση να διερευνηθούν οι δυνατότητες  συνεργασιών σε επίπεδο Περιφέρειας στα εξής:</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μάδες παραγωγών </a:t>
            </a:r>
            <a:r>
              <a:rPr b="1" lang="el-GR" sz="2000" spc="-1" strike="noStrike">
                <a:solidFill>
                  <a:srgbClr val="000000"/>
                </a:solidFill>
                <a:latin typeface="Arial"/>
              </a:rPr>
              <a:t>οπωροφόρων καλλιεργειών</a:t>
            </a:r>
            <a:r>
              <a:rPr b="0" lang="el-GR" sz="2000" spc="-1" strike="noStrike">
                <a:solidFill>
                  <a:srgbClr val="000000"/>
                </a:solidFill>
                <a:latin typeface="Arial"/>
              </a:rPr>
              <a:t> (κεράσια, αχλάδια, μήλα, κλπ)</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μάδες </a:t>
            </a:r>
            <a:r>
              <a:rPr b="1" lang="el-GR" sz="2000" spc="-1" strike="noStrike">
                <a:solidFill>
                  <a:srgbClr val="000000"/>
                </a:solidFill>
                <a:latin typeface="Arial"/>
              </a:rPr>
              <a:t>παραγωγών βιολογικών</a:t>
            </a:r>
            <a:r>
              <a:rPr b="0" lang="el-GR" sz="2000" spc="-1" strike="noStrike">
                <a:solidFill>
                  <a:srgbClr val="000000"/>
                </a:solidFill>
                <a:latin typeface="Arial"/>
              </a:rPr>
              <a:t> προϊόντω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μάδες παραγωγών </a:t>
            </a:r>
            <a:r>
              <a:rPr b="1" lang="el-GR" sz="2000" spc="-1" strike="noStrike">
                <a:solidFill>
                  <a:srgbClr val="000000"/>
                </a:solidFill>
                <a:latin typeface="Arial"/>
              </a:rPr>
              <a:t>νωπών λαχανικώ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a:t>
            </a:r>
            <a:r>
              <a:rPr b="1" lang="el-GR" sz="2000" spc="-1" strike="noStrike">
                <a:solidFill>
                  <a:srgbClr val="000000"/>
                </a:solidFill>
                <a:latin typeface="Arial"/>
              </a:rPr>
              <a:t> οινοποιείων</a:t>
            </a:r>
            <a:r>
              <a:rPr b="0" lang="el-G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126FA2-8142-43AD-B96C-FD2006FD29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Black"/>
              </a:rPr>
              <a:t>ΚΑΙ Η ΔΙΚΗ ΜΑΣ ΠΡΟΣΕΓΓΙΣΗ ΣΤΗΝ ΑΝΑΠΤΥΞΗ  ΤΟΥ ΠΡΩΤΟΓ. ΤΟΜΕΑ</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τη περιφέρεια της ΑΜΘ ο πρωτογενής τομέας συνεχίζει να κατέχει σημαντική θέση  από κάθε άποψη, οικονομική και κοινωνική. Εξακολουθεί να συμβάλει με ποσοστό 8,7% στο συνολικό ΑΕΠ της, να απασχολεί περίπου το 20% του ενεργού πληθυσμού, να συνεισφέρει σημαντικό ποσοστό α υλών στις βιομηχανίες τροφίμων, ποτών, κλωστοϋφαντουργίας, σιγαρέτων, κλπ, και βέβαια να συμμετέχει με ποσοστό 42% στις εξαγωγές της περιφέρειας, που όμως αθροιστικά είναι πάρα πολύ μικρές, μόνο το 14,6% της συνολικής πρωτογενούς παραγωγής.</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η τελευταία 10ετια το πραγματικό εισόδημα των αγροτών μας  έχει μειωθεί-όπως και στη λοιπή χώρα-κατά 17%, λόγω ανισορροπίας στη διαμόρφωση των τιμών εισροών και εκροών, αφού οι μεν τιμές των εισροών αυξήθηκαν κατά 34,5%, ενώ οι τιμές των πωλουμένων προϊόντων τους μειωθήκαν κατά 162%, σε μέσους όρους και σταθερές τιμές.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 άλλα λόγια,  είχαμε δραματική  επιδείνωση των όρων του εμπορίου των αγροτικών προϊόντων της περιφέρειας μας και ταυτόχρονα σημαντική μείωση της παραγωγικότητας ,άρα και της παραγόμενης προστιθέμενης αξίας και εισοδημάτων, κλπ.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A9A1F30-6AAA-43EE-B64D-20001EBF87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200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ΟΙΚΟΝΟΜΕΤΡΙΚΗ ΤΕΚΜΗΡΙΩΣΗ ΠΑΡΑΓΟΝΤΩΝ-ΠΑΡΑΜΕΤΡΩΝ ΠΟΥ ΣΥΜΒΑΛΟΥΝ ΣΤΗΝ ΑΓΡΟΤΙΚΗ ΑΝΑΠΤΥΞΗ ΤΗΣ  Π-ΑΜΘ ΓΙΑ ΝΑ ΛΗΦΘΟΥΝ ΥΠΟΨΗ ΣΤΟ ΣΤΡΑΤΗΓΙΚΟ ΣΧΕΔΙΑΣΜΟ</a:t>
            </a:r>
            <a:endParaRPr b="0" lang="en-US" sz="1800" spc="-1" strike="noStrike">
              <a:solidFill>
                <a:srgbClr val="000000"/>
              </a:solidFill>
              <a:latin typeface="Arial"/>
            </a:endParaRPr>
          </a:p>
        </p:txBody>
      </p:sp>
      <p:sp>
        <p:nvSpPr>
          <p:cNvPr id="120"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 τη συνάρτηση παραγωγής </a:t>
            </a:r>
            <a:r>
              <a:rPr b="1" lang="en-US" sz="2800" spc="-1" strike="noStrike">
                <a:solidFill>
                  <a:srgbClr val="009900"/>
                </a:solidFill>
                <a:latin typeface="Arial"/>
              </a:rPr>
              <a:t>Cobb</a:t>
            </a:r>
            <a:r>
              <a:rPr b="1" lang="el-GR" sz="2800" spc="-1" strike="noStrike">
                <a:solidFill>
                  <a:srgbClr val="009900"/>
                </a:solidFill>
                <a:latin typeface="Arial"/>
              </a:rPr>
              <a:t>-</a:t>
            </a:r>
            <a:r>
              <a:rPr b="1" lang="en-US" sz="2800" spc="-1" strike="noStrike">
                <a:solidFill>
                  <a:srgbClr val="009900"/>
                </a:solidFill>
                <a:latin typeface="Arial"/>
              </a:rPr>
              <a:t>Douglas</a:t>
            </a:r>
            <a:r>
              <a:rPr b="0" lang="el-GR" sz="2800" spc="-1" strike="noStrike">
                <a:solidFill>
                  <a:srgbClr val="000000"/>
                </a:solidFill>
                <a:latin typeface="Arial"/>
              </a:rPr>
              <a:t> διερευνήθηκαν οι παράγοντες – παράμετροι που επηρεάζουν την αγροτική ανάπτυξη εκφραζόμενη ως Συνολική Ακαθάριστη Αξία Παραγωγής </a:t>
            </a:r>
            <a:r>
              <a:rPr b="1" lang="el-GR" sz="2800" spc="-1" strike="noStrike">
                <a:solidFill>
                  <a:srgbClr val="000000"/>
                </a:solidFill>
                <a:latin typeface="Arial"/>
              </a:rPr>
              <a:t>(ΣΑΑΠ)</a:t>
            </a:r>
            <a:r>
              <a:rPr b="0" lang="el-GR" sz="2800" spc="-1" strike="noStrike">
                <a:solidFill>
                  <a:srgbClr val="000000"/>
                </a:solidFill>
                <a:latin typeface="Arial"/>
              </a:rPr>
              <a:t> και ως Ακαθάριστη Προστιθέμενη Αξία Παραγωγής (</a:t>
            </a:r>
            <a:r>
              <a:rPr b="1" lang="el-GR" sz="2800" spc="-1" strike="noStrike">
                <a:solidFill>
                  <a:srgbClr val="000000"/>
                </a:solidFill>
                <a:latin typeface="Arial"/>
              </a:rPr>
              <a:t>ΣΑΠΑΠ)</a:t>
            </a:r>
            <a:r>
              <a:rPr b="0" lang="el-GR" sz="2800" spc="-1" strike="noStrike">
                <a:solidFill>
                  <a:srgbClr val="000000"/>
                </a:solidFill>
                <a:latin typeface="Arial"/>
              </a:rPr>
              <a:t> που αποτελούν βέβαια και τις εξαρτημένες μεταβλητές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C84842-758F-4233-8AF6-4EA34BA6F0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rPr>
              <a:t>Εξαρτημένες μεταβλητές ως έκφραση εισοδηματική</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καθάριστη αξία παραγωγής</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καθάριστη προστιθέμενη αξία</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rPr>
              <a:t>Ανεξάρτητες μεταβλητές με γραμμικές μεταβολές και σταθερές αποδόσεις κλίμακα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γροτικός πληθυσμός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υνολικά καλλιεργούμενη έκταση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Συνολικά αρδευόμενη έκταση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ιάρθρωση καλλιεργειών εκφρασμένη σε ομάδες (σιτηρά, βαμβάκι, καπνός, τεύτλα, βιομηχ. τομάτα, κρέας, γάλα, οπωροκηπευτικ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Χρησιμοποιούμενος εξοπλισμός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Χρησιμοποιούμενη ενέργεια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όστος λοιπών εισροών (λιπάσματα, φάρμακα, κλπ</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ff0000"/>
                </a:solidFill>
                <a:latin typeface="Arial"/>
              </a:rPr>
              <a:t>*Τα στοιχεία προέρχονται από ΕΣΥΕ και ΥΠΑΑΤ</a:t>
            </a:r>
            <a:endParaRPr b="0" lang="en-US" sz="1600" spc="-1" strike="noStrike">
              <a:solidFill>
                <a:srgbClr val="000000"/>
              </a:solidFill>
              <a:latin typeface="Arial"/>
            </a:endParaRPr>
          </a:p>
        </p:txBody>
      </p:sp>
      <p:sp>
        <p:nvSpPr>
          <p:cNvPr id="122" name="PlaceHolder 2"/>
          <p:cNvSpPr>
            <a:spLocks noGrp="1"/>
          </p:cNvSpPr>
          <p:nvPr>
            <p:ph type="title"/>
          </p:nvPr>
        </p:nvSpPr>
        <p:spPr>
          <a:xfrm>
            <a:off x="468000" y="274320"/>
            <a:ext cx="8218440" cy="1353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ΟΙΚΟΝΟΜΕΤΡΙΚΗ ΤΕΚΜΗΡΙΩΣΗ ΠΑΡΑΓΟΝΤΩΝ-ΠΑΡΑΜΕΤΡΩΝ ΠΟΥ ΣΥΜΒΑΛΟΥΝ ΣΤΗΝ ΑΓΡΟΤΙΚΗ ΑΝΑΠΤΥΞΗ ΤΗΣ  Π-ΑΜΘ ΓΙΑ ΝΑ ΛΗΦΘΟΥΝ ΥΠΟΨΗ ΣΤΟ ΣΤΡΑΤΗΓΙΚΟ ΣΧΕΔΙΑΣΜΟ</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A70D63-00DB-483A-9796-EFD64A89A4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ΟΙΚΟΝΟΜΕΤΡΙΚΗ ΤΕΚΜΗΡΙΩΣΗ ΠΑΡΑΓΟΝΤΩΝ-ΠΑΡΑΜΕΤΡΩΝ ΠΟΥ ΣΥΜΒΑΛΟΥΝ ΣΤΗΝ ΑΓΡΟΤΙΚΗ ΑΝΑΠΤΥΞΗ ΤΗΣ  Π-ΑΜΘ ΓΙΑ ΝΑ ΛΗΦΘΟΥΝ ΥΠΟΨΗ ΣΤΟ ΣΤΡΑΤΗΓΙΚΟ ΣΧΕΔΙΑΣΜΟ</a:t>
            </a:r>
            <a:endParaRPr b="0" lang="en-US" sz="1600" spc="-1" strike="noStrike">
              <a:solidFill>
                <a:srgbClr val="000000"/>
              </a:solidFill>
              <a:latin typeface="Arial"/>
            </a:endParaRPr>
          </a:p>
        </p:txBody>
      </p:sp>
      <p:graphicFrame>
        <p:nvGraphicFramePr>
          <p:cNvPr id="124" name=""/>
          <p:cNvGraphicFramePr/>
          <p:nvPr/>
        </p:nvGraphicFramePr>
        <p:xfrm>
          <a:off x="457200" y="1600200"/>
          <a:ext cx="8229240" cy="4780800"/>
        </p:xfrm>
        <a:graphic>
          <a:graphicData uri="http://schemas.openxmlformats.org/drawingml/2006/table">
            <a:tbl>
              <a:tblPr/>
              <a:tblGrid>
                <a:gridCol w="5188320"/>
                <a:gridCol w="3040920"/>
              </a:tblGrid>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Παράγων συνεισφοράς στην αγροτική ανάπτυξ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Συνεισφορά επί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Λοιπές Εισροές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3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Διάρθρωση των Καλλιεργειών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2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Αρδευόμενες Εκτάσεις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Times New Roman"/>
                        </a:rPr>
                        <a:t>15,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Χρησιμοποιούμενος Εξοπλισμό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Χρησιμοποιούμενη Ενέργεια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Συνολικά  καλλιεργούμενη έκταση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Αγροτικός πληθυσμό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C91BFC5-66BE-4C92-8E68-4205790585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Black"/>
              </a:rPr>
              <a:t>Συμπερασματικά</a:t>
            </a:r>
            <a:endParaRPr b="0" lang="en-US" sz="3200" spc="-1" strike="noStrike">
              <a:solidFill>
                <a:srgbClr val="000000"/>
              </a:solidFill>
              <a:latin typeface="Arial"/>
            </a:endParaRPr>
          </a:p>
        </p:txBody>
      </p:sp>
      <p:sp>
        <p:nvSpPr>
          <p:cNvPr id="12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Από τα παραπάνω προκύπτει ότι θα πρέπει να στραφούν οι προσπάθειες προς 3 κατευθύνσεις:</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Πρώτον</a:t>
            </a:r>
            <a:r>
              <a:rPr b="0" lang="en-US" sz="2400" spc="-1" strike="noStrike">
                <a:solidFill>
                  <a:srgbClr val="000000"/>
                </a:solidFill>
                <a:latin typeface="Arial"/>
              </a:rPr>
              <a:t>, στην αριστοποίηση του μείγματος των εισροών , που σημάνει , </a:t>
            </a:r>
            <a:r>
              <a:rPr b="0" lang="en-US" sz="2400" spc="-1" strike="noStrike">
                <a:solidFill>
                  <a:srgbClr val="ff0000"/>
                </a:solidFill>
                <a:latin typeface="Arial"/>
              </a:rPr>
              <a:t>καινοτομίες παντού</a:t>
            </a:r>
            <a:r>
              <a:rPr b="0" lang="en-US" sz="2400" spc="-1" strike="noStrike">
                <a:solidFill>
                  <a:srgbClr val="000000"/>
                </a:solidFill>
                <a:latin typeface="Arial"/>
              </a:rPr>
              <a:t>.   Στους σπόρους, στα φάρμακα και λιπάσματα, σε καλλιεργητικές μεθόδους, σε οικονομίες κλίμακας σε όλες τις λειτουργίες μέσα από σύνθετες αλλά πολύ αποτελεσματικές </a:t>
            </a:r>
            <a:r>
              <a:rPr b="1" lang="en-US" sz="2400" spc="-1" strike="noStrike">
                <a:solidFill>
                  <a:srgbClr val="000000"/>
                </a:solidFill>
                <a:latin typeface="Arial"/>
              </a:rPr>
              <a:t>συνεργασίες, κ.λπ.</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εύτερο,</a:t>
            </a:r>
            <a:r>
              <a:rPr b="0" lang="en-US" sz="2400" spc="-1" strike="noStrike">
                <a:solidFill>
                  <a:srgbClr val="000000"/>
                </a:solidFill>
                <a:latin typeface="Arial"/>
              </a:rPr>
              <a:t>  η </a:t>
            </a:r>
            <a:r>
              <a:rPr b="0" lang="en-US" sz="2400" spc="-1" strike="noStrike">
                <a:solidFill>
                  <a:srgbClr val="ff0000"/>
                </a:solidFill>
                <a:latin typeface="Arial"/>
              </a:rPr>
              <a:t>αριστοποίηση της διάρθρωσης των καλλιεργειών</a:t>
            </a:r>
            <a:r>
              <a:rPr b="0" lang="en-US" sz="2400" spc="-1" strike="noStrike">
                <a:solidFill>
                  <a:srgbClr val="000000"/>
                </a:solidFill>
                <a:latin typeface="Arial"/>
              </a:rPr>
              <a:t> από άποψη τιμολογιακή, κοστολογική,  τοπικής προστιθέμενης αξίας  και μάρκετινγκ.</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Τρίτο</a:t>
            </a:r>
            <a:r>
              <a:rPr b="0" lang="en-US" sz="2400" spc="-1" strike="noStrike">
                <a:solidFill>
                  <a:srgbClr val="000000"/>
                </a:solidFill>
                <a:latin typeface="Arial"/>
              </a:rPr>
              <a:t>, στην  αριστοποίηση των </a:t>
            </a:r>
            <a:r>
              <a:rPr b="0" lang="en-US" sz="2400" spc="-1" strike="noStrike">
                <a:solidFill>
                  <a:srgbClr val="ff0000"/>
                </a:solidFill>
                <a:latin typeface="Arial"/>
              </a:rPr>
              <a:t>συστημάτων άρδευσης</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35C495-C27B-479C-BE65-B11EA1CF63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The least and the last</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Τελικά,  η έξυπνη στρατηγική για το πρωτογενή τομέα στη ΠΑΜΘ είναι </a:t>
            </a:r>
            <a:r>
              <a:rPr b="1" lang="en-US" sz="2800" spc="-1" strike="noStrike">
                <a:solidFill>
                  <a:srgbClr val="009900"/>
                </a:solidFill>
                <a:latin typeface="Arial"/>
              </a:rPr>
              <a:t>να κάνουμε στη περιφέρεια μας  την αναγκαία μεταστροφή σε ποιοτικά, βιολογικά, και πιστοποιημένα προϊόντα με συστηματικό και αποτελεσματικό τρόπο, ώστε να καλύπτουν τις ανάγκες των εγχώριων και παγκόσμιων αγορών</a:t>
            </a:r>
            <a:r>
              <a:rPr b="1" lang="en-US" sz="2800" spc="-1" strike="noStrike">
                <a:solidFill>
                  <a:srgbClr val="000000"/>
                </a:solidFill>
                <a:latin typeface="Arial"/>
              </a:rPr>
              <a:t>. Η εμμονή μας σε </a:t>
            </a:r>
            <a:r>
              <a:rPr b="1" lang="en-US" sz="2800" spc="-1" strike="noStrike">
                <a:solidFill>
                  <a:srgbClr val="ff0000"/>
                </a:solidFill>
                <a:latin typeface="Arial"/>
              </a:rPr>
              <a:t>μη εμπορεύσιμα αγροδιατροφικά προϊόντα δεν έχει κανένα μέλλον</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17FB18-0A05-46F7-90CB-9FD5E89501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Black"/>
              </a:rPr>
              <a:t>ΤΕΛΟΣ…ΤΕΛΟΣ</a:t>
            </a:r>
            <a:endParaRPr b="0" lang="en-US" sz="1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Black"/>
              </a:rPr>
              <a:t>ΣΑΣ ΕΥΧΑΡΙΣΤΩ ΓΙΑ ΤΟ ΧΡΟΝΟ ΠΟΥ ΔΙΑΘΕΣΑΤΕ ΜΕ ΚΑΤΑΝΟΗΣΗ</a:t>
            </a:r>
            <a:endParaRPr b="0" lang="en-US" sz="2400" spc="-1" strike="noStrike">
              <a:solidFill>
                <a:srgbClr val="000000"/>
              </a:solidFill>
              <a:latin typeface="Arial"/>
            </a:endParaRPr>
          </a:p>
        </p:txBody>
      </p:sp>
      <p:sp>
        <p:nvSpPr>
          <p:cNvPr id="131" name=""/>
          <p:cNvSpPr txBox="1"/>
          <p:nvPr/>
        </p:nvSpPr>
        <p:spPr>
          <a:xfrm>
            <a:off x="4043520" y="3146400"/>
            <a:ext cx="1056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ΤΕΛΟΣ</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 name="PlaceHolder 3"/>
          <p:cNvSpPr>
            <a:spLocks noGrp="1"/>
          </p:cNvSpPr>
          <p:nvPr>
            <p:ph type="sldNum" idx="3"/>
          </p:nvPr>
        </p:nvSpPr>
        <p:spPr/>
        <p:txBody>
          <a:bodyPr/>
          <a:p>
            <a:fld id="{E097C67A-2268-43E6-914E-8903F973FD75}"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ΒΑΣΙΚΑ ΠΡΟΒΛΗΜΑΤΑ-ΑΝΤΙΚΙΝΗΤΡΑ ΠΟΥ ΕΧΟΥΝ ΕΝΤΟΠΙΣΤΕΙ ΚΑΙ ΕΙΝΑΙ ΕΦΙΚΤΗ Η ΕΠΙΛΥΣΗ ΤΟΥΣ ΣΕ ΜΕΣΟΠΡΟΘΕΣΜΗ ΒΑΣΗ</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fontScale="99000"/>
          </a:bodyPr>
          <a:p>
            <a:pPr marL="376920" indent="-3769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Το μικρό και πολυτεμαχισμένο μέγεθος των εκμεταλλεύσεων, 52,5 στρέμματα σε 5,4 τεμάχια,  επιβαρύνει δυσανάλογα το κόστος παραγωγής, άνω του 15% πρόσθετο κόστος,  και θα επιλυθεί με τη διεύρυνση των αναδασμών.</a:t>
            </a:r>
            <a:endParaRPr b="0" lang="en-US" sz="2000" spc="-1" strike="noStrike">
              <a:solidFill>
                <a:srgbClr val="000000"/>
              </a:solidFill>
              <a:latin typeface="Arial"/>
            </a:endParaRPr>
          </a:p>
          <a:p>
            <a:pPr marL="376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Το μικρό ποσοστό αρδευόμενων γεωργικών εκτάσεων, περίπου το 58,5%, με πολύ υψηλό κόστος άρδευσης λόγω της κυριαρχίας των γεωτρήσεων που θα επιλυθεί μόνο με την  αποτελεσματική αξιοποίηση των υδάτινων πόρων με ταμιευτήρες και φράγματα.</a:t>
            </a: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Το μεγάλο ποσοστό παραγόμενων αγροτικών προϊόντων, άνω του 63%, που εξαρτώνται από τις επιδοτήσεις και  μπορεί να  επιλυθεί μόνο με την ορθολογική αναδιάρθρωση των καλλιεργειών προς προϊόντα που ζητάνε οι αγορές. Ακόμη και η παραγωγή βιολογικών προϊόντων και προϊόντων ολοκληρωμένης διαχείρισης είναι υπερβολικά χαμηλή, λιγότερο του 5%, παρόλο που  το εδαφοκλιματικο περιβάλλον είναι πολύ κατάλληλο.</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589EE8E-8C65-4A18-9148-49607ECE6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ΒΑΣΙΚΑ ΠΡΟΒΛΗΜΑΤΑ-ΑΝΤΙΚΙΝΗΤΡΑ ΠΟΥ ΕΧΟΥΝ ΕΝΤΟΠΙΣΤΕΙ ΚΑΙ ΕΙΝΑΙ ΕΦΙΚΤΗ Η ΕΠΙΛΥΣΗ ΤΟΥΣ ΣΕ ΜΕΣΟΠΡΟΘΕΣΜΗ ΒΑΣΗ (ΣΥΝΕΧΕΙΑ</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52" name="PlaceHolder 2"/>
          <p:cNvSpPr>
            <a:spLocks noGrp="1"/>
          </p:cNvSpPr>
          <p:nvPr>
            <p:ph/>
          </p:nvPr>
        </p:nvSpPr>
        <p:spPr>
          <a:xfrm>
            <a:off x="457200" y="1889280"/>
            <a:ext cx="8229600" cy="3916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Ο χαμηλός βαθμός αξιοποίησης του αγροτικού εξοπλισμού που επιβαρύνει το μοναδιαίο κόστος παραγωγής </a:t>
            </a:r>
            <a:r>
              <a:rPr b="1" lang="en-US" sz="2000" spc="-1" strike="noStrike">
                <a:solidFill>
                  <a:srgbClr val="000000"/>
                </a:solidFill>
                <a:latin typeface="Arial"/>
              </a:rPr>
              <a:t>κατά 28%</a:t>
            </a:r>
            <a:r>
              <a:rPr b="0" lang="en-US" sz="2000" spc="-1" strike="noStrike">
                <a:solidFill>
                  <a:srgbClr val="000000"/>
                </a:solidFill>
                <a:latin typeface="Arial"/>
              </a:rPr>
              <a:t> περίπου ελλείψει οικονομιών κλίμακας, θα επιλυθεί μόνο με αλλαγή νοοτροπίας  των αγροτών μας και την αναδιάρθρωση των καλλιεργειώ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Η διασύνδεση πρωτογενούς αγροτικής παραγωγής με τη τοπική μεταποίηση και εμπορία είναι μικρή, </a:t>
            </a:r>
            <a:r>
              <a:rPr b="1" lang="en-US" sz="2000" spc="-1" strike="noStrike">
                <a:solidFill>
                  <a:srgbClr val="000000"/>
                </a:solidFill>
                <a:latin typeface="Arial"/>
              </a:rPr>
              <a:t>είναι περίπου 21%.</a:t>
            </a:r>
            <a:r>
              <a:rPr b="0" lang="en-US" sz="2000" spc="-1" strike="noStrike">
                <a:solidFill>
                  <a:srgbClr val="000000"/>
                </a:solidFill>
                <a:latin typeface="Arial"/>
              </a:rPr>
              <a:t> Αυτό σημαίνει ότι  δεν παράγεται μεγάλη τοπική προστιθέμενη αξία, άρα και θέσεις εργασίας και εισοδήματα. Όμως υπάρχουν καλές προοπτικές προς την κατεύθυνση αυτή-γεωγραφική θέση και εμπειρία από τις  συνεταιριστικές μονάδες της Ξάνθης - και θα πρέπει να αξιοποιηθούν ως συγκριτικά και ανταγωνιστικά πλεονεκτήματα της περιφέρειας μα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853E6D1-C6CD-42B9-9ED7-4C66E9A0A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ΒΑΣΙΚΑ ΠΡΟΒΛΗΜΑΤΑ-ΑΝΤΙΚΙΝΗΤΡΑ ΠΟΥ ΕΧΟΥΝ ΕΝΤΟΠΙΣΤΕΙ ΚΑΙ ΕΙΝΑΙ ΕΦΙΚΤΗ Η ΕΠΙΛΥΣΗ ΤΟΥΣ ΣΕ ΜΕΣΟΠΡΟΘΕΣΜΗ ΒΑΣΗ (ΣΥΝΕΧΕΙΑ)</a:t>
            </a:r>
            <a:endParaRPr b="0" lang="en-US" sz="1600" spc="-1" strike="noStrike">
              <a:solidFill>
                <a:srgbClr val="000000"/>
              </a:solidFill>
              <a:latin typeface="Arial"/>
            </a:endParaRPr>
          </a:p>
        </p:txBody>
      </p:sp>
      <p:sp>
        <p:nvSpPr>
          <p:cNvPr id="54"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Η </a:t>
            </a:r>
            <a:r>
              <a:rPr b="1" lang="en-US" sz="2000" spc="-1" strike="noStrike">
                <a:solidFill>
                  <a:srgbClr val="000000"/>
                </a:solidFill>
                <a:latin typeface="Arial"/>
              </a:rPr>
              <a:t>ελκυστικότητα της περιφέρειας μας σε επενδύσεις έντασης πρώτων υλών συνδεδεμένων με το τόπο παραγωγής</a:t>
            </a:r>
            <a:r>
              <a:rPr b="0" lang="en-US" sz="2000" spc="-1" strike="noStrike">
                <a:solidFill>
                  <a:srgbClr val="000000"/>
                </a:solidFill>
                <a:latin typeface="Arial"/>
              </a:rPr>
              <a:t>, δηλαδή βιομηχανίες τροφίμων-ποτών,  είναι πολύ χαμηλή και η προσέλκυση νέων είναι  ένας εφικτός στόχος . Τα αντικίνητρα είναι αρκετά, έλλειψη καινοτομιών στη διαχείριση της πρωτογενούς παραγωγής και στο μάρκετινγκ, ακριβές α ύλες,, ανυπαρξία συμβολαιακής γεωργίας, γραφειοκρατικά εμπόδια, κλπ, όλα αυτά όμως πρέπει να εκλείψουν.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Η αξιοποίηση των </a:t>
            </a:r>
            <a:r>
              <a:rPr b="1" lang="en-US" sz="2000" spc="-1" strike="noStrike">
                <a:solidFill>
                  <a:srgbClr val="000000"/>
                </a:solidFill>
                <a:latin typeface="Arial"/>
              </a:rPr>
              <a:t>αλιευτικών μας πεδίων</a:t>
            </a:r>
            <a:r>
              <a:rPr b="0" lang="en-US" sz="2000" spc="-1" strike="noStrike">
                <a:solidFill>
                  <a:srgbClr val="000000"/>
                </a:solidFill>
                <a:latin typeface="Arial"/>
              </a:rPr>
              <a:t>  γίνεται με μεθόδους που δε συντελούν στην ισορροπία της αναπαραγωγής και αλιευσης. Το ίδιο συμβαίνει και με τις ιχθυοκαλλιέργειες θαλάσσιων και εσωτερικών υδάτων. Οι δυνατότητες είναι σημαντικές και θα αξιοποιηθούν όχι μόνο μέσω αναγκαίων αλλά και καινοτόμων δράσεων.</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B06E4EA-448D-49E5-B68A-CD8F68738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ΒΑΣΙΚΑ ΠΡΟΒΛΗΜΑΤΑ-ΑΝΤΙΚΙΝΗΤΡΑ ΠΟΥ ΕΧΟΥΝ ΕΝΤΟΠΙΣΤΕΙ ΚΑΙ ΕΙΝΑΙ ΕΦΙΚΤΗ Η ΕΠΙΛΥΣΗ ΤΟΥΣ ΣΕ ΜΕΣΟΠΡΟΘΕΣΜΗ ΒΑΣΗ (ΣΥΝΕΧΕΙΑ</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6" name="PlaceHolder 2"/>
          <p:cNvSpPr>
            <a:spLocks noGrp="1"/>
          </p:cNvSpPr>
          <p:nvPr>
            <p:ph/>
          </p:nvPr>
        </p:nvSpPr>
        <p:spPr>
          <a:xfrm>
            <a:off x="457200" y="2274480"/>
            <a:ext cx="8229600" cy="324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Η σχεδόν μηδαμινή αξιοποίηση των πλούσιων </a:t>
            </a:r>
            <a:r>
              <a:rPr b="1" lang="en-US" sz="2000" spc="-1" strike="noStrike">
                <a:solidFill>
                  <a:srgbClr val="000000"/>
                </a:solidFill>
                <a:latin typeface="Arial"/>
              </a:rPr>
              <a:t>γεωθερμικών πεδίων  </a:t>
            </a:r>
            <a:r>
              <a:rPr b="0" lang="en-US" sz="2000" spc="-1" strike="noStrike">
                <a:solidFill>
                  <a:srgbClr val="000000"/>
                </a:solidFill>
                <a:latin typeface="Arial"/>
              </a:rPr>
              <a:t>που είναι άμεσα εκμεταλλεύσιμα. Μέσω της αξιοποίησης τους θα μπορούσε να διευρυνθεί η παραγωγή κηπευτικών μεγάλης άξιας εκτός εποχής, οι ιχθυοκαλλιέργειες, και ο αγροτουρισμος υψηλών δυνατοτήτω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Οι σχεδόν </a:t>
            </a:r>
            <a:r>
              <a:rPr b="1" lang="en-US" sz="2000" spc="-1" strike="noStrike">
                <a:solidFill>
                  <a:srgbClr val="000000"/>
                </a:solidFill>
                <a:latin typeface="Arial"/>
              </a:rPr>
              <a:t>αναξιοποίητες ερευνητικές δομές</a:t>
            </a:r>
            <a:r>
              <a:rPr b="0" lang="en-US" sz="2000" spc="-1" strike="noStrike">
                <a:solidFill>
                  <a:srgbClr val="000000"/>
                </a:solidFill>
                <a:latin typeface="Arial"/>
              </a:rPr>
              <a:t> και υποδομές της περιφέρειας   που σχετίζονται με την καινοτόμα και ανταγωνιστική γεωργία είναι είτε απαξιωμένες, είτε αξιοποιούνται σε μικρό βαθμό. Και όμως αυτές μπορούν να  στηρίξουν τη παραγωγή ποιοτικών, ασφαλών και εύγευστων προϊόντων που ζητάνε οι διεθνείς αγορές και πληρώνουν υψηλότερες τιμές.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DC9318-452E-40C6-9CBA-F128ED7265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Black"/>
              </a:rPr>
              <a:t>ΒΑΣΙΚΑ ΠΡΟΒΛΗΜΑΤΑ-ΑΝΤΙΚΙΝΗΤΡΑ ΠΟΥ ΕΧΟΥΝ ΕΝΤΟΠΙΣΤΕΙ ΚΑΙ ΕΙΝΑΙ ΕΦΙΚΤΗ Η ΕΠΙΛΥΣΗ ΤΟΥΣ ΣΕ ΜΕΣΟΠΡΟΘΕΣΜΗ ΒΑΣΗ (ΣΥΝΕΧΕΙΑ</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Το μη ικανοποιητικό επίπεδο </a:t>
            </a:r>
            <a:r>
              <a:rPr b="1" lang="en-US" sz="2000" spc="-1" strike="noStrike">
                <a:solidFill>
                  <a:srgbClr val="000000"/>
                </a:solidFill>
                <a:latin typeface="Arial"/>
              </a:rPr>
              <a:t>επαγγελματικής κατάρτισης</a:t>
            </a:r>
            <a:r>
              <a:rPr b="0" lang="en-US" sz="2000" spc="-1" strike="noStrike">
                <a:solidFill>
                  <a:srgbClr val="000000"/>
                </a:solidFill>
                <a:latin typeface="Arial"/>
              </a:rPr>
              <a:t> των αγροτών που σχετίζεται με διάφορους κοινωνικούς λόγους, έχει δυσμενείς επιπτώσεις στη εφαρμογή καινοτόμων μεθόδων στο χωράφι, στη διαλογή στη συσκευασία και στο εμπόριο. Καλή κατάρτιση σημαίνει ότι μπορούμε να έχουμε  βελτίωση της ποιότητας, παραγωγικότητας και της συνολικής ανταγωνιστικότητας του τομέ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Η ανεπάρκεια των συνεταιριστικών οργανώσεων να στηρίξουν αποτελεσματικά  τα μέλη τους, κύρια μετά τη συγκομιδή, στα επόμενα στάδια της διάθεσης των προϊόντων σε ικανοποιητικές τιμέ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B761B5-9AA6-4F60-AFE3-AF3A37A0D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09:39:59Z</dcterms:created>
  <dc:creator> </dc:creator>
  <dc:description/>
  <dc:language>en-US</dc:language>
  <cp:lastModifiedBy> </cp:lastModifiedBy>
  <dcterms:modified xsi:type="dcterms:W3CDTF">2011-12-05T09:28:19Z</dcterms:modified>
  <cp:revision>35</cp:revision>
  <dc:subject/>
  <dc:title>ΣΤΡΑΤΗΓΙΚΗ ΓΙΑ ΤΗΝ ΑΓΡΟΤΙΚΗ ΑΝΑΠΤΥΞΗ ΣΤΗΝ ΠΑΜΘ</dc:title>
</cp:coreProperties>
</file>