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AD1A-3DB0-45B1-BCB2-4512C6CAD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1186-508A-4B11-987B-385EF000DA7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A6946-0C7C-45CB-AB4C-1EBFF30510A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0EAFB-CFEA-47F8-BD3D-18C5CDA390B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E8AAD-2EE1-4A62-88FE-D8809BD82B6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57F33-9682-412A-8799-84B0F4E1D70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70A27-67F4-4FCE-A1C0-10D0CA640A8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E1396-7B10-4286-B0FA-6AA0B55C411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2994B-4298-4349-9987-1BA594900E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CCC5B-13FE-4636-8D26-6A3B89525F0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DE9B9-93AF-4F8B-B76F-3AE4BDF99CC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30A95-6F38-4B13-9BD9-C5265F32C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3996-7677-4D77-AC52-6A5B1567E52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6606C-4DA2-4572-8BFF-4DCCDEE24F9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2DBD7-818F-4FC8-9A4E-4A1C2A8A1C6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9F77E-8444-4CA3-81F1-921B75185D4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F51339-9C77-4E09-8073-218C16EA4B1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89815-73A2-4393-8337-301C0A89894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E51CAC-A932-4268-A7C1-2C10382EC22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78DA6-7E8B-4AD8-A56F-ADF340755B4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400EC-4FE1-4DE6-9795-1BE73D32B3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90BED-597F-4A80-8A6F-5FC5E56D6E7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E9521-DB80-4101-A25B-4911D1921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4AA1-CD37-4A60-88B3-C91F6CA3E36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FBDA7-34F1-4231-B176-13F36AE470B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8DA012-C144-4E0F-9600-D559C463347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71CB2B-B636-4DBF-ABAF-0F3AFEE004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AC5152-A6F0-454F-B595-A1623AD544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CFED5E-AA0D-4207-899B-5F2AD9A9922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3617C9-2017-45FC-9BBD-335C69F4FCD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8DF15A-8114-4D57-8464-E62E005AC9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097E29-35E0-4444-A673-0A145711B20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372415-39AC-45D9-829A-3BDD811561F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EE66A0-F2EE-4C48-AC42-B442ED80E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588BF-2C46-4D44-83D3-5BB592B0318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D09AA4-309D-457A-803F-25CA37A4A29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9DE665-FFB2-4B6C-9C50-AB2CD2A2738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AC4EBF-D84D-46A6-81DE-E9381C83CB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5FD9B-D1D1-4C51-A302-C15A979BE72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0DFFA-2F04-403C-8DF1-7E70FF086E6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DB86-15C1-4C37-BCAB-C88A8BA22BF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16ED7-D43D-4BFE-8157-C48126EFE65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1368C-2232-444D-B0B8-106E13853BC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9ABD2-9437-4590-A21D-34254BC3E13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9FA42-3B08-4818-95C7-88A252C535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E1119-B621-4074-92EF-FA65674E551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5668A-B4F1-458E-8EFA-C352DF23B95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E0FA2-97C0-4461-9C84-3A278D5E856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8CC4-8C6F-403F-BBCB-44ECCEB77CD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D84D4-572F-4C12-BF17-1C67D205FEF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0F8F7-7B11-41E5-8730-54F39604A0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EDF42-2481-429A-AE35-DA0D7A4F79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CB825-26CE-4CE7-9B54-0EB16DD512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C76D2-249E-42DD-9690-823EE912FD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6E73D-CB06-4172-94F1-8105574150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9FC48-3959-4776-8411-7D9EEF6374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08D3A-146B-45E1-B355-6410E81E7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3EAE0-B615-42AD-B39C-AD438F8ED6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1BC54-BEB9-466E-9E51-A33C57C1A0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F9FA9-8BA3-4B26-B4C4-CC00006B5A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B2163-EA4E-4FDB-910A-5AA430CD46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182B3-AD56-48FA-89AC-51E426770C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CF31-CEF8-4A06-A3C7-2910EAEEA5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18E2-96A4-412E-8345-8B76AA1FCD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971C-97C3-4EE4-BE23-AF5F8A9D83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E2D7-BC91-4225-B0A5-3361FCB0AA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8634-0132-4217-8B47-7C9409883C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5266-3D94-4775-ADAE-2C26776982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A27D-8ADA-499E-8A08-816CE75739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9C2C-C4F2-48F4-8EF1-0997F63F53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535B-D61B-4481-97E3-80EF37B29F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B4D9-8C79-4928-B3E2-382347BF97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D2F9-AEE5-47C7-9FA6-9226BABE49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BFB6-8D25-4F79-B351-E9EF92B817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FA94-8B7A-42B2-8A50-B2EE4C413B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5EC22-2E5E-437A-A02B-575D3F02F8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D2C68-2CA1-40F5-A0D6-DA1DD373A9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05E64-63E3-424E-AA1F-C19D73402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631B-4399-4BCE-9E0E-6A9AC398BB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83F9A-3415-44D9-BF58-931AEC0874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41FB9-B4D7-4F27-845B-E5985314CB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E5D71-2E3B-4FB0-81AE-160B51760E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06FAC-C0DB-44D0-8C2F-836A171255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21155-50A8-4871-B7C6-FD021E4234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6BD31-5C89-4010-9829-0FEC58DE15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48676-B46B-4316-B9DE-7462F958D9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7DF1C-C52F-437F-9992-07E3AC8945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29E30-02BF-48A1-9AA4-0733AA09E99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92F70-031A-46AD-809D-9C6A715FA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1205-0716-43B9-9D63-A1F77F0444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2A6CF-24E9-4141-AFC1-759F9276665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AC730D-DF0C-4576-85BE-4FC5564670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2E1E5A-85FA-4078-9D6A-C368115152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ED30E-50EE-4DCD-8290-E2D81878D0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80BA3-12BE-4BDD-A9AA-CF7DBFC6A8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0987F-28A8-499F-89DB-1B7C3CF05C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557B42-D980-4D8E-9A05-CC624010872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E3D8E3-37ED-4C3D-91C3-6618842555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66DDE-5609-481E-95FD-1F2A2AAF325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69D01-564C-4F35-9D57-A5622AF1D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E354-B8E0-45CE-94D9-0EF086DCC3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64E6B-D630-449E-A808-2A81A8F4E76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84102-479A-4D91-B609-4A5128CAB98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0A4C3-3B8B-4E51-9393-1C337DC43B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1CE0E-95A4-484C-8A6F-C4BA825764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5A634-25BC-4C89-8660-60EDF30250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ECBE-52C4-4127-8791-D358CF3D3EB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E1F6-E678-4E34-9E1E-B5EBDF931C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2D6CD-92B4-48AD-89E1-D4684327FE3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A3BD2-E50D-4504-85EF-B465F60145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0A0F-E9E2-4EE4-BF8C-59A75C10E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6198-5F62-40F0-BDBE-6147C77CA24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34A4-36AF-4801-A1F8-6ADD382456E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EDA3-EC2F-4A88-B615-F49E66E2FF4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1E812-E0AB-42B8-AF34-2BAE8C827D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FF924-F120-481F-A3CD-15762E80BA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2383F-1A01-46CE-AE68-10BB9985C0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35F9F-6052-4392-AFD8-7B1BD658D6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24276-9BD0-4304-A792-41166FB613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27E94-EAE1-407F-9F20-CD9FC1533CA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BFB25-6927-4FBB-A13C-548B704B2A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79DCC-A073-48B5-B162-D4A841FA3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8965-C52F-4DD7-AC92-69C085142B1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31625-6B4F-4400-8309-998DC6143B3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E2143-D09B-4AAA-87F4-2679F7E01A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7F286-78A4-459F-8452-0DD6AF51A55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B3455-D9DE-4B59-A47F-FD9D534C0B2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E1D29-5287-41C3-AEF3-B1244649D8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D6F384-6FCE-4735-BA9B-A24FF30ED8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1702A8-3799-450F-9BD3-273F1A34014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380A43-E370-4EA4-827B-699FBDDEAA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B909BE-957C-433E-8564-29A0752157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BB694-83E8-4611-98D0-E28B566D7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288B-8E74-4AB9-AB5F-7776494F5F9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357449-0B69-4452-BE36-95C4D58D65B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FE6B8-CDF4-4C30-B2DA-050F21CD819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BF83E3-56C8-4E02-828B-43211D41BF7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007264-01DC-4B75-A230-64737A2E996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1D0C5B-EB07-4B86-88B2-FA73265D05A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C145A7-F8C6-4BAC-80FC-A0108970216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55375E-C961-486C-9A4F-07269F26E85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94C6B-5D2E-4E40-BC3B-0D902F0C54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E75ED-82C2-42B8-A5BE-B4BA0D0713A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6A776-475A-4FA3-9847-80D443038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8729-0547-4FAC-B904-FDCF7E20C0C8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fld id="{09ACAE9B-DCBE-4E7C-9329-0065D81F9686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A6C2-5DE6-4F93-9D7A-FF6E23DDFDA2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BAB4-2FD9-4DD6-8125-225262F12BEB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C556-0E13-4586-80CB-D73C1400B67E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836E-1B06-4C3B-8B22-0071EAD03E56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904F-7F98-40EC-A005-C225928BE5EB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085E-9E5B-4E90-A039-ED5656440923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E7D1-09BC-49D9-AEEA-2E6A32814FE5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BE9B-EAF2-4A3A-8905-A96FC852DBED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9982-5CFB-45B7-83EB-1A80F67295C1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B044-063A-41D7-998C-F402C589B308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8 - Εικόνα" descr="GR_logo_left_darkblue.png"/>
          <p:cNvPicPr/>
          <p:nvPr/>
        </p:nvPicPr>
        <p:blipFill>
          <a:blip r:embed="rId2"/>
          <a:stretch/>
        </p:blipFill>
        <p:spPr>
          <a:xfrm>
            <a:off x="65160" y="6093000"/>
            <a:ext cx="2778120" cy="712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C14D-22DC-4682-8047-777B8324218A}" type="slidenum">
              <a:rPr b="0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86920" y="1671480"/>
            <a:ext cx="6985080" cy="1470240"/>
          </a:xfrm>
          <a:prstGeom prst="rect">
            <a:avLst/>
          </a:prstGeom>
          <a:solidFill>
            <a:srgbClr val="19194d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Περιφερειακή ανάπτυξη και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800"/>
            </a:b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σύγχρονα χρηματοδοτικά εργαλεία </a:t>
            </a:r>
            <a:br>
              <a:rPr sz="2800"/>
            </a:b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για στήριξη της επιχειρηματικότητα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4000" y="3476160"/>
            <a:ext cx="7559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9194d"/>
                </a:solidFill>
                <a:latin typeface="Calibri"/>
              </a:rPr>
              <a:t>Κουτουλάκης Μανώλη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19194d"/>
                </a:solidFill>
                <a:latin typeface="Calibri"/>
              </a:rPr>
              <a:t>Σύμβουλος Υπουργείου Ανάπτυξης, Ανταγωνιστικότητας και Ναυτιλίας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19194d"/>
                </a:solidFill>
                <a:latin typeface="Calibri"/>
              </a:rPr>
              <a:t>ΓΕΝΙΚΗ ΓΡΑΜΜΑΤΕΙΑ ΕΠΕΝΔΥΣΕΩΝ ΚΑΙ ΑΝΑΠΤΥΞΗΣ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635280" y="5300640"/>
            <a:ext cx="446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19194d"/>
                </a:solidFill>
                <a:latin typeface="Arial"/>
              </a:rPr>
              <a:t>Διημερίδα για τον αναπτυξιακό σχεδιασμό της Δράμα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19194d"/>
                </a:solidFill>
                <a:latin typeface="Arial"/>
              </a:rPr>
              <a:t>Δράμα, 05.12.20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170172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Νέος επενδυτικός νόμος (Ν. 3908/11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«One Stop Shop» Επιχείρηση σε μία ημέρα, σε ένα σημείο και στο μισό κόστο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Νέο σύστημα αδειοδοτήσεων για μεταποίηση και τεχνικά επαγγέλματα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Νέο πλαίσιο για επιχειρηματικά πάρκα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iendly Greece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» Δημιουργία θεσμικού πλαισίου άρσης 70 εμποδίων για το επιχειρεί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ast Track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Arial"/>
              </a:rPr>
              <a:t>» (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Ν. 3894/10) περί της «Επιτάχυνσης και διαφάνειας υλοποίησης Στρατηγικών Επενδύσεων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Θεσμικές αλλαγέ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601560" y="980640"/>
            <a:ext cx="728352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201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γκρίθηκαν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.341 νέα επενδυτικά σχεδί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5.373 νέες θέσεις εργασία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,7 δις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€ σ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υνολικός Π/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,5 δις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σε ε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ισχύσει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Χρηματοδοτήθηκαν επενδύσεις με 920 εκ.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€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Το 2011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γκρίθηκαν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.356 νέα επενδυτικά σχεδί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.566 νέες θέσεις εργασία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3,4 δις ευρώ συνολικός Π/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1,3 δις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σε ενισχύσει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έχρι και σήμερα έχουν χρηματοδοτηθεί επενδύσεις με 980 εκ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€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Έως το τέλος του έτους πάνω από 1,2 δις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95280" y="4428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Πορεία υλοποίησης του Ν. 3299/0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4 - Εικόνα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700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Ο νέος επενδυτικός Νόμο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.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3908/1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Βασικά χαρακτηριστικά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36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Ο νέος Επενδυτικός Νόμος προβλέπει 3 Γενικά και 4 ειδικά Καθεστώτα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 - Γενικά καθεστώτα επενδύσεων: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1. Γενικής Επιχειρηματικότητα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2. Τεχνολογικής Ανάπτυξη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3. Περιφερειακής Συνοχή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Β - Ειδικά καθεστώτα επενδύσεων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1. Επιχειρηματικότητας των Νέω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2. Μεγάλων Επενδυτικών Σχεδίω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3. Ολοκληρωμένων  Πολυετών Επιχειρησιακών Σχεδίω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4. Συνέργειας και Δικτύωση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Φοροαπαλλαγέ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πιχορηγήσεις κεφαλαίου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πιδοτήσεις χρηματοδοτικής μίσθωσης (leasing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πιδοτούμενα δάνεια με συμμετοχή του ΕΤΕΑ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Η / Και συνδυασμοί των άνω μέσων ενίσχυση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57200" y="2746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Μέσα Ενίσχυση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604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Ποσοστά Ενισχύσεων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39640" y="1844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95280" y="162864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Η επικράτεια χωρίζεται σε τρεις ζώνες κινήτρων (Α, Β, Γ) με κριτήριο το επίπεδο ανάπτυξης (σε σχέση με τον εθνικό μέσο όρο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Α Ζώνη: Αττική, Βοιωτί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Β Ζώνη: ΑΕΠ &gt; 75% εθνικού μέσου όρο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Γ Ζώνη: ΑΕΠ &lt; 75% (+ ΑΜΘ, Νησιά Βορείου και Νοτίου Αιγαίου, Ιόνια,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παραμεθόριοι Νομοί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411280" y="3860640"/>
          <a:ext cx="4511880" cy="2379960"/>
        </p:xfrm>
        <a:graphic>
          <a:graphicData uri="http://schemas.openxmlformats.org/drawingml/2006/table">
            <a:tbl>
              <a:tblPr/>
              <a:tblGrid>
                <a:gridCol w="865440"/>
                <a:gridCol w="1125360"/>
                <a:gridCol w="1368360"/>
                <a:gridCol w="11527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ΖΩΝΕ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Μέγιστο ενίσχυση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ΜΕΓΑΛΗ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ΜΕΣΑΙ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ΜΙΚΡΗ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395280" y="1365120"/>
            <a:ext cx="87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395280" y="1125360"/>
          <a:ext cx="8497800" cy="4672080"/>
        </p:xfrm>
        <a:graphic>
          <a:graphicData uri="http://schemas.openxmlformats.org/drawingml/2006/table">
            <a:tbl>
              <a:tblPr/>
              <a:tblGrid>
                <a:gridCol w="1944720"/>
                <a:gridCol w="1368360"/>
                <a:gridCol w="1525680"/>
                <a:gridCol w="3659040"/>
              </a:tblGrid>
              <a:tr h="63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ΤΟΠΟ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ΜΕΓΕΘΟ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ΚΑΘΕΣΤΩ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ΕΝΔΕΙΚΤΙΚΗ ΚΑΤΑΝΟΜΗ ΕΝΙΣΧΥΣΗ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ΝΟΜΟΣ ΔΡΑΜΑΣ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–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ΖΩΝΗ Γ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ΝΕΑ ΚΑΙ ΜΙΚΡΗ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ΠΟΣΟΣΤΌ ΕΝΊΣΧΥΣΗΣ ΜΕΧΡΙ ΚΑ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0%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ΠΕΡΙΦ. ΣΥΝΟΧΗ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Π/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: 3.000.000 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x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. Ενίσχυσ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: 1.500.000 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Εκ των οποίω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0%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σε επιχορήγηση ή/και επιδότησης χρηματοδ. μίσθωση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= 1.200.000 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%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σε φορολ. απαλλαγέ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= 300.000 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ΝΟΜΟΣ ΜΑΓΝΗΣΙΑΣ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–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ΖΩΝΗ 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ΝΕΑ ΚΑΙ ΜΕΣΑΙΑ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ΠΟΣΟΣΤΌ ΕΝΊΣΧΥΣΗΣ ΜΕΧΡΙ ΚΑ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%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ΤΕΧΝΟΛΟΓΙΚΗ ΑΝΑΠΤΥΞΗ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π/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: 3.000.000 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x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. Ενίσχυσ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: 1.050.000 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Εκ των οποίων: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 90%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σε επιχορήγηση ή/και επιδότησης χρηματοδ. μίσθωση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= 945.000 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 10%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σε φορολ. απαλλαγέ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= 105.000 €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5 - TextBox"/>
          <p:cNvSpPr/>
          <p:nvPr/>
        </p:nvSpPr>
        <p:spPr>
          <a:xfrm>
            <a:off x="395280" y="404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Πως η Δράμα ευνοείται λόγω κινήτρων (παράδειγμα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Καινοτομίε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539640" y="1700280"/>
            <a:ext cx="828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Σημαντικός αριθμός κλάδων της οικονομίας με δυνατότητα πολλαπλασιαστικών αναπτυξιακών επιδράσεω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Δημοσιονομική συνέπεια με συγκεκριμένο ετήσιο π/υ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Έμφαση στην περιφερειακή ανάπτυξη και τη μείωση των περιφερειακών ανισοτήτω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Κριτήρια αξιολόγησης που υπηρετούν την αναπτυξιακή πολιτική της χώρας και ευνοούν σύγχρονες επενδύσεις με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Προώθηση τύπων ενίσχυσης χωρίς δημοσιονομικές συνέπειες στο ΠΔΕ (γενναία φορολογικά κίνητρα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19120" y="41868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Καινοτομίες Ι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539640" y="1844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504720" y="1700280"/>
            <a:ext cx="82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Απλοποίηση διαδικασιών υποβολής και αξιολόγησης (Help Desk, ηλεκτρονική υποβολή, ηλεκτρονική αξιολόγηση, γραμμ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ενημέρωσης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Ταχύτητα στην αξιολόγηση (σε 6 μήνες)  με τη σύσταση Εθνικού Μητρώου Αξιολογητώ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Συγκριτική αξιολόγηση και επιλογή των καλύτερων σχεδίων στα πλαίσια του π/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Ταχύτητα στον έλεγχο με τη σύσταση του Εθνικού Μητρώου Ελεγκτών (2 μήνες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Εξασφάλιση πιστώσεων στο ΠΔΕ και ταχύτητα στις πληρωμέ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Γραφεία Εξυπηρέτησης Επενδυτών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50920" y="1557360"/>
            <a:ext cx="8748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Παραλαβή αιτήσεων προς υπαγωγή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Διενέργεια προέλεγχου πληρότητας του φακέλο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Ενημέρωση επενδυτών για την πορεία του φακέλο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Παραλαβή αιτήσεων και δικαιολογητικών για τα λοιπά στάδια υλοποίησης των σχεδίω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Παροχή πληροφοριών και διευκρινίσεων του τρόπου εφαρμογής του νόμο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-- Λειτουργούν 16 Γραφεία Εξυπηρέτησης σε όλη τη χώρα 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Νέο οικονομικό περιβάλλον με ασυνέχειες και ανατροπές και νέες προκλήσεις για την πολιτική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υρωπαϊκή Ολοκλήρωση: Άνιση και ελλιπή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Η σύγκλιση που δεν έγινε: Διατήρηση του αρχικού πρότυπου ανάπτυξης (κέντρου – περιφέρειας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Η λειτουργία της Ευρωπαϊκής οικονομίας φαίνεται να αναπαράγει ή και να οξύνει τις χωρικές αντιθέσει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λλείμματα ανταγωνιστικότητας 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εμπορικά και δημοσιονομικά ελλείμματα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Νέες ισορροπίες ανάμεσα στις αγορές και τις πολιτικές και έλλειμμα πολιτικής στο Ευρωπαϊκό επίπεδο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Η οικονομική κρίση αφορά κυρίως την περιφέρεια της ΕΕ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Το περιβάλλον άσκησης της αναπτυξιακής πολιτικής: Ευρωπαϊκό επίπεδο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Εθνικά Μητρώα Πιστοποιημένων Αξιολογητών και Ελεγκτών (ΕΜΠΑ &amp; ΕΜΠΕ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539640" y="1844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95280" y="170028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Συστήνονται ξεχωριστά εθνικά μητρώα πιστοποιημένων αξιολογητών και ελεγκτών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Το Μητρώο Αξιολογητών έχει συσταθεί και αριθμεί 256 μέλ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Η σύσταση του Μητρώου Ελεγκτών ολοκληρώνεται άμεσα και οι αιτήσεις ξεπερνούν τις 3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Εφαρμόζονται διαφανείς - αξιοκρατικές διαδικασίες αξιολόγησης  που προβλέπονται στο σχετικό Προεδρικό Διάταγμα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α.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Τυχαία κατανομή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φακέλων σε 2 αξιολογητές από άλλες  περιφέρειε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β.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Τρίτος αξιολογητής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σε περίπτωση σημαντικών αποκλίσεω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Αντίστοιχες διαδικασίες θα εφαρμόζονται και κατά τον έλεγχο υλοποίησης και ολοκλήρωσης των επενδυτικών σχεδίω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Τα στάδια αξιολόγηση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539640" y="1484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324000" y="1268280"/>
            <a:ext cx="2879640" cy="5806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ΣΤΑΔΙΟ Ι – ΠΡΟ-ΕΛΕΓΧΟΣ ΠΛΗΡΟΤΗΤΑ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5"/>
          <p:cNvSpPr/>
          <p:nvPr/>
        </p:nvSpPr>
        <p:spPr>
          <a:xfrm>
            <a:off x="1619280" y="1989000"/>
            <a:ext cx="0" cy="36036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324000" y="2492280"/>
            <a:ext cx="2879640" cy="5806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ΣΤΑΔΙΟ ΙΙ – ΕΛΕΓΧΟΣ ΝΟΜΙΜΟΤΗΤΑ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324000" y="3932280"/>
            <a:ext cx="2879640" cy="5806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ΣΤΑΔΙΟ ΙΙΙ – ΑΞΙΟΛΟΓΗΣΗ ΕΠΕΝΔΥΤΙΚΩΝ ΠΡΟΤΑΣΕΩ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8"/>
          <p:cNvSpPr/>
          <p:nvPr/>
        </p:nvSpPr>
        <p:spPr>
          <a:xfrm>
            <a:off x="1619280" y="3284640"/>
            <a:ext cx="0" cy="36036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3492360" y="1555920"/>
            <a:ext cx="503280" cy="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4211640" y="1268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Πραγματοποιείται στο Γραφείο Εξυπηρέτησης Επενδυτώ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4284720" y="26370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Διενεργείται από την υπηρεσί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3492360" y="2781360"/>
            <a:ext cx="503280" cy="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4067280" y="3355920"/>
            <a:ext cx="4825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Πραγματοποιείται από 2 ανεξάρτητους και τυχαία – ηλεκτρονικά επιλεγμένους (μέσα από το ΕΜΠΑ) αξιολογητέ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Οι βαθμολογίες καταχωρούνται σε υπόδειγμα του Πληροφ. συστήματος, εκτυπώνονται, υπογράφονται και αποστέλλονται στην υπηρεσία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Η βαθμολογία του σχεδίου προκύπτει ως μέσος όρος των 2 αξιολογητών – Αν η διαφορά είναι πάνω από 10 μονάδες -&gt; 3</a:t>
            </a:r>
            <a:r>
              <a:rPr b="0" lang="el-GR" sz="16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ος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αξιολογητής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Η ΔΙΑΔΙΚΑΣΙΑ ΑΞΙΟΛΟΓΗΣΗΣ ΔΙΑΡΚΕΙ 20 ΜΕΡΕ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4067280" y="335592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3492360" y="4221000"/>
            <a:ext cx="503280" cy="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3"/>
          <p:cNvSpPr/>
          <p:nvPr/>
        </p:nvSpPr>
        <p:spPr>
          <a:xfrm>
            <a:off x="0" y="3789360"/>
            <a:ext cx="934920" cy="641520"/>
          </a:xfrm>
          <a:prstGeom prst="rect">
            <a:avLst/>
          </a:prstGeom>
          <a:solidFill>
            <a:srgbClr val="ffff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ΛΗΞΗ ΥΠΟΒΟΛΗΣ ΣΧΕΔΙΩΝ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 rot="19412400">
            <a:off x="1474920" y="3428640"/>
            <a:ext cx="93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 rot="19201800">
            <a:off x="2698920" y="3328560"/>
            <a:ext cx="86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 rot="19352400">
            <a:off x="3850920" y="3355560"/>
            <a:ext cx="86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 rot="19352400">
            <a:off x="4787640" y="3355560"/>
            <a:ext cx="86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2"/>
          <p:cNvSpPr/>
          <p:nvPr/>
        </p:nvSpPr>
        <p:spPr>
          <a:xfrm rot="19654800">
            <a:off x="5724000" y="3428640"/>
            <a:ext cx="100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3"/>
          <p:cNvSpPr/>
          <p:nvPr/>
        </p:nvSpPr>
        <p:spPr>
          <a:xfrm rot="19732800">
            <a:off x="6659640" y="3428640"/>
            <a:ext cx="115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5"/>
          <p:cNvSpPr/>
          <p:nvPr/>
        </p:nvSpPr>
        <p:spPr>
          <a:xfrm>
            <a:off x="71280" y="3139920"/>
            <a:ext cx="9072720" cy="0"/>
          </a:xfrm>
          <a:prstGeom prst="line">
            <a:avLst/>
          </a:prstGeom>
          <a:ln w="7632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468360" y="4516560"/>
            <a:ext cx="1224000" cy="641520"/>
          </a:xfrm>
          <a:prstGeom prst="rect">
            <a:avLst/>
          </a:prstGeom>
          <a:solidFill>
            <a:srgbClr val="ccffcc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ΕΝΑΡΞΗ ΕΛΕΓΧΟΥ ΝΟΜΙΜΟΤΗΤΑ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1766880" y="5237280"/>
            <a:ext cx="1220760" cy="641520"/>
          </a:xfrm>
          <a:prstGeom prst="rect">
            <a:avLst/>
          </a:prstGeom>
          <a:solidFill>
            <a:srgbClr val="ccffcc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ΟΛΟΚΛΗΡΩΣΗ ΕΛΕΓΧΟΥ ΝΟΜΙΜΟΤΗΤΑ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2556000" y="4437000"/>
            <a:ext cx="1152360" cy="459000"/>
          </a:xfrm>
          <a:prstGeom prst="rect">
            <a:avLst/>
          </a:prstGeom>
          <a:solidFill>
            <a:srgbClr val="ccffcc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ΕΝΑΡΞΗ ΑΞΙΟΛΟΓΗΣΗ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9"/>
          <p:cNvSpPr/>
          <p:nvPr/>
        </p:nvSpPr>
        <p:spPr>
          <a:xfrm>
            <a:off x="3564000" y="5229360"/>
            <a:ext cx="1224000" cy="459000"/>
          </a:xfrm>
          <a:prstGeom prst="rect">
            <a:avLst/>
          </a:prstGeom>
          <a:solidFill>
            <a:srgbClr val="ccffcc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ΟΛΟΚΛΗΡΩΣΗ ΑΞΙΟΛΟΓΗΣΗ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0"/>
          <p:cNvSpPr/>
          <p:nvPr/>
        </p:nvSpPr>
        <p:spPr>
          <a:xfrm>
            <a:off x="4859280" y="4076640"/>
            <a:ext cx="1441440" cy="641520"/>
          </a:xfrm>
          <a:prstGeom prst="rect">
            <a:avLst/>
          </a:prstGeom>
          <a:solidFill>
            <a:srgbClr val="ccffcc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ΛΗΞΗ ΠΡΟΘΕΣΜΙΑΣ ΥΠΟΒΟΛΗΣ ΕΝΣΤΑΣΕΩΝ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1"/>
          <p:cNvSpPr/>
          <p:nvPr/>
        </p:nvSpPr>
        <p:spPr>
          <a:xfrm>
            <a:off x="6084720" y="5156280"/>
            <a:ext cx="1151280" cy="641520"/>
          </a:xfrm>
          <a:prstGeom prst="rect">
            <a:avLst/>
          </a:prstGeom>
          <a:solidFill>
            <a:srgbClr val="ccffcc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ΟΛΟΚΛΗΡΩΣΗ ΕΞΕΤΑΣΗΣ ΕΝΣΤΑΣΕΩΝ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7310520" y="4437000"/>
            <a:ext cx="1077840" cy="641520"/>
          </a:xfrm>
          <a:prstGeom prst="rect">
            <a:avLst/>
          </a:prstGeom>
          <a:solidFill>
            <a:srgbClr val="ccffcc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ΕΚΔΟΣΗ ΑΠΟΦΑΣΕΩΝ ΥΠΑΓΩΓΗ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"/>
          <p:cNvSpPr/>
          <p:nvPr/>
        </p:nvSpPr>
        <p:spPr>
          <a:xfrm>
            <a:off x="7923240" y="3645000"/>
            <a:ext cx="1220760" cy="641520"/>
          </a:xfrm>
          <a:prstGeom prst="rect">
            <a:avLst/>
          </a:prstGeom>
          <a:solidFill>
            <a:srgbClr val="ffff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Calibri"/>
                <a:ea typeface="Calibri"/>
              </a:rPr>
              <a:t>ΠΡΟΚΗΡΥΞΗ ΕΠΟΜΕΝΟΥ ΚΥΚΛΟΥ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4"/>
          <p:cNvSpPr/>
          <p:nvPr/>
        </p:nvSpPr>
        <p:spPr>
          <a:xfrm>
            <a:off x="179280" y="3139920"/>
            <a:ext cx="0" cy="64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5"/>
          <p:cNvSpPr/>
          <p:nvPr/>
        </p:nvSpPr>
        <p:spPr>
          <a:xfrm>
            <a:off x="1332000" y="3139920"/>
            <a:ext cx="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6"/>
          <p:cNvSpPr/>
          <p:nvPr/>
        </p:nvSpPr>
        <p:spPr>
          <a:xfrm>
            <a:off x="2340000" y="3139920"/>
            <a:ext cx="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7"/>
          <p:cNvSpPr/>
          <p:nvPr/>
        </p:nvSpPr>
        <p:spPr>
          <a:xfrm>
            <a:off x="3419640" y="3139920"/>
            <a:ext cx="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8"/>
          <p:cNvSpPr/>
          <p:nvPr/>
        </p:nvSpPr>
        <p:spPr>
          <a:xfrm>
            <a:off x="4500720" y="3139920"/>
            <a:ext cx="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9"/>
          <p:cNvSpPr/>
          <p:nvPr/>
        </p:nvSpPr>
        <p:spPr>
          <a:xfrm>
            <a:off x="5580000" y="3139920"/>
            <a:ext cx="0" cy="8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0"/>
          <p:cNvSpPr/>
          <p:nvPr/>
        </p:nvSpPr>
        <p:spPr>
          <a:xfrm>
            <a:off x="6659640" y="3139920"/>
            <a:ext cx="0" cy="19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1"/>
          <p:cNvSpPr/>
          <p:nvPr/>
        </p:nvSpPr>
        <p:spPr>
          <a:xfrm>
            <a:off x="7740720" y="3139920"/>
            <a:ext cx="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2"/>
          <p:cNvSpPr/>
          <p:nvPr/>
        </p:nvSpPr>
        <p:spPr>
          <a:xfrm>
            <a:off x="8820000" y="3139920"/>
            <a:ext cx="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3"/>
          <p:cNvSpPr/>
          <p:nvPr/>
        </p:nvSpPr>
        <p:spPr>
          <a:xfrm>
            <a:off x="252360" y="1916280"/>
            <a:ext cx="934920" cy="792000"/>
          </a:xfrm>
          <a:prstGeom prst="wedgeRectCallout">
            <a:avLst>
              <a:gd name="adj1" fmla="val -1444"/>
              <a:gd name="adj2" fmla="val 92685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r>
              <a:rPr b="1" lang="el-GR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  <a:ea typeface="Calibri"/>
              </a:rPr>
              <a:t>μέρες – συμπλήρωση φακέλου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4"/>
          <p:cNvSpPr/>
          <p:nvPr/>
        </p:nvSpPr>
        <p:spPr>
          <a:xfrm>
            <a:off x="1476360" y="1916280"/>
            <a:ext cx="1008000" cy="792000"/>
          </a:xfrm>
          <a:prstGeom prst="wedgeRectCallout">
            <a:avLst>
              <a:gd name="adj1" fmla="val -4958"/>
              <a:gd name="adj2" fmla="val 92685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20 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  <a:ea typeface="Calibri"/>
              </a:rPr>
              <a:t>μέρες – διάρκεια ελέγχου νομιμότητα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5"/>
          <p:cNvSpPr/>
          <p:nvPr/>
        </p:nvSpPr>
        <p:spPr>
          <a:xfrm>
            <a:off x="3492360" y="1916280"/>
            <a:ext cx="1008360" cy="792000"/>
          </a:xfrm>
          <a:prstGeom prst="wedgeRectCallout">
            <a:avLst>
              <a:gd name="adj1" fmla="val -8898"/>
              <a:gd name="adj2" fmla="val 92685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20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  <a:ea typeface="Calibri"/>
              </a:rPr>
              <a:t> μέρες – διάρκεια σταδίου αξιολόγηση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6"/>
          <p:cNvSpPr/>
          <p:nvPr/>
        </p:nvSpPr>
        <p:spPr>
          <a:xfrm>
            <a:off x="4643280" y="1916280"/>
            <a:ext cx="1008360" cy="792000"/>
          </a:xfrm>
          <a:prstGeom prst="wedgeRectCallout">
            <a:avLst>
              <a:gd name="adj1" fmla="val -8898"/>
              <a:gd name="adj2" fmla="val 92685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  <a:ea typeface="Calibri"/>
              </a:rPr>
              <a:t> μέρες – προθεσμία υποβολής ενστάσεων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37"/>
          <p:cNvSpPr/>
          <p:nvPr/>
        </p:nvSpPr>
        <p:spPr>
          <a:xfrm>
            <a:off x="5796000" y="1916280"/>
            <a:ext cx="1008000" cy="792000"/>
          </a:xfrm>
          <a:prstGeom prst="wedgeRectCallout">
            <a:avLst>
              <a:gd name="adj1" fmla="val -8898"/>
              <a:gd name="adj2" fmla="val 92685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Calibri"/>
                <a:ea typeface="Calibri"/>
              </a:rPr>
              <a:t>15</a:t>
            </a:r>
            <a:r>
              <a:rPr b="0" lang="el-GR" sz="1000" spc="-1" strike="noStrike">
                <a:solidFill>
                  <a:srgbClr val="000000"/>
                </a:solidFill>
                <a:latin typeface="Calibri"/>
                <a:ea typeface="Calibri"/>
              </a:rPr>
              <a:t> μέρες – αποτελέσματα εξέτασης ενστάσεων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8"/>
          <p:cNvSpPr/>
          <p:nvPr/>
        </p:nvSpPr>
        <p:spPr>
          <a:xfrm>
            <a:off x="7740720" y="1916280"/>
            <a:ext cx="1008000" cy="792000"/>
          </a:xfrm>
          <a:prstGeom prst="wedgeRectCallout">
            <a:avLst>
              <a:gd name="adj1" fmla="val -8898"/>
              <a:gd name="adj2" fmla="val 92685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alibri"/>
                <a:ea typeface="Calibri"/>
              </a:rPr>
              <a:t>Έκδοση αποφάσεων υπαγωγή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9"/>
          <p:cNvSpPr/>
          <p:nvPr/>
        </p:nvSpPr>
        <p:spPr>
          <a:xfrm>
            <a:off x="1187280" y="2997360"/>
            <a:ext cx="21780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40"/>
          <p:cNvSpPr/>
          <p:nvPr/>
        </p:nvSpPr>
        <p:spPr>
          <a:xfrm>
            <a:off x="2266920" y="2997360"/>
            <a:ext cx="2174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41"/>
          <p:cNvSpPr/>
          <p:nvPr/>
        </p:nvSpPr>
        <p:spPr>
          <a:xfrm>
            <a:off x="34920" y="2997360"/>
            <a:ext cx="2174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42"/>
          <p:cNvSpPr/>
          <p:nvPr/>
        </p:nvSpPr>
        <p:spPr>
          <a:xfrm>
            <a:off x="3346560" y="2997360"/>
            <a:ext cx="2174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43"/>
          <p:cNvSpPr/>
          <p:nvPr/>
        </p:nvSpPr>
        <p:spPr>
          <a:xfrm>
            <a:off x="4425840" y="2997360"/>
            <a:ext cx="2174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4"/>
          <p:cNvSpPr/>
          <p:nvPr/>
        </p:nvSpPr>
        <p:spPr>
          <a:xfrm>
            <a:off x="5506920" y="2997360"/>
            <a:ext cx="2174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5"/>
          <p:cNvSpPr/>
          <p:nvPr/>
        </p:nvSpPr>
        <p:spPr>
          <a:xfrm>
            <a:off x="6586560" y="2997360"/>
            <a:ext cx="2174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46"/>
          <p:cNvSpPr/>
          <p:nvPr/>
        </p:nvSpPr>
        <p:spPr>
          <a:xfrm>
            <a:off x="7667640" y="2997360"/>
            <a:ext cx="2174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7"/>
          <p:cNvSpPr/>
          <p:nvPr/>
        </p:nvSpPr>
        <p:spPr>
          <a:xfrm>
            <a:off x="8602560" y="2997360"/>
            <a:ext cx="2174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8"/>
          <p:cNvSpPr/>
          <p:nvPr/>
        </p:nvSpPr>
        <p:spPr>
          <a:xfrm>
            <a:off x="468360" y="477720"/>
            <a:ext cx="8280360" cy="719280"/>
          </a:xfrm>
          <a:prstGeom prst="rect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ΟΛΟΚΛΗΡΩΣΗ ΤΗΣ ΑΞΙΟΛΟΓΗΣΗΣ ΣΕ 6 ΜΗΝΕ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137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ΥΠΟΒΛΗΘΗΚΑ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250920" y="2982960"/>
          <a:ext cx="8642160" cy="877680"/>
        </p:xfrm>
        <a:graphic>
          <a:graphicData uri="http://schemas.openxmlformats.org/drawingml/2006/table">
            <a:tbl>
              <a:tblPr/>
              <a:tblGrid>
                <a:gridCol w="2879640"/>
                <a:gridCol w="1863720"/>
                <a:gridCol w="3898800"/>
              </a:tblGrid>
              <a:tr h="33516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ε κεντρικό επίπεδο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σχέδια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Π/Υ 721 εκ. €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Αιτούμενη ενίσχυση: 195 εκ €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ε περιφερειακό επίπεδ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 σχέδια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44604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ποτελέσματα προκήρυξης Α’ κύκλου (Μάιος 2011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5560" y="549360"/>
            <a:ext cx="8507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Αποτελέσματα προκήρυξης Β’ κύκλου (Οκτώβριος 2011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68360" y="1617840"/>
            <a:ext cx="835164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Υποβλήθηκαν </a:t>
            </a:r>
            <a:r>
              <a:rPr b="0" lang="el-GR" sz="1600" spc="-1" strike="noStrike" u="sng">
                <a:solidFill>
                  <a:srgbClr val="000000"/>
                </a:solidFill>
                <a:uFillTx/>
                <a:latin typeface="Calibri"/>
              </a:rPr>
              <a:t>179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σχέδια συνολικού προϋπολογισμού </a:t>
            </a:r>
            <a:r>
              <a:rPr b="0" lang="el-GR" sz="1600" spc="-1" strike="noStrike" u="sng">
                <a:solidFill>
                  <a:srgbClr val="000000"/>
                </a:solidFill>
                <a:uFillTx/>
                <a:latin typeface="Calibri"/>
              </a:rPr>
              <a:t>854 εκ. ευρώ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και συνολικής αιτούμενης ενίσχυσης 266 εκ. ευρώ -&gt; δημιουργία 1.590 νέων θέσεων εργασία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Σε επίπεδο τομέα δραστηριότητα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91 σχέδια μεταποίηση, π/υ 539.025.623 €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16 σχέδια πρωτογενή τομέα παραγωγής, π/υ 26.440.297 €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48 σχέδια τουρισμό π/υ 190.059.352  € και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24 σχέδια υπηρεσίες π/υ 98.636.702  €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Calibri"/>
              </a:rPr>
              <a:t>Υποβλήθηκαν 15 επενδυτικά σχέδια που χωροθετούνται στην Περιφέρεια Ανατολικής Μακεδονίας και Θράκης συνολικού π/υ 44 εκ €, αιτούμενης ενίσχυσης που ξεπερνά τα 20 εκ € και με πρόβλεψη δημιουργίας 762 νέων θέσεων εργασίας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Οι δεσμευμένοι πόροι για το καθεστώς της 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«Περιφερειακής Συνοχής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24000" y="1557360"/>
          <a:ext cx="8569080" cy="4510080"/>
        </p:xfrm>
        <a:graphic>
          <a:graphicData uri="http://schemas.openxmlformats.org/drawingml/2006/table">
            <a:tbl>
              <a:tblPr/>
              <a:tblGrid>
                <a:gridCol w="2840040"/>
                <a:gridCol w="1250640"/>
                <a:gridCol w="1563840"/>
                <a:gridCol w="1461960"/>
                <a:gridCol w="1452600"/>
              </a:tblGrid>
              <a:tr h="244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ΠΕΡΙΦΕΡΕΙΕΣ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ΕΠΕΝΔΥΣΕΙΣ ΑΝΩ ΤΩΝ 3 ΕΚ ΕΥΡΩ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ΕΠΕΝΔΥΣΕΙΣ ΚΑΤΩ ΤΩΝ 3 ΕΚ ΕΥΡΩ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ΕΠΙΧΟΡΗΣΗΣΗ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ΦΟΡΟΛΟΓΙΚΗ ΑΠΑΛΛΑΓΗ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ΕΠΙΧΟΡΗΣΗΣΗ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ΦΟΡΟΛΟΓΙΚΗ ΑΠΑΛΛΑΓΗ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ΑΝΑΤΟΛΙΚΗΣ ΜΑΚΕΔΟΝΙΑΣ ΘΡΑΚΗΣ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8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0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6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ΠΕΡΙΦΕΡΕΙΑ ΑΤΤΙΚΗΣ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0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4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6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ΒΟΡΕΙΟΥ ΑΙΓΑΙΟ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1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9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ΔΥΤΙΚΗΣ ΕΛΛΑΔΑΣ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4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8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ΔΥΤΙΚΗΣ ΜΑΚΕΔΟΝΙΑΣ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9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ΗΠΕΙΡΟ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4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1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ΘΕΣΣΑΛΙΑΣ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4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l-GR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ΙΟΝΙΩΝ ΝΗΣΩΝ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7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ΚΕΝΤΡΙΚΗΣ ΜΑΚΕΔΟΝΙΑΣ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60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6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50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l-GR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ΚΡΗΤΗΣ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4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9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8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ΝΟΤΙΟΥ ΑΙΓΑΙΟΥ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7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0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7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ΠΕΛΟΠΟΝΝΗΣΟ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3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0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2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ΣΤΕΡΕΑΣ ΕΛΛΑΔΑΣ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5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.000.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ΣΥΝΟΛΟ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38.000.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r>
                        <a:rPr b="1" lang="el-G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.000.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82.000.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1" lang="el-GR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.000.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3" name="3 - Ορθογώνιο"/>
          <p:cNvSpPr/>
          <p:nvPr/>
        </p:nvSpPr>
        <p:spPr>
          <a:xfrm>
            <a:off x="539640" y="2205000"/>
            <a:ext cx="8496360" cy="28728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4 - Επεξήγηση με γραμμή 2"/>
          <p:cNvSpPr/>
          <p:nvPr/>
        </p:nvSpPr>
        <p:spPr>
          <a:xfrm>
            <a:off x="6227640" y="981000"/>
            <a:ext cx="1800360" cy="432000"/>
          </a:xfrm>
          <a:prstGeom prst="borderCallout2">
            <a:avLst>
              <a:gd name="adj1" fmla="val 18750"/>
              <a:gd name="adj2" fmla="val -8333"/>
              <a:gd name="adj3" fmla="val 128694"/>
              <a:gd name="adj4" fmla="val -185152"/>
              <a:gd name="adj5" fmla="val 266972"/>
              <a:gd name="adj6" fmla="val -217523"/>
            </a:avLst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9 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εκ . €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5 - TextBox"/>
          <p:cNvSpPr/>
          <p:nvPr/>
        </p:nvSpPr>
        <p:spPr>
          <a:xfrm>
            <a:off x="611280" y="404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Ειδικό Καθεστώς 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usters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» 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6 - TextBox"/>
          <p:cNvSpPr/>
          <p:nvPr/>
        </p:nvSpPr>
        <p:spPr>
          <a:xfrm>
            <a:off x="755640" y="1341360"/>
            <a:ext cx="79200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Προκηρύσσεται εντός του Δεκεμβρίου </a:t>
            </a:r>
            <a:r>
              <a:rPr b="1" lang="el-GR" sz="2000" spc="-1" strike="noStrike">
                <a:solidFill>
                  <a:srgbClr val="000000"/>
                </a:solidFill>
                <a:latin typeface="Calibri"/>
                <a:ea typeface="Calibri"/>
              </a:rPr>
              <a:t>με π/υ 50 εκ €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και θα παρέχει επιχορηγήσεις σε ποσοστό 100% των ποσοστών του πίνακα περιφ. Ενισχύσεων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Επιδίωξη του είναι η διατομεακή/ διακλαδική σύνδεση και  συμπληρωματικότητα των παραγωγικών κλάδων της χώρας και ειδικότερα συνδέσεις/ δικτυώσεις που αφορούν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τομείς μεταποίησης και πρωτογενή τομέ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σύνδεση του πρωτογενή τομέα με τη μεταποίηση και τον τουρισμ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σύνδεση του τουριστικού κλάδου με δίκτυα μεταφορώ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σύνδεση της μεταποίησης και του εμπορίο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Στα σχήματα μπορούν να συμμετέχουν με υποστηρικτικό – συμβουλευτικό ρόλο Δήμοι, Επιμελητήρια, ΝΠΔΔ, ΑΕΙ κλ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5 - TextBox"/>
          <p:cNvSpPr/>
          <p:nvPr/>
        </p:nvSpPr>
        <p:spPr>
          <a:xfrm>
            <a:off x="611280" y="404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Ειδικό Καθεστώς 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usters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» Ι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6 - TextBox"/>
          <p:cNvSpPr/>
          <p:nvPr/>
        </p:nvSpPr>
        <p:spPr>
          <a:xfrm>
            <a:off x="755640" y="105264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Για επενδυτικά σχέδια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από 200.000 € έως 20.000.000 €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Τα ενισχυόμενα επενδυτικά σχέδια ενδεικτικά μπορούν να περιλαμβάνουν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Κοινές εγκαταστάσεις και εξοπλισμό παραγωγής, προμήθεια ή παροχή κοινών υπηρεσιώ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Δράσεις ελέγχου ποιότητα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Δράσεις αποθήκευσης, δικτύων διανομής, δικτύων προμηθειών, διακίνησης, έκθεσης και πώλησης εμπορευμάτων ή παροχής υπηρεσιώ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Κοινό εμπορικό σήμα και σήμα διαδικτυακού εμπορίο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Κοινή πιστοποίηση και σήμα ποιότητα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Συνδυαστικές δράσεις στους επιλέξιμους τομείς και κλάδους της οικονομία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Για το καθεστώς αυτό του επενδυτικού νόμου, επιλέξιμες είναι επιπρόσθετα δαπάνες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για συμβουλευτικές υπηρεσίες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συμμετοχής σε εκθέσεις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, για σχέδια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έρευνας και ανάπτυξης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5 - TextBox"/>
          <p:cNvSpPr/>
          <p:nvPr/>
        </p:nvSpPr>
        <p:spPr>
          <a:xfrm>
            <a:off x="468360" y="333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Πως μπορεί η Δράμα να επωφεληθεί από τα 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usters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  <a:ea typeface="Calibri"/>
              </a:rPr>
              <a:t>» του Ν 3908/1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6 - TextBox"/>
          <p:cNvSpPr/>
          <p:nvPr/>
        </p:nvSpPr>
        <p:spPr>
          <a:xfrm>
            <a:off x="468360" y="1341360"/>
            <a:ext cx="84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Για επενδύσει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usters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στην Περιφερειακή ενότητα Δράμας το ποσοστό δύναται να φτάσει το 50% και να καλυφθεί στο σύνολό του με επιχορήγησ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Η Δράμα μπορεί να επωφεληθεί μέσω ενός τέτοιου προγράμματος, επενδύοντας σε τομείς με εξωστρέφεια και εξαγωγικό προσανατολισμ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Η ποθούμενη αύξηση της ζήτησης για τα προιόντα μας δεν μπορεί να καλυφθεί από την εσωτερική αγορά μόνο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Πρέπει να ενισχύσουμε την υφιστάμενη παραγωγικότητα – αυξάνοντας τη ζήτηση από την εξωστρέφεια των επιχειρήσεων μας -&gt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LUSTERS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ΕΞΑΓΩΓΩ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Για τη Δράμα τομείς όπως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ΠΡΟΩΘΗΣΗ ΜΑΡΜΑΡΟ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ΚΡΑΣΙ/ ΑΜΠΕΛΟΥΡΓΙΚΑ ΠΡΟΙΟΝΤ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ΤΡΟΦΙΜ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ΕΠΙΠΛΟΠΟΙΙ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Συμπεράσματα..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0537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Αλλάξαμε ένα πλαίσιο πολιτικής το οποίο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εν διέθετε σαφείς χρονικές δεσμεύσεις για ΑΞΙΟΛΟΓΗΣΗ, ΕΛΕΓΧΟΥΣ,  ΠΛΗΡΩΜΕ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εν είχε Π/Υ αλλά ενίσχυε σχεδόν οποιοδήποτε σχέδιο υποβαλλότα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εν συνέδεε τις επενδύσεις με τους αναπτυξιακούς στόχους της χώρα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εν εξασφάλιζε διαφανείς διαδικασίε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εν παρείχε αίσθημα αξιοπιστίας / βεβαιότητας στους επενδυτές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ΣΗΜΕΡΑ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, διαθέτουμε ένα νέο θεσμικό πλαίσιο κινήτρων (Ν. 3908/11)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έσπιση δεσμευτικών χρόνω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έσπιση διαφανών διαδικασιών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ύνδεση με τους αναπτυξιακούς στόχους της χώρα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αφής περιφερειακή κατανομή και σύνδεση με στόχο περιφερειακής ανάπτυξη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τήσιος Π/Υ και ευελιξία στη στόχευση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διασφάλιση πόρων στο ΠΔΕ με μεσοπρόθεσμο προγραμματισμό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3 - Δεξιό άγκιστρο"/>
          <p:cNvSpPr/>
          <p:nvPr/>
        </p:nvSpPr>
        <p:spPr>
          <a:xfrm>
            <a:off x="4211640" y="3933720"/>
            <a:ext cx="504720" cy="50328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023"/>
                </a:lnTo>
                <a:cubicBezTo>
                  <a:pt x="10800" y="10923"/>
                  <a:pt x="16200" y="11823"/>
                  <a:pt x="21600" y="11823"/>
                </a:cubicBezTo>
                <a:cubicBezTo>
                  <a:pt x="16200" y="11823"/>
                  <a:pt x="10800" y="12723"/>
                  <a:pt x="10800" y="1362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5 - TextBox"/>
          <p:cNvSpPr/>
          <p:nvPr/>
        </p:nvSpPr>
        <p:spPr>
          <a:xfrm>
            <a:off x="4788000" y="4057560"/>
            <a:ext cx="4033800" cy="307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ε ΑΞΙΟΛΟΓΗΣΗ - ΕΛΕΓΧΟ - ΠΛΗΡΩΜΕ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68000" y="1699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Το παραγωγικό μοντέλο της μεταπολίτευσης εξάντλησε τις δυνατότητες του και φέρει μέρος της ευθύνης για την σημερινή κρίση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εριορισμένη αποτελεσματικότητα των πολιτικών ανάπτυξης (ΠΔΕ, Αναπτυξιακοί Νόμοι, ΚΠΣ, Τακτικός Π/Υ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ποτελεσματική άσκηση περιφερειακής πολιτικής, η οποία δεν απέτρεψε την αύξηση των χωρικών ανισοτήτω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ροβλήματα σχεδιασμού, υλοποίησης και μίγματος πολιτικών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Οι κατανομές των πόρων προκύπτουν με ασαφή κριτήρια και δεν έχουν συγκεκριμένη αναπτυξιακή στόχευση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υγκεντρωτισμός (στο κράτος) και ταυτόχρονα κατακερματισμός (μεταξύ υπουργείων) και νομοθετική ή κανονιστική υπερ-ρύθμιση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ανσπερμία σχεδιασμού μη επαρκώς συνδεδεμένος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Το περιβάλλον άσκησης της αναπτυξιακής πολιτικής: εθνικό επίπεδο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απτυξιακή πολιτική σε συνθήκες (καθολικής) κρίσης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Χωρίς επιλογές μεταξύ διαχείρισης (της κρίσης) και μεταρρύθμιση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Η εμπειρία από την προσπάθεια αλλαγής του Επενδυτικού νόμου, του ΠΔΕ, του ΕΣΠΑ και του αναπτυξιακού σχεδιασμού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πόμενα βήματα: Ενίσχυση της ρευστότητας της οικονομίας, συνολικός Αναπτυξιακός Προγραμματισμός, μετατροπή του ΠΔΕ σε πολυετές πρόγραμμα ανάπτυξης και ολική αλλαγή οργανογράμματος ΥΠΑΑ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Η κρίση (εκτός από απειλή) αποτελεί ευκαιρία αλλαγών σε ένα γερασμένο, συγκεντρωτικό και αναποτελεσματικό σύστημα άσκησης αναπτυξιακής πολιτική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ύσταση Επιτροπής για την κατάρτιση Περιφερειακής Πολιτικής (αναμόρφωση ΠΔΕ, Σχέδιο στήριξης Περιφερειών σε κρίση, επιλογή πολιτικών με χωρική προσέγγιση)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539280" y="260280"/>
            <a:ext cx="7417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Συνεχίζεται..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Ζήτημα πρέπει να αποτελεί η ποιότητα των επενδύσεων και όχι η ποσότητα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Η καλύτερη ποιότητα αποφάσεων σε τοπικό επίπεδο οδηγεί στην ορθολογική αξιοποίηση των πόρω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οιοτική απόφαση = «ενημερωμένη» απόφαση – ευρεία διαβούλευση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ρέπει οι στόχοι του σχεδιασμού σας να κινούνται σε 3 πυλώνες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Οικονομία παραγωγικ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Υποκατάσταση εισαγωγώ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ξωστρέφεια/ ανταγωνιστικότητ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539280" y="260280"/>
            <a:ext cx="7417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ντί επιλόγου..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Ευχαριστώ για την προσοχή σα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2 - Υπότιτλος"/>
          <p:cNvSpPr/>
          <p:nvPr/>
        </p:nvSpPr>
        <p:spPr>
          <a:xfrm>
            <a:off x="539640" y="3068640"/>
            <a:ext cx="79916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606060"/>
                </a:solidFill>
                <a:latin typeface="Calibri"/>
                <a:ea typeface="Calibri"/>
              </a:rPr>
              <a:t>ΚΟΥΤΟΥΛΑΚΗΣ ΕΜΜΑΝΟΥΗ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606060"/>
                </a:solidFill>
                <a:latin typeface="Calibri"/>
                <a:ea typeface="Calibri"/>
              </a:rPr>
              <a:t>Σύμβουλος Υπουργείου Ανάπτυξης, Ανταγωνιστικότητας και Ναυτιλίας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606060"/>
                </a:solidFill>
                <a:latin typeface="Calibri"/>
                <a:ea typeface="Calibri"/>
              </a:rPr>
              <a:t>Χωροτάκτης – Πολεοδόμος, </a:t>
            </a:r>
            <a:r>
              <a:rPr b="0" lang="en-US" sz="1600" spc="-1" strike="noStrike">
                <a:solidFill>
                  <a:srgbClr val="606060"/>
                </a:solidFill>
                <a:latin typeface="Calibri"/>
                <a:ea typeface="Calibri"/>
              </a:rPr>
              <a:t>MSc.</a:t>
            </a:r>
            <a:r>
              <a:rPr b="0" lang="el-GR" sz="1600" spc="-1" strike="noStrike">
                <a:solidFill>
                  <a:srgbClr val="606060"/>
                </a:solidFill>
                <a:latin typeface="Calibri"/>
                <a:ea typeface="Calibri"/>
              </a:rPr>
              <a:t> Περιφερειακής Ανάπτυξης,</a:t>
            </a:r>
            <a:r>
              <a:rPr b="0" lang="en-US" sz="1600" spc="-1" strike="noStrike">
                <a:solidFill>
                  <a:srgbClr val="606060"/>
                </a:solidFill>
                <a:latin typeface="Calibri"/>
                <a:ea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606060"/>
                </a:solidFill>
                <a:latin typeface="Calibri"/>
                <a:ea typeface="Calibri"/>
              </a:rPr>
              <a:t>υ. Διδάκτωρ Πανεπιστημίου Πειραιώς</a:t>
            </a:r>
            <a:r>
              <a:rPr b="1" lang="el-GR" sz="1600" spc="-1" strike="noStrike">
                <a:solidFill>
                  <a:srgbClr val="606060"/>
                </a:solidFill>
                <a:latin typeface="Calibri"/>
                <a:ea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Το περιβάλλον άσκησης της αναπτυξιακής πολιτικής: τοπικό επίπεδο – ΠΕ Δράμα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539640" y="1916280"/>
          <a:ext cx="4392720" cy="3600360"/>
        </p:xfrm>
        <a:graphic>
          <a:graphicData uri="http://schemas.openxmlformats.org/drawingml/2006/table">
            <a:tbl>
              <a:tblPr/>
              <a:tblGrid>
                <a:gridCol w="2695680"/>
                <a:gridCol w="969840"/>
                <a:gridCol w="727200"/>
              </a:tblGrid>
              <a:tr h="399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είκτη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ομός Δράμα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λλάδ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.κ. ΑΕ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1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23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Ανεργία (ποσοστό 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Αξία εξαγωγών (ευρώ/κάτ.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Όγκος νέων οικοδομών (κ.μ./κάτοικο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ιανυκτερεύσεις αλλοδαπών (διαν./κατ.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ιανυκτερεύσεις ημεδαπών (διαν./κατ.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αταθέσεις (χιλ.ευρώ/κατ.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7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ηλωθέν φορολ. εισόδημα (χιλ.ευρώ/δήλωσ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4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απάνες Προγράμματος Δημοσίων Επενδύσεων (χιλ.ευρώ/κατ.)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,6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219640" y="2297160"/>
            <a:ext cx="34765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Το περιβάλλον άσκησης της αναπτυξιακής πολιτικής: τοπικό επίπεδο – ΠΕ Δράμας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3529080" y="3789360"/>
            <a:ext cx="5383080" cy="2874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F:\ΕΠΑΓΓΕΛΜΑΤΙΚΑ\ΓΕΝΙΚΗ ΓΡΑΜΜΑΤΕΙΑ ΕΠΕΝΔΥΣΕΩΝ ΚΑΙ ΑΝΑΠΤΥΞΗΣ_1.10.11\task 21_Ομιλια Δραμας_5 Δεκ\kepyo dramas.jpg"/>
          <p:cNvPicPr/>
          <p:nvPr/>
        </p:nvPicPr>
        <p:blipFill>
          <a:blip r:embed="rId2"/>
          <a:stretch/>
        </p:blipFill>
        <p:spPr>
          <a:xfrm>
            <a:off x="34920" y="981000"/>
            <a:ext cx="59770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5280" y="34560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Η αναπτυξιακή πολιτική του ΥΠΑΑΝ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000" y="1343160"/>
            <a:ext cx="843588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ντιμετώπιση της κρίσης με μέτρα άμεσης απόδοσης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πανασχεδιασμός της αναπτυξιακής πολιτικής ώστε να ανταποκρίνεται στο ανταγωνιστικό διεθνές οικονομικό περιβάλλον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ξιοποίηση των περιορισμένων δημόσιων πόρων σε δραστηριότητες με το σημαντικό αναπτυξιακό αποτέλεσμα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ισαγωγή θεσμικών ρυθμίσεων που περιορίζουν τη γραφειοκρατία και ενισχύουν την επιχειρηματικότητα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υνεχής αξιολόγηση της πολιτικής ώστε να παράγει μετρήσιμα αποτελέσματα και να διαθέτει κάθε φορά το σωστό μίγμα για τις ανάγκες της χώρας και της κάθε περιφέρειας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Προσαρμογή της δημόσιας διοίκησης στο νέο επιτελικό και αναπτυξιακό ρόλο του κράτου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νίσχυση της ανάπτυξης  των λιγότερο ευνοημένων περιφερειών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χεδιασμός προγραμμάτων που να απαντούν στα προβλήματα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4"/>
          <p:cNvSpPr/>
          <p:nvPr/>
        </p:nvSpPr>
        <p:spPr>
          <a:xfrm>
            <a:off x="611280" y="117360"/>
            <a:ext cx="7797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Πολιτικές ενίσχυσης της επιχειρηματικότητα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μέσω του ΕΣΠ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84360" y="1219320"/>
          <a:ext cx="6480000" cy="4030560"/>
        </p:xfrm>
        <a:graphic>
          <a:graphicData uri="http://schemas.openxmlformats.org/drawingml/2006/table">
            <a:tbl>
              <a:tblPr/>
              <a:tblGrid>
                <a:gridCol w="1590480"/>
                <a:gridCol w="48895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εκ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όγραμμα «Εξωστρέφεια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3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άσινος Τουρισμό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digi-content"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digi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il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εταποίηση σε Νέες συνθήκε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εκ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έα Καινοτομική Επιχειρηματικότητα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εκ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ναλλακτικός Τουρισμό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T4Growth”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-mobile”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πιχειρηματικοί Συνεργατικοί Σχηματισμοί  - (ΓΓΒ)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150 εκ €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Π Αποθεματικό Απροβλέπτων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"/>
          <p:cNvSpPr/>
          <p:nvPr/>
        </p:nvSpPr>
        <p:spPr>
          <a:xfrm>
            <a:off x="287280" y="5373720"/>
            <a:ext cx="8821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ενδυτικά σχέδια Π/Υ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81 εκ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έχουν ήδη ενταχθεί σε Τομεακά Προγράμματα ΕΣΠΑ το 20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89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Πρόγραμμα JEREMIE (500 εκ €)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68360" y="1158840"/>
          <a:ext cx="8280360" cy="4548240"/>
        </p:xfrm>
        <a:graphic>
          <a:graphicData uri="http://schemas.openxmlformats.org/drawingml/2006/table">
            <a:tbl>
              <a:tblPr/>
              <a:tblGrid>
                <a:gridCol w="3456000"/>
                <a:gridCol w="1008000"/>
                <a:gridCol w="3816360"/>
              </a:tblGrid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Δάνεια επιμερισμού κινδύνου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πενδυτικά δάνεια έως 100.000 Ευρώ σε νεοϊδρυθείσες επιχειρήσεις (0-3 έτη) για την  επέκταση των δραστηριοτήτων της επιχείρησης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Μικροπιστώσεις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εκ 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Χορήγηση δάνειων έως 25.000 ευρώ σε επιχειρήσεις όλων των τομέων οικονομικής δραστηριότητα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Κεφάλαιο Επιχειρηματικών Συμμετοχών στο στάδιο Σποράς»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εκ 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Χρηματοδότηση νέο-ϊδρυόμενων εταιριών για τα πρώτα βήματά τους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Δάνεια επιμερισμού κινδύνου για επιχειρήσεις στον τομέα της τεχνολογίας»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 εκ 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Χορήγηση επενδυτικών δανείων σε επιχειρήσεις για δράσεις πληροφορικής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Κεφάλαιο Επιχειρηματικών Συμμετοχών στο στάδιο Σποράς»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Χρηματοδότηση νέο-ϊδρυόμενων εταιριών στα πρώτα βήματά τους μέσω συμμετοχής στο κεφάλαιο της επιχείρησης.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Κεφάλαιο Επιχειρηματικών Συμμετοχών στο στάδιο Εκκίνησης»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κ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ημιουργία επιχειρηματικών κεφαλαίων (venture capital funds) για επενδύσεις στον τομέα τεχνολογικής καινοτομία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60"/>
          <p:cNvSpPr/>
          <p:nvPr/>
        </p:nvSpPr>
        <p:spPr>
          <a:xfrm>
            <a:off x="324000" y="3985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Εξασφάλιση ρευστότητας για τις ΜΜ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1"/>
          <p:cNvSpPr/>
          <p:nvPr/>
        </p:nvSpPr>
        <p:spPr>
          <a:xfrm>
            <a:off x="179280" y="1227240"/>
            <a:ext cx="871380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ΤΕΑΝ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μείο Επιχειρηματικότητας – Π/Υ 1,2 δις €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μείο «Εξοικονομώ κατ’ οίκον» - Π/Υ 800 εκ €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μείο «ΕΝΑΛΙΟ» - Π/Υ 105 εκ €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μείο Εγγυοδοσίας – Π/Υ 250 εκ €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μείο «Αγροτικής Επιχειρηματικότητας» - Π/Υ 450 εκ €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κηρύσσεται από το ΕΠ Αποθεματικό Απροβλέπτων δράση ύψους 72 εκ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€  κάλυψης λειτουργικών δαπανών νέων και υφιστάμενων επιχειρήσεων οι οποίες υλοποιούν ολοκληρωμένα σχέδια ανασυγκρότησης και αντιμετώπισης της κρίση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ρίσκονται σε εξέλιξη διαπραγματεύσεις με ΕΕ και ΕΤΕ για τη σύσταση ενός μεγάλου Ταμείου Εγγυοδοσίας το οποίο θα αξιοποιεί πόρους του ΕΣΠ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5:14:09Z</dcterms:created>
  <dc:creator>Manolis Koutoulakis</dc:creator>
  <dc:description/>
  <dc:language>en-US</dc:language>
  <cp:lastModifiedBy>Μανώλης</cp:lastModifiedBy>
  <dcterms:modified xsi:type="dcterms:W3CDTF">2011-12-04T22:46:52Z</dcterms:modified>
  <cp:revision>132</cp:revision>
  <dc:subject/>
  <dc:title>Διαφάνεια 1</dc:title>
</cp:coreProperties>
</file>