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5.wmf" ContentType="image/x-wmf"/>
  <Override PartName="/ppt/media/image22.jpeg" ContentType="image/jpeg"/>
  <Override PartName="/ppt/media/image21.jpeg" ContentType="image/jpeg"/>
  <Override PartName="/ppt/media/image16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9979025" cy="6832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FE6-5038-4E76-845D-97443B77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62485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5640" y="3878640"/>
            <a:ext cx="62485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C3A-78AC-480F-8D43-CC0B3E33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840" y="13712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5640" y="38786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840" y="38786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E7B-2131-4779-B607-5F743775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201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8120" y="1371240"/>
            <a:ext cx="201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0960" y="1371240"/>
            <a:ext cx="201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5640" y="3878640"/>
            <a:ext cx="201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8120" y="3878640"/>
            <a:ext cx="201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0960" y="3878640"/>
            <a:ext cx="201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0259-DF7C-4CAB-88C1-3544A138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4CFA-E4EF-4A9D-A842-63EBAEAE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5640" y="13712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C3E2-F00D-44D2-9364-43204D35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D675-C266-48C0-A1E3-135A4466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3049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87840" y="1371240"/>
            <a:ext cx="3049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D86F-85FD-4E3D-B6A3-95800673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F036-0A08-4D3C-978A-084F7049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1080" y="228600"/>
            <a:ext cx="6553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6E44-301B-4EF0-A28F-E82AF628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87840" y="1371240"/>
            <a:ext cx="3049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5640" y="38786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7DDC-E37B-4DD4-80B6-E2D57B8B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5640" y="13712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144-4035-4272-A34E-9A22BF71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3049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87840" y="13712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87840" y="38786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5537-7F9E-4772-83C1-5A0BE455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87840" y="13712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5640" y="3878640"/>
            <a:ext cx="62485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377F-3393-402A-BFB5-C0C982BB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62485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5640" y="3878640"/>
            <a:ext cx="62485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9A7A-A7C7-48F2-927F-D44255E4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87840" y="13712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5640" y="38786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87840" y="38786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F41C-4199-479F-8F78-54D93E61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201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8120" y="1371240"/>
            <a:ext cx="201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10960" y="1371240"/>
            <a:ext cx="201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5640" y="3878640"/>
            <a:ext cx="201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8120" y="3878640"/>
            <a:ext cx="201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10960" y="3878640"/>
            <a:ext cx="201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9E86-A872-4BF3-802A-05F3A9D0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4092-FFCF-4040-B38D-807C1CAA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3049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840" y="1371240"/>
            <a:ext cx="3049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D63-2AC1-4A6D-BA09-108EE6C5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9986-06EC-4324-9C6E-021D142B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1080" y="228600"/>
            <a:ext cx="6553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333-2D7B-4963-9653-65CB497B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840" y="1371240"/>
            <a:ext cx="3049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5640" y="38786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161E-270B-4E00-8E00-301A667A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3049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840" y="13712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840" y="38786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10B-FDA7-4CCC-87F0-8B83B26A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840" y="13712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5640" y="3878640"/>
            <a:ext cx="62485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538-843E-433B-B84C-BB9EAB03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5640" y="13712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lvl="1" marL="720720" indent="-277200">
              <a:spcBef>
                <a:spcPts val="2999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lvl="2" marL="1108440" indent="-221400"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lvl="3" marL="1551960" indent="-221400">
              <a:spcBef>
                <a:spcPts val="2999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lvl="4" marL="1995480" indent="-221400"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lvl="5" marL="1995480" indent="-221400"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lvl="6" marL="1995480" indent="-221400"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880" y="6324120"/>
            <a:ext cx="13716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7FF4-AC89-45D8-B3E5-D75C74623650}" type="datetime">
              <a:rPr b="0" lang="en-US" sz="1000" spc="-1" strike="noStrike">
                <a:solidFill>
                  <a:srgbClr val="3333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324120"/>
            <a:ext cx="42670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480" y="6324120"/>
            <a:ext cx="1067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06EC-06B4-43DF-8972-29B558B45608}" type="slidenum">
              <a:rPr b="0" lang="en-US" sz="1000" spc="-1" strike="noStrike">
                <a:solidFill>
                  <a:srgbClr val="3333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1960" y="1142640"/>
            <a:ext cx="5638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3880" y="6324120"/>
            <a:ext cx="13716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DF06-2116-4083-BD71-AA1AC5B97962}" type="datetime">
              <a:rPr b="0" lang="en-US" sz="1000" spc="-1" strike="noStrike">
                <a:solidFill>
                  <a:srgbClr val="3333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047760" y="6324120"/>
            <a:ext cx="42670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467480" y="6324120"/>
            <a:ext cx="1067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F023-E8CD-4664-B5C9-0BF4B03484C8}" type="slidenum">
              <a:rPr b="0" lang="en-US" sz="1000" spc="-1" strike="noStrike">
                <a:solidFill>
                  <a:srgbClr val="3333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3333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333300"/>
              </a:buClr>
              <a:buFont typeface="Verdana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3333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3333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33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78850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24000" y="765000"/>
            <a:ext cx="6120000" cy="1368720"/>
          </a:xfrm>
          <a:prstGeom prst="rect">
            <a:avLst/>
          </a:prstGeom>
          <a:solidFill>
            <a:srgbClr val="e5d58a">
              <a:alpha val="4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33300"/>
                </a:solidFill>
                <a:latin typeface="Garamond"/>
              </a:rPr>
              <a:t>ΙΧΘΥΟΚΑΛΛΙΕΡΓΕΙΕΣ ΕΣΩΤΕΡΙΚΩΝ ΥΔΑΤΩΝ</a:t>
            </a:r>
            <a:r>
              <a:rPr b="1" lang="el-GR" sz="4000" spc="-1" strike="noStrike">
                <a:solidFill>
                  <a:srgbClr val="333300"/>
                </a:solidFill>
                <a:latin typeface="Book Antiqua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666520" y="5229000"/>
            <a:ext cx="5334120" cy="936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00"/>
                </a:solidFill>
                <a:latin typeface="Garamond"/>
              </a:rPr>
              <a:t>Κοσμάς Δ. Σωφρονίδης</a:t>
            </a:r>
            <a:endParaRPr b="0" lang="en-US" sz="2800" spc="-1" strike="noStrike">
              <a:solidFill>
                <a:srgbClr val="3333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00"/>
                </a:solidFill>
                <a:latin typeface="Garamond"/>
              </a:rPr>
              <a:t>Βιολόγος – Ιχθυολόγος </a:t>
            </a:r>
            <a:r>
              <a:rPr b="1" lang="en-US" sz="2000" spc="-1" strike="noStrike">
                <a:solidFill>
                  <a:srgbClr val="333300"/>
                </a:solidFill>
                <a:latin typeface="Garamond"/>
              </a:rPr>
              <a:t>(MSc)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ff"/>
                </a:solidFill>
                <a:latin typeface="Book Antiqua"/>
              </a:rPr>
              <a:t>Διημερίδα </a:t>
            </a:r>
            <a:r>
              <a:rPr b="0" lang="en-US" sz="1600" spc="-1" strike="noStrike">
                <a:solidFill>
                  <a:srgbClr val="0000ff"/>
                </a:solidFill>
                <a:latin typeface="Book Antiqua"/>
              </a:rPr>
              <a:t>5-6</a:t>
            </a:r>
            <a:r>
              <a:rPr b="0" lang="el-GR" sz="1600" spc="-1" strike="noStrike">
                <a:solidFill>
                  <a:srgbClr val="0000ff"/>
                </a:solidFill>
                <a:latin typeface="Book Antiqua"/>
              </a:rPr>
              <a:t> Δεκεμβρίου</a:t>
            </a:r>
            <a:r>
              <a:rPr b="0" lang="en-US" sz="1600" spc="-1" strike="noStrike">
                <a:solidFill>
                  <a:srgbClr val="0000ff"/>
                </a:solidFill>
                <a:latin typeface="Book Antiqua"/>
              </a:rPr>
              <a:t> 2011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ff"/>
                </a:solidFill>
                <a:latin typeface="Book Antiqua"/>
              </a:rPr>
              <a:t>«</a:t>
            </a:r>
            <a:r>
              <a:rPr b="1" i="1" lang="el-GR" sz="1200" spc="-1" strike="noStrike">
                <a:solidFill>
                  <a:srgbClr val="0000ff"/>
                </a:solidFill>
                <a:latin typeface="Book Antiqua"/>
              </a:rPr>
              <a:t>Η Δράμα στην Καλλικρατική Περιφέρεια Ανατολικής Μακεδονίας &amp; Θράκης</a:t>
            </a:r>
            <a:r>
              <a:rPr b="1" lang="el-GR" sz="1200" spc="-1" strike="noStrike">
                <a:solidFill>
                  <a:srgbClr val="0000ff"/>
                </a:solidFill>
                <a:latin typeface="Book Antiqua"/>
              </a:rPr>
              <a:t>»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200" spc="-1" strike="noStrike">
                <a:solidFill>
                  <a:srgbClr val="0000ff"/>
                </a:solidFill>
                <a:latin typeface="Book Antiqua"/>
              </a:rPr>
              <a:t>Ο δρόμος προς τις ίσες ευκαιρίες και την ανάπτυξη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258560" y="1438200"/>
            <a:ext cx="75582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Στο νομό λειτουργούν ήδη 4 μονάδες εντατικής εκτροφής ιριδίζουσας ή αμερικανικής πέστροφας 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(</a:t>
            </a:r>
            <a:r>
              <a:rPr b="0" i="1" lang="el-GR" sz="1400" spc="-1" strike="noStrike">
                <a:solidFill>
                  <a:srgbClr val="333300"/>
                </a:solidFill>
                <a:latin typeface="Verdana"/>
              </a:rPr>
              <a:t>Oncorhynchus mykiss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Τα δύο από τα τέσσερα ιχθυοτροφεία είναι εγκαταστάσεις που λειτουργούν περισσότερα από 30 έτη, ενώ οι υπόλοιπες δύο είναι νέες μονάδες (&lt;10 έτη). 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Η εκτροφή των ψαριών πραγματοποιείται σε στενόμακρες τσιμεντένιες ή χωμάτινες δεξαμενές (</a:t>
            </a:r>
            <a:r>
              <a:rPr b="0" lang="en-US" sz="1800" spc="-1" strike="noStrike">
                <a:solidFill>
                  <a:srgbClr val="333300"/>
                </a:solidFill>
                <a:latin typeface="Verdana"/>
              </a:rPr>
              <a:t>raceways)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. Ο χρόνος εκτροφής της πέστροφας από το αυγό μέχρι το εμπορεύσιμο μέγεθος κυμαίνεται από 12 έως 24 μήνες. 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Η μέγιστη δυναμικότητα των μονάδων μπορεί να αγγίξει τους 180-200 τον./έτος. 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2723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00"/>
                </a:solidFill>
                <a:latin typeface="Book Antiqua"/>
              </a:rPr>
              <a:t>ΚΑΤΑΣΤΑΣΗ ΙΧΘΥΟΚΑΛΛΙΕΡΓΕΙΩΝ Π.Ε. ΔΡΑΜΑΣ (α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rainbow_trout" descr="Η ιριδίζουσα πέστροφα © ScandFish"/>
          <p:cNvPicPr/>
          <p:nvPr/>
        </p:nvPicPr>
        <p:blipFill>
          <a:blip r:embed="rId2"/>
          <a:stretch/>
        </p:blipFill>
        <p:spPr>
          <a:xfrm>
            <a:off x="3059280" y="3122640"/>
            <a:ext cx="3960720" cy="153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E92-12E0-4A6A-85D8-810944170004}" type="slidenum">
              <a:t>10</a:t>
            </a:fld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6553440" cy="49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F11-BC28-48CD-A521-87FFD455D64B}" type="slidenum">
              <a:t>11</a:t>
            </a:fld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981080" y="743040"/>
            <a:ext cx="6553440" cy="49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AB00-3CAC-4877-8289-B8B236F54A46}" type="slidenum">
              <a:t>12</a:t>
            </a:fld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81080" y="743040"/>
            <a:ext cx="6551640" cy="49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7930-5B52-4FF6-A0A9-F14CA3DBFFEA}" type="slidenum">
              <a:t>13</a:t>
            </a:fld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981080" y="743040"/>
            <a:ext cx="6553440" cy="49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FE6-2A99-4CC0-9553-C2340C3B75D6}" type="slidenum">
              <a:t>14</a:t>
            </a:fld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5805360"/>
            <a:ext cx="3203640" cy="1052640"/>
          </a:xfrm>
          <a:prstGeom prst="rect">
            <a:avLst/>
          </a:prstGeom>
          <a:solidFill>
            <a:srgbClr val="339966">
              <a:alpha val="3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Book Antiqua"/>
              </a:rPr>
              <a:t>ΠΕΡΙΟΧΕΣ ΑΝΑΠΤΥΞΗΣ ΙΧΘΥΟΚΑΛΛΙΕΡΓΕΙΩΝ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3856-98F0-4C20-A813-6D20D15AB860}" type="slidenum">
              <a:t>15</a:t>
            </a:fld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58560" y="1438200"/>
            <a:ext cx="75582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Μια μονάδα υδροδοτείται από πηγές (Κεφαλαρίου) ενώ οι υπόλοιπες 3 χρησιμοποιούν τα νερά ρέματος (Βαθύρεμα). 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Οι λειτουργούσες μονάδες εντοπίζονται σε δύο περιοχές: στο Κεφαλάρι (Ν) και στην ευρύτερη περιοχή του Καλλίκαρπου Σιδηρονέρου (Β). 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Τα τελευταία χρόνια γίνεται προσπάθεια διαφοροποίησης της παραγωγής με την εκτροφή </a:t>
            </a:r>
            <a:r>
              <a:rPr b="1" lang="el-GR" sz="1800" spc="-1" strike="noStrike">
                <a:solidFill>
                  <a:srgbClr val="333300"/>
                </a:solidFill>
                <a:latin typeface="Verdana"/>
              </a:rPr>
              <a:t>Οξύρρυγχου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(</a:t>
            </a:r>
            <a:r>
              <a:rPr b="0" i="1" lang="el-GR" sz="1400" spc="-1" strike="noStrike">
                <a:solidFill>
                  <a:srgbClr val="333300"/>
                </a:solidFill>
                <a:latin typeface="Verdana"/>
              </a:rPr>
              <a:t>σιβηρικός Acipenser baerii, ρώσικος Acipenser gueldenstaedtii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)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 από λειτουργούσα μονάδα εκτροφής πέστροφας.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Είναι σε διαδικασία αδειοδότησης </a:t>
            </a:r>
            <a:r>
              <a:rPr b="1" lang="el-GR" sz="1800" spc="-1" strike="noStrike">
                <a:solidFill>
                  <a:srgbClr val="333300"/>
                </a:solidFill>
                <a:latin typeface="Verdana"/>
              </a:rPr>
              <a:t>δύο (2) νέες μονάδες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, πέστροφας και άλλων ειδών σε περιοχές: στο ποταμό Αγγίτη και στο Αρκουδόρεμα (παραπόταμος Νέστου).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2723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00"/>
                </a:solidFill>
                <a:latin typeface="Book Antiqua"/>
              </a:rPr>
              <a:t>ΚΑΤΑΣΤΑΣΗ ΙΧΘΥΟΚΑΛΛΙΕΡΓΕΙΩΝ Π.Ε. ΔΡΑΜΑΣ 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(</a:t>
            </a:r>
            <a:r>
              <a:rPr b="1" lang="el-GR" sz="2800" spc="-1" strike="noStrike">
                <a:solidFill>
                  <a:srgbClr val="333300"/>
                </a:solidFill>
                <a:latin typeface="Book Antiqua"/>
              </a:rPr>
              <a:t>β</a:t>
            </a:r>
            <a:r>
              <a:rPr b="1" lang="en-US" sz="2800" spc="-1" strike="noStrike">
                <a:solidFill>
                  <a:srgbClr val="333300"/>
                </a:solidFill>
                <a:latin typeface="Book Antiqua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556000" y="4313160"/>
            <a:ext cx="5400720" cy="120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8D2-7B41-42E0-9F45-A4BD8887F064}" type="slidenum">
              <a:t>16</a:t>
            </a:fld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372600"/>
            <a:ext cx="756108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Book Antiqua"/>
              </a:rPr>
              <a:t>ΚΥΡΙΟΤΕΡΑ ΠΡΟΒΛΗΜΑΤΑ</a:t>
            </a:r>
            <a:r>
              <a:rPr b="1" lang="el-GR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Book Antiqua"/>
              </a:rPr>
              <a:t>ΙΧΘΥΟΚΑΛΛΙΕΡΓΕΙΩΝ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58560" y="1437840"/>
            <a:ext cx="7558200" cy="541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26"/>
              </a:spcBef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333300"/>
                </a:solidFill>
                <a:latin typeface="Verdana"/>
              </a:rPr>
              <a:t>Η διάθεση του νωπού προϊόντος </a:t>
            </a:r>
            <a:endParaRPr b="0" lang="en-US" sz="17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126"/>
              </a:spcBef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333300"/>
                </a:solidFill>
                <a:latin typeface="Verdana"/>
              </a:rPr>
              <a:t>Η χαμηλή τιμή εμπορίας του παραγόμενου προϊόντος. </a:t>
            </a:r>
            <a:endParaRPr b="0" lang="en-US" sz="17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126"/>
              </a:spcBef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333300"/>
                </a:solidFill>
                <a:latin typeface="Verdana"/>
              </a:rPr>
              <a:t>Επειδή το προϊόν δεν είναι διαφοροποιημένο (</a:t>
            </a:r>
            <a:r>
              <a:rPr b="0" lang="el-GR" sz="1500" spc="-1" strike="noStrike">
                <a:solidFill>
                  <a:srgbClr val="333300"/>
                </a:solidFill>
                <a:latin typeface="Verdana"/>
              </a:rPr>
              <a:t>branded</a:t>
            </a:r>
            <a:r>
              <a:rPr b="0" lang="el-GR" sz="1700" spc="-1" strike="noStrike">
                <a:solidFill>
                  <a:srgbClr val="333300"/>
                </a:solidFill>
                <a:latin typeface="Verdana"/>
              </a:rPr>
              <a:t>) ο ανταγωνισμός γίνεται σε επίπεδο κόστους.</a:t>
            </a:r>
            <a:endParaRPr b="0" lang="en-US" sz="17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126"/>
              </a:spcBef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333300"/>
                </a:solidFill>
                <a:latin typeface="Verdana"/>
              </a:rPr>
              <a:t>Η ολιγοπωλιακή δομή του κλάδου της εμπορίας (</a:t>
            </a:r>
            <a:r>
              <a:rPr b="0" i="1" lang="el-GR" sz="1700" spc="-1" strike="noStrike">
                <a:solidFill>
                  <a:srgbClr val="333300"/>
                </a:solidFill>
                <a:latin typeface="Verdana"/>
              </a:rPr>
              <a:t>ιχθυόσκαλα, </a:t>
            </a:r>
            <a:r>
              <a:rPr b="0" i="1" lang="en-US" sz="1700" spc="-1" strike="noStrike">
                <a:solidFill>
                  <a:srgbClr val="333300"/>
                </a:solidFill>
                <a:latin typeface="Verdana"/>
              </a:rPr>
              <a:t>supermarkets</a:t>
            </a:r>
            <a:r>
              <a:rPr b="0" lang="el-GR" sz="1700" spc="-1" strike="noStrike">
                <a:solidFill>
                  <a:srgbClr val="333300"/>
                </a:solidFill>
                <a:latin typeface="Verdana"/>
              </a:rPr>
              <a:t>) που περιορίζει τα περιθώρια κέρδους.</a:t>
            </a:r>
            <a:endParaRPr b="0" lang="en-US" sz="17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126"/>
              </a:spcBef>
              <a:buSzPct val="1028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333300"/>
                </a:solidFill>
                <a:latin typeface="Verdana"/>
              </a:rPr>
              <a:t>Ο περιορισμένος χρόνος ζωής του προϊόντος και η απουσία μεταποίησης</a:t>
            </a:r>
            <a:endParaRPr b="0" lang="en-US" sz="17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126"/>
              </a:spcBef>
              <a:buSzPct val="1028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333300"/>
                </a:solidFill>
                <a:latin typeface="Verdana"/>
              </a:rPr>
              <a:t>Η εποχιακή διακύμανση της παραγωγής του προϊόντος.</a:t>
            </a:r>
            <a:endParaRPr b="0" lang="en-US" sz="17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126"/>
              </a:spcBef>
              <a:buSzPct val="1028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333300"/>
                </a:solidFill>
                <a:latin typeface="Verdana"/>
              </a:rPr>
              <a:t>Το υψηλό μερίδιο των πρώτων υλών (</a:t>
            </a:r>
            <a:r>
              <a:rPr b="0" i="1" lang="el-GR" sz="1500" spc="-1" strike="noStrike">
                <a:solidFill>
                  <a:srgbClr val="333300"/>
                </a:solidFill>
                <a:latin typeface="Verdana"/>
              </a:rPr>
              <a:t>γόνος, ιχθυοτροφές</a:t>
            </a:r>
            <a:r>
              <a:rPr b="0" lang="el-GR" sz="1700" spc="-1" strike="noStrike">
                <a:solidFill>
                  <a:srgbClr val="333300"/>
                </a:solidFill>
                <a:latin typeface="Verdana"/>
              </a:rPr>
              <a:t>) στο κόστος παραγωγής.</a:t>
            </a:r>
            <a:endParaRPr b="0" lang="en-US" sz="17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126"/>
              </a:spcBef>
              <a:buSzPct val="10285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333300"/>
                </a:solidFill>
                <a:latin typeface="Verdana"/>
              </a:rPr>
              <a:t>Η αδυναμία έλεγχου των περιβαλλοντικών παραμέτρων των υδάτων (</a:t>
            </a:r>
            <a:r>
              <a:rPr b="0" i="1" lang="el-GR" sz="1500" spc="-1" strike="noStrike" u="sng">
                <a:solidFill>
                  <a:srgbClr val="333300"/>
                </a:solidFill>
                <a:uFillTx/>
                <a:latin typeface="Verdana"/>
              </a:rPr>
              <a:t>πλημμυρικά φαινόμενα</a:t>
            </a:r>
            <a:r>
              <a:rPr b="0" i="1" lang="el-GR" sz="1500" spc="-1" strike="noStrike">
                <a:solidFill>
                  <a:srgbClr val="333300"/>
                </a:solidFill>
                <a:latin typeface="Verdana"/>
              </a:rPr>
              <a:t> και </a:t>
            </a:r>
            <a:r>
              <a:rPr b="0" i="1" lang="el-GR" sz="1500" spc="-1" strike="noStrike" u="sng">
                <a:solidFill>
                  <a:srgbClr val="333300"/>
                </a:solidFill>
                <a:uFillTx/>
                <a:latin typeface="Verdana"/>
              </a:rPr>
              <a:t>έντονη θολερότητα των υδάτων</a:t>
            </a:r>
            <a:r>
              <a:rPr b="0" i="1" lang="el-GR" sz="1500" spc="-1" strike="noStrike">
                <a:solidFill>
                  <a:srgbClr val="333300"/>
                </a:solidFill>
                <a:latin typeface="Verdana"/>
              </a:rPr>
              <a:t> μετά από περιόδους ισχυρής βροχόπτωσης, </a:t>
            </a:r>
            <a:r>
              <a:rPr b="0" i="1" lang="el-GR" sz="1500" spc="-1" strike="noStrike" u="sng">
                <a:solidFill>
                  <a:srgbClr val="333300"/>
                </a:solidFill>
                <a:uFillTx/>
                <a:latin typeface="Verdana"/>
              </a:rPr>
              <a:t>αυξημένες θερμοκρασίες</a:t>
            </a:r>
            <a:r>
              <a:rPr b="0" lang="el-GR" sz="1700" spc="-1" strike="noStrike">
                <a:solidFill>
                  <a:srgbClr val="333300"/>
                </a:solidFill>
                <a:latin typeface="Verdana"/>
              </a:rPr>
              <a:t>) καθώς πρόκειται για ανοιχτά συστήματα.</a:t>
            </a:r>
            <a:endParaRPr b="0" lang="en-US" sz="17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07A-E4B7-4E03-A234-C99355EC33D1}" type="slidenum">
              <a:t>17</a:t>
            </a:fld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Book Antiqua"/>
              </a:rPr>
              <a:t>ΠΡΟΤΑΣΕΙΣ ΓΙΑ ΤΗΝ ΑΝΑΠΤΥΞΗ ΤΟΥ ΚΛΑΔΟΥ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8560" y="1196640"/>
            <a:ext cx="7558200" cy="53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Να υπάρξει συμμετοχή των επενδυτών σε προγράμματα </a:t>
            </a:r>
            <a:r>
              <a:rPr b="1" lang="el-GR" sz="1400" spc="-1" strike="noStrike">
                <a:solidFill>
                  <a:srgbClr val="333300"/>
                </a:solidFill>
                <a:latin typeface="Verdana"/>
              </a:rPr>
              <a:t>εκσυγχρονισμού των μονάδων 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(</a:t>
            </a:r>
            <a:r>
              <a:rPr b="0" i="1" lang="el-GR" sz="1200" spc="-1" strike="noStrike">
                <a:solidFill>
                  <a:srgbClr val="333300"/>
                </a:solidFill>
                <a:latin typeface="Verdana"/>
              </a:rPr>
              <a:t>πρόγραμμα Αλιείας, ΕΣΠΑ Περιφέρειας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) με στόχο την </a:t>
            </a:r>
            <a:r>
              <a:rPr b="0" lang="el-GR" sz="1400" spc="-1" strike="noStrike" u="sng">
                <a:solidFill>
                  <a:srgbClr val="333300"/>
                </a:solidFill>
                <a:uFillTx/>
                <a:latin typeface="Verdana"/>
              </a:rPr>
              <a:t>κάθετη οργάνωση των επιχειρήσεων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 και την </a:t>
            </a:r>
            <a:r>
              <a:rPr b="0" lang="el-GR" sz="1400" spc="-1" strike="noStrike" u="sng">
                <a:solidFill>
                  <a:srgbClr val="333300"/>
                </a:solidFill>
                <a:uFillTx/>
                <a:latin typeface="Verdana"/>
              </a:rPr>
              <a:t>μεταποίηση των προϊόντων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 τους (</a:t>
            </a:r>
            <a:r>
              <a:rPr b="0" i="1" lang="el-GR" sz="1400" spc="-1" strike="noStrike">
                <a:solidFill>
                  <a:srgbClr val="333300"/>
                </a:solidFill>
                <a:latin typeface="Verdana"/>
              </a:rPr>
              <a:t>κάπνισμα, συσκευασία, φιλετοποίηση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). </a:t>
            </a:r>
            <a:endParaRPr b="0" lang="en-US" sz="1400" spc="-1" strike="noStrike">
              <a:solidFill>
                <a:srgbClr val="3333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Να προωθηθούν </a:t>
            </a:r>
            <a:r>
              <a:rPr b="0" lang="el-GR" sz="1400" spc="-1" strike="noStrike" u="sng">
                <a:solidFill>
                  <a:srgbClr val="333300"/>
                </a:solidFill>
                <a:uFillTx/>
                <a:latin typeface="Verdana"/>
              </a:rPr>
              <a:t>αλλαγές στους τρόπους διάθεσης των προϊόντων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 και να εντοπιστούν πιθανές </a:t>
            </a:r>
            <a:r>
              <a:rPr b="0" lang="el-GR" sz="1400" spc="-1" strike="noStrike" u="sng">
                <a:solidFill>
                  <a:srgbClr val="333300"/>
                </a:solidFill>
                <a:uFillTx/>
                <a:latin typeface="Verdana"/>
              </a:rPr>
              <a:t>νέες αγορές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 έτσι ώστε να διασφαλίζεται η </a:t>
            </a:r>
            <a:r>
              <a:rPr b="1" lang="el-GR" sz="1400" spc="-1" strike="noStrike">
                <a:solidFill>
                  <a:srgbClr val="333300"/>
                </a:solidFill>
                <a:latin typeface="Verdana"/>
              </a:rPr>
              <a:t>έγκαιρη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 </a:t>
            </a:r>
            <a:r>
              <a:rPr b="1" lang="el-GR" sz="1400" spc="-1" strike="noStrike">
                <a:solidFill>
                  <a:srgbClr val="333300"/>
                </a:solidFill>
                <a:latin typeface="Verdana"/>
              </a:rPr>
              <a:t>πώληση του παραγόμενου νωπού προϊόντος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3333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Να διερευνηθούν οι δυνατότητες </a:t>
            </a:r>
            <a:r>
              <a:rPr b="1" lang="el-GR" sz="1400" spc="-1" strike="noStrike">
                <a:solidFill>
                  <a:srgbClr val="333300"/>
                </a:solidFill>
                <a:latin typeface="Verdana"/>
              </a:rPr>
              <a:t>διάθεσης του προϊόντος στο εξωτερικό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3333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Να υπάρξει </a:t>
            </a:r>
            <a:r>
              <a:rPr b="1" lang="el-GR" sz="1400" spc="-1" strike="noStrike">
                <a:solidFill>
                  <a:srgbClr val="333300"/>
                </a:solidFill>
                <a:latin typeface="Verdana"/>
              </a:rPr>
              <a:t>διαφοροποίηση της παραγωγής σε νέα είδη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 (</a:t>
            </a:r>
            <a:r>
              <a:rPr b="0" i="1" lang="el-GR" sz="1200" spc="-1" strike="noStrike">
                <a:solidFill>
                  <a:srgbClr val="333300"/>
                </a:solidFill>
                <a:latin typeface="Verdana"/>
              </a:rPr>
              <a:t>σολομός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) με καλές προοπτικές εκτροφής (</a:t>
            </a:r>
            <a:r>
              <a:rPr b="0" i="1" lang="el-GR" sz="1400" spc="-1" strike="noStrike">
                <a:solidFill>
                  <a:srgbClr val="333300"/>
                </a:solidFill>
                <a:latin typeface="Verdana"/>
              </a:rPr>
              <a:t>υψηλό ρυθμό ανάπτυξης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) και εμπορίας. </a:t>
            </a:r>
            <a:endParaRPr b="0" lang="en-US" sz="1400" spc="-1" strike="noStrike">
              <a:solidFill>
                <a:srgbClr val="3333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Να υποστηριχτούν ενέργειες για την απόκτηση </a:t>
            </a:r>
            <a:r>
              <a:rPr b="1" lang="el-GR" sz="1400" spc="-1" strike="noStrike">
                <a:solidFill>
                  <a:srgbClr val="333300"/>
                </a:solidFill>
                <a:latin typeface="Verdana"/>
              </a:rPr>
              <a:t>Ετικέτας 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με</a:t>
            </a:r>
            <a:r>
              <a:rPr b="1" lang="el-GR" sz="1400" spc="-1" strike="noStrike">
                <a:solidFill>
                  <a:srgbClr val="333300"/>
                </a:solidFill>
                <a:latin typeface="Verdana"/>
              </a:rPr>
              <a:t> «Γεωγραφικό προσδιορισμό»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 (</a:t>
            </a:r>
            <a:r>
              <a:rPr b="0" lang="el-GR" sz="1200" spc="-1" strike="noStrike">
                <a:solidFill>
                  <a:srgbClr val="333300"/>
                </a:solidFill>
                <a:latin typeface="Verdana"/>
              </a:rPr>
              <a:t>π.χ. </a:t>
            </a:r>
            <a:r>
              <a:rPr b="0" i="1" lang="el-GR" sz="1200" spc="-1" strike="noStrike">
                <a:solidFill>
                  <a:srgbClr val="333300"/>
                </a:solidFill>
                <a:latin typeface="Verdana"/>
              </a:rPr>
              <a:t>Πέστροφα Ροδόπης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) και </a:t>
            </a:r>
            <a:r>
              <a:rPr b="1" lang="el-GR" sz="1400" spc="-1" strike="noStrike">
                <a:solidFill>
                  <a:srgbClr val="333300"/>
                </a:solidFill>
                <a:latin typeface="Verdana"/>
              </a:rPr>
              <a:t>«Ονοματεπώνυμο»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 με σκοπό την αύξηση της προστιθέμενης αξίας του προϊόντος.</a:t>
            </a:r>
            <a:endParaRPr b="0" lang="en-US" sz="1400" spc="-1" strike="noStrike">
              <a:solidFill>
                <a:srgbClr val="3333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Να γίνουν σε συνεργασία με την Περιφέρεια και τους Δήμους:</a:t>
            </a:r>
            <a:r>
              <a:rPr b="1" lang="el-GR" sz="1400" spc="-1" strike="noStrike">
                <a:solidFill>
                  <a:srgbClr val="333300"/>
                </a:solidFill>
                <a:latin typeface="Verdana"/>
              </a:rPr>
              <a:t> προβολή του προϊόντος και της διατροφικής αξίας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 των ψαριών ιχθυοκαλλιέργειας, </a:t>
            </a:r>
            <a:r>
              <a:rPr b="1" lang="el-GR" sz="1400" spc="-1" strike="noStrike">
                <a:solidFill>
                  <a:srgbClr val="333300"/>
                </a:solidFill>
                <a:latin typeface="Verdana"/>
              </a:rPr>
              <a:t>διοργάνωση “Γιορτής Πέστροφας”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 ή </a:t>
            </a:r>
            <a:r>
              <a:rPr b="1" lang="el-GR" sz="1400" spc="-1" strike="noStrike">
                <a:solidFill>
                  <a:srgbClr val="333300"/>
                </a:solidFill>
                <a:latin typeface="Verdana"/>
              </a:rPr>
              <a:t>“Ημέρες ψαρέματος” 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στις περιοχές ανάπτυξης ιχθυοκαλλιεργειών.</a:t>
            </a:r>
            <a:endParaRPr b="0" lang="en-US" sz="1400" spc="-1" strike="noStrike">
              <a:solidFill>
                <a:srgbClr val="3333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Η </a:t>
            </a:r>
            <a:r>
              <a:rPr b="1" lang="el-GR" sz="1400" spc="-1" strike="noStrike">
                <a:solidFill>
                  <a:srgbClr val="333300"/>
                </a:solidFill>
                <a:latin typeface="Verdana"/>
              </a:rPr>
              <a:t>διαχείριση του ζωικού κεφαλαίου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 των μονάδων να γίνεται με το βέλτιστο τρόπο και ζητήματα </a:t>
            </a:r>
            <a:r>
              <a:rPr b="1" lang="el-GR" sz="1400" spc="-1" strike="noStrike">
                <a:solidFill>
                  <a:srgbClr val="333300"/>
                </a:solidFill>
                <a:latin typeface="Verdana"/>
              </a:rPr>
              <a:t>παραγωγικής διαδικασίας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 να επιλύνονται με τη βοήθεια των κατάλληλων επιστημόνων. Επίσης να τηρούνται οι </a:t>
            </a:r>
            <a:r>
              <a:rPr b="1" lang="el-GR" sz="1400" spc="-1" strike="noStrike">
                <a:solidFill>
                  <a:srgbClr val="333300"/>
                </a:solidFill>
                <a:latin typeface="Verdana"/>
              </a:rPr>
              <a:t>κανόνες υγιεινής και πρόληψης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 ώστε να ελαχιστοποιούνται τα προβλήματα ασθενειών.</a:t>
            </a:r>
            <a:endParaRPr b="0" lang="en-US" sz="1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D87-97E6-4EAA-B2B3-20C5563C10D2}" type="slidenum">
              <a:t>18</a:t>
            </a:fld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010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Book Antiqua"/>
              </a:rPr>
              <a:t>Το ερώτημα: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Book Antiqua"/>
              </a:rPr>
              <a:t>Γιατί Υδατοκαλλιέργεια και Γιατί Τώρα;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56144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(Α) Η υδατοκαλλιέργεια είναι μια δραστηριότητα του πρωτογενούς τομέα με σημαντικές δυνατότητες ανάπτυξης σε περιοχές με κατάλληλα νερά. H ιχθυοκαλλιέργεια αποτελεί έναν από τους πιο αποτελεσματικούς τομείς παραγωγής πρωτεΐνης και μάλιστα υψηλής διατροφικής αξίας, με σκοπό να καλύψει την όλο και αυξανόμενη ζήτηση ψαριών. </a:t>
            </a:r>
            <a:endParaRPr b="0" lang="en-US" sz="1600" spc="-1" strike="noStrike">
              <a:solidFill>
                <a:srgbClr val="33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Υπάρχει παγκοσμίως μεγάλη ανάπτυξη στο τομέα και εκτιμάται ότι μέχρι το 2030 τα περισσότερα είδη ψαριών που καταναλώνονται θα προέρχονται από τις υδατοκαλλιέργειες. </a:t>
            </a:r>
            <a:endParaRPr b="0" lang="en-US" sz="1600" spc="-1" strike="noStrike">
              <a:solidFill>
                <a:srgbClr val="33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Η κατανάλωση ψαριών στην ΕΕ αυξήθηκε την τελευταία δεκαετία. Η μέση ετήσια κατανάλωση Ε.Ε. είναι 22,3 κιλά/άτομο ετησίως και αναμένεται να συνεχίσει να αυξάνεται. </a:t>
            </a:r>
            <a:endParaRPr b="0" lang="en-US" sz="1600" spc="-1" strike="noStrike">
              <a:solidFill>
                <a:srgbClr val="33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(Β) Οι οικονομικές συγκυρίες ευνοούν τη δημιουργία επιχειρήσεων με εξαγωγικό προσανατολισμό  και η υδατοκαλλιέργεια έχει αυτές τις δυνατότητες σε μια Ευρώπη ελλειμματική στο ισοζύγιο των αλιευτικών προϊόντων. </a:t>
            </a:r>
            <a:endParaRPr b="0" lang="en-US" sz="1600" spc="-1" strike="noStrike">
              <a:solidFill>
                <a:srgbClr val="33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Σε πολλές χώρες υπάρχει έντονο χάσμα μεταξύ της προσφοράς και της ζήτησης. 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Σήμερα, η εσωτερική παραγωγή της ΕΕ καλύπτει ελαφρώς λιγότερο από το 40% της ζήτησης, ενώ το 1995 κάλυπτε το 68%. </a:t>
            </a:r>
            <a:endParaRPr b="0" lang="en-US" sz="16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87FA-64CA-40E1-ADB4-7ED0FEA0AEE2}" type="slidenum">
              <a:t>19</a:t>
            </a:fld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655308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Book Antiqua"/>
              </a:rPr>
              <a:t>ΥΔΑΤΟΚΑΛΛΙΕΡΓΕΙΕΣ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58560" y="1438200"/>
            <a:ext cx="75582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250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00"/>
                </a:solidFill>
                <a:latin typeface="Book Antiqua"/>
              </a:rPr>
              <a:t>Σύμφωνα με το </a:t>
            </a:r>
            <a:r>
              <a:rPr b="0" lang="en-US" sz="2400" spc="-1" strike="noStrike">
                <a:solidFill>
                  <a:srgbClr val="333300"/>
                </a:solidFill>
                <a:latin typeface="Book Antiqua"/>
              </a:rPr>
              <a:t>FAO</a:t>
            </a:r>
            <a:r>
              <a:rPr b="0" lang="el-GR" sz="2400" spc="-1" strike="noStrike">
                <a:solidFill>
                  <a:srgbClr val="333300"/>
                </a:solidFill>
                <a:latin typeface="Book Antiqua"/>
              </a:rPr>
              <a:t>, </a:t>
            </a:r>
            <a:r>
              <a:rPr b="1" lang="el-GR" sz="2400" spc="-1" strike="noStrike">
                <a:solidFill>
                  <a:srgbClr val="333300"/>
                </a:solidFill>
                <a:latin typeface="Book Antiqua"/>
              </a:rPr>
              <a:t>Υδατοκαλλιέργεια</a:t>
            </a:r>
            <a:r>
              <a:rPr b="0" lang="el-GR" sz="2400" spc="-1" strike="noStrike">
                <a:solidFill>
                  <a:srgbClr val="333300"/>
                </a:solidFill>
                <a:latin typeface="Book Antiqua"/>
              </a:rPr>
              <a:t> είναι </a:t>
            </a:r>
            <a:r>
              <a:rPr b="0" lang="el-GR" sz="2400" spc="-1" strike="noStrike" u="sng">
                <a:solidFill>
                  <a:srgbClr val="333300"/>
                </a:solidFill>
                <a:uFillTx/>
                <a:latin typeface="Book Antiqua"/>
              </a:rPr>
              <a:t>η εκτροφή υδρόβιων οργανισμών (</a:t>
            </a:r>
            <a:r>
              <a:rPr b="0" lang="el-GR" sz="2000" spc="-1" strike="noStrike">
                <a:solidFill>
                  <a:srgbClr val="333300"/>
                </a:solidFill>
                <a:latin typeface="Book Antiqua"/>
              </a:rPr>
              <a:t>μεταξύ των οποίων συμπεριλαμβάνονται τα ψάρια, τα μαλάκια, τα καρκινοειδή και τα υδρόβια φυτά</a:t>
            </a:r>
            <a:r>
              <a:rPr b="0" lang="el-GR" sz="2400" spc="-1" strike="noStrike">
                <a:solidFill>
                  <a:srgbClr val="333300"/>
                </a:solidFill>
                <a:latin typeface="Book Antiqua"/>
              </a:rPr>
              <a:t>) </a:t>
            </a:r>
            <a:r>
              <a:rPr b="0" lang="el-GR" sz="2400" spc="-1" strike="noStrike" u="sng">
                <a:solidFill>
                  <a:srgbClr val="333300"/>
                </a:solidFill>
                <a:uFillTx/>
                <a:latin typeface="Book Antiqua"/>
              </a:rPr>
              <a:t>σε φυσικό ή ελεγχόμενο θαλάσσιο περιβάλλον ή σε εσωτερικά νερά</a:t>
            </a:r>
            <a:r>
              <a:rPr b="0" lang="el-GR" sz="2400" spc="-1" strike="noStrike">
                <a:solidFill>
                  <a:srgbClr val="333300"/>
                </a:solidFill>
                <a:latin typeface="Book Antiqua"/>
              </a:rPr>
              <a:t>.</a:t>
            </a:r>
            <a:r>
              <a:rPr b="0" lang="el-GR" sz="2000" spc="-1" strike="noStrike">
                <a:solidFill>
                  <a:srgbClr val="3333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00"/>
                </a:solidFill>
                <a:latin typeface="Book Antiqua"/>
              </a:rPr>
              <a:t>Ειδικότερα, </a:t>
            </a:r>
            <a:r>
              <a:rPr b="1" lang="el-GR" sz="2400" spc="-1" strike="noStrike">
                <a:solidFill>
                  <a:srgbClr val="333300"/>
                </a:solidFill>
                <a:latin typeface="Book Antiqua"/>
              </a:rPr>
              <a:t>Ιχθυοκαλλιέργεια</a:t>
            </a:r>
            <a:r>
              <a:rPr b="0" lang="el-GR" sz="2400" spc="-1" strike="noStrike">
                <a:solidFill>
                  <a:srgbClr val="333300"/>
                </a:solidFill>
                <a:latin typeface="Book Antiqua"/>
              </a:rPr>
              <a:t> είναι η καλλιέργεια ψαριών θαλάσσης και γλυκού νερού σε ελεγχόμενο περιβάλλον και αποτελεί ένα σημαντικό </a:t>
            </a:r>
            <a:r>
              <a:rPr b="0" lang="el-GR" sz="2400" spc="-1" strike="noStrike" u="sng">
                <a:solidFill>
                  <a:srgbClr val="333300"/>
                </a:solidFill>
                <a:uFillTx/>
                <a:latin typeface="Book Antiqua"/>
              </a:rPr>
              <a:t>τομέα της Αγροτικής Ανάπτυξης.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00"/>
                </a:solidFill>
                <a:latin typeface="Book Antiqua"/>
              </a:rPr>
              <a:t>H Ιχθυοκαλλιέργεια αποτελεί έναν από τους πιο αποτελεσματικούς </a:t>
            </a:r>
            <a:r>
              <a:rPr b="1" lang="el-GR" sz="2400" spc="-1" strike="noStrike">
                <a:solidFill>
                  <a:srgbClr val="333300"/>
                </a:solidFill>
                <a:latin typeface="Book Antiqua"/>
              </a:rPr>
              <a:t>τομείς παραγωγής πρωτεΐνης υψηλής διατροφικής αξίας</a:t>
            </a:r>
            <a:r>
              <a:rPr b="0" lang="el-GR" sz="2400" spc="-1" strike="noStrike">
                <a:solidFill>
                  <a:srgbClr val="333300"/>
                </a:solidFill>
                <a:latin typeface="Book Antiqua"/>
              </a:rPr>
              <a:t>. 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1486080"/>
            <a:ext cx="576360" cy="358560"/>
          </a:xfrm>
          <a:custGeom>
            <a:avLst/>
            <a:gdLst>
              <a:gd name="textAreaLeft" fmla="*/ 90000 w 576360"/>
              <a:gd name="textAreaRight" fmla="*/ 504360 w 57636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3573360"/>
            <a:ext cx="576360" cy="358920"/>
          </a:xfrm>
          <a:custGeom>
            <a:avLst/>
            <a:gdLst>
              <a:gd name="textAreaLeft" fmla="*/ 90000 w 576360"/>
              <a:gd name="textAreaRight" fmla="*/ 504360 w 57636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5445000"/>
            <a:ext cx="576360" cy="358920"/>
          </a:xfrm>
          <a:custGeom>
            <a:avLst/>
            <a:gdLst>
              <a:gd name="textAreaLeft" fmla="*/ 90000 w 576360"/>
              <a:gd name="textAreaRight" fmla="*/ 504360 w 57636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24B4-2690-42E1-B3A9-A222608DBD70}" type="slidenum">
              <a:t>2</a:t>
            </a:fld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Κατανάλωση αλιευτικών προϊόντων </a:t>
            </a: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(αλιείας &amp; υδατοκαλλιέργειας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0" t="19871" r="0" b="0"/>
          <a:stretch/>
        </p:blipFill>
        <p:spPr>
          <a:xfrm>
            <a:off x="2112840" y="1550880"/>
            <a:ext cx="6131160" cy="475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284720" y="59500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Kg</a:t>
            </a:r>
            <a:r>
              <a:rPr b="0" lang="el-GR" sz="1600" spc="-1" strike="noStrike">
                <a:solidFill>
                  <a:srgbClr val="333300"/>
                </a:solidFill>
                <a:latin typeface="Times New Roman"/>
              </a:rPr>
              <a:t>/κάτοικο/έτος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92360" y="3645000"/>
            <a:ext cx="718920" cy="215640"/>
          </a:xfrm>
          <a:custGeom>
            <a:avLst/>
            <a:gdLst>
              <a:gd name="textAreaLeft" fmla="*/ 112320 w 718920"/>
              <a:gd name="textAreaRight" fmla="*/ 629280 w 7189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513-82EA-4479-87E8-9E2AC68BFC5C}" type="slidenum">
              <a:t>20</a:t>
            </a:fld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32000" y="228240"/>
            <a:ext cx="741672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Book Antiqua"/>
              </a:rPr>
              <a:t>ΥΔΑΤΟΚΑΛΛΙΕΡΓΕΙΕΣ &amp; Ν. ΔΡΑΜΑ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58560" y="1438200"/>
            <a:ext cx="75582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Ο νομός Δράμας παρουσιάζει σημαντικό ενδιαφέρον για τις ιχθυοκαλλιέργειες των εσωτερικών υδάτων και σήμερα είναι ο </a:t>
            </a:r>
            <a:r>
              <a:rPr b="0" lang="en-US" sz="1800" spc="-1" strike="noStrike">
                <a:solidFill>
                  <a:srgbClr val="333300"/>
                </a:solidFill>
                <a:latin typeface="Verdana"/>
              </a:rPr>
              <a:t>leader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 στον τομέα καθώς έχει τις περισσότερες μονάδες ανά νομό στη Περιφέρεια Ανατ. Μακεδονίας – Θράκης. 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Τα </a:t>
            </a:r>
            <a:r>
              <a:rPr b="1" lang="el-GR" sz="1800" spc="-1" strike="noStrike">
                <a:solidFill>
                  <a:srgbClr val="333300"/>
                </a:solidFill>
                <a:latin typeface="Verdana"/>
              </a:rPr>
              <a:t>πλεονεκτήματα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 που εντοπίζονται είναι: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Η μεγάλη ποικιλία υδατορεμάτων κατάλληλων για εκτροφή ψαριών (</a:t>
            </a:r>
            <a:r>
              <a:rPr b="0" i="1" lang="el-GR" sz="1800" spc="-1" strike="noStrike">
                <a:solidFill>
                  <a:srgbClr val="333300"/>
                </a:solidFill>
                <a:latin typeface="Verdana"/>
              </a:rPr>
              <a:t>ρέματα, πηγές, λίμνες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Οι υδάτινοι πόροι παραμένουν γενικά σε καλή κατάσταση και δεν υπάρχουν ανθρωπογενείς παράγοντες υποβάθμισης των εσωτερικών νερών </a:t>
            </a:r>
            <a:r>
              <a:rPr b="0" i="1" lang="el-GR" sz="1600" spc="-1" strike="noStrike">
                <a:solidFill>
                  <a:srgbClr val="333300"/>
                </a:solidFill>
                <a:latin typeface="Verdana"/>
              </a:rPr>
              <a:t>(ρύπανση από αστικά, βιομηχανικά και γεωργικά απόβλητα)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 καθώς ιδιαίτερα τα ορεινά υδατορέματα ρέουν κατά μήκος δασικών εκτάσεων.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Η εγγύτητα από τις τοπικές αγορές (</a:t>
            </a:r>
            <a:r>
              <a:rPr b="0" i="1" lang="el-GR" sz="1800" spc="-1" strike="noStrike">
                <a:solidFill>
                  <a:srgbClr val="333300"/>
                </a:solidFill>
                <a:latin typeface="Verdana"/>
              </a:rPr>
              <a:t>Δράμα, Καβάλα, Σέρρες, Ξάνθη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) εγγυάται τη φρεσκότητα του προϊόντος.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Τέλος υπάρχει η δυνατότητα συνδυασμού Υδατοκαλλιέργειας και Αγροτουρισμού με σκοπό τη βιωσιμότητα των μονάδων.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32DA-5D5A-4A9E-956B-5195314E9A67}" type="slidenum">
              <a:t>21</a:t>
            </a:fld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981080" y="743040"/>
            <a:ext cx="6553440" cy="49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D48-E030-4787-BC85-433E9FE2A54C}" type="slidenum">
              <a:t>22</a:t>
            </a:fld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981080" y="743040"/>
            <a:ext cx="6553440" cy="49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9DC-9D65-4F6A-B91A-2B74D6836D01}" type="slidenum">
              <a:t>23</a:t>
            </a:fld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981080" y="743040"/>
            <a:ext cx="6553440" cy="49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2EC8-5CFA-4A85-9846-BF6EF043060D}" type="slidenum">
              <a:t>24</a:t>
            </a:fld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981080" y="743040"/>
            <a:ext cx="6553440" cy="49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36A2-0AC5-4B14-B900-24DC7B936271}" type="slidenum">
              <a:t>25</a:t>
            </a:fld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Book Antiqua"/>
              </a:rPr>
              <a:t>Μήπως πρέπει να τρώμε λιγότερο ψάρι;</a:t>
            </a:r>
            <a:r>
              <a:rPr b="1" lang="el-GR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31640" y="1802880"/>
            <a:ext cx="3600360" cy="472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00"/>
                </a:solidFill>
                <a:latin typeface="Verdana"/>
              </a:rPr>
              <a:t>…</a:t>
            </a:r>
            <a:r>
              <a:rPr b="1" lang="el-GR" sz="2000" spc="-1" strike="noStrike">
                <a:solidFill>
                  <a:srgbClr val="333300"/>
                </a:solidFill>
                <a:latin typeface="Verdana"/>
              </a:rPr>
              <a:t>Η απάντηση είναι φυσικά Όχι. 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00"/>
                </a:solidFill>
                <a:latin typeface="Verdana"/>
              </a:rPr>
              <a:t>	</a:t>
            </a:r>
            <a:r>
              <a:rPr b="0" lang="el-GR" sz="2000" spc="-1" strike="noStrike">
                <a:solidFill>
                  <a:srgbClr val="333300"/>
                </a:solidFill>
                <a:latin typeface="Verdana"/>
              </a:rPr>
              <a:t>Τα ψάρια είναι μια εξαιρετικά υγιεινή τροφή και μπορούμε να συνεχίσουμε να τρώμε ψάρια, εφόσον εκμεταλλευόμαστε και διαχειριζόμαστε τον φυσικό αυτόν πόρο με βιώσιμο τρόπο.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148360" y="1882800"/>
            <a:ext cx="3601800" cy="327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FD01-539B-4F4D-B3CE-415B0B8C2C5D}" type="slidenum">
              <a:t>26</a:t>
            </a:fld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340000" y="5734080"/>
            <a:ext cx="56386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0000ff"/>
                </a:solidFill>
                <a:latin typeface="Garamond"/>
              </a:rPr>
              <a:t>Σας ευχαριστώ !!!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835280" y="69228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F3D-D8F8-45D5-BBCC-E4DEC04B2204}" type="slidenum">
              <a:t>27</a:t>
            </a:fld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1080" y="43920"/>
            <a:ext cx="65534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Παραγωγή Υδατοκαλλιεργειών ανά χώρα της Ευρωπαϊκής Ένωσης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(2007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0" t="0" r="6664" b="3995"/>
          <a:stretch/>
        </p:blipFill>
        <p:spPr>
          <a:xfrm>
            <a:off x="1255680" y="1052640"/>
            <a:ext cx="4756320" cy="5711760"/>
          </a:xfrm>
          <a:prstGeom prst="rect">
            <a:avLst/>
          </a:prstGeom>
          <a:ln cap="sq" w="12600">
            <a:solidFill>
              <a:srgbClr val="3333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093000" y="3995640"/>
            <a:ext cx="2727000" cy="2746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332000" y="2924280"/>
            <a:ext cx="4680000" cy="25236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908000" y="1123920"/>
          <a:ext cx="4103640" cy="504720"/>
        </p:xfrm>
        <a:graphic>
          <a:graphicData uri="http://schemas.openxmlformats.org/drawingml/2006/table">
            <a:tbl>
              <a:tblPr/>
              <a:tblGrid>
                <a:gridCol w="1133280"/>
                <a:gridCol w="1087920"/>
                <a:gridCol w="957960"/>
                <a:gridCol w="92448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Παραγωγή (τόνοι)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Ποσοστό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Αξία 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(χιλιάδες €)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5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2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Ποσοστό</a:t>
                      </a:r>
                      <a:endParaRPr b="0" lang="en-US" sz="1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58a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900000" y="2637000"/>
            <a:ext cx="358920" cy="504720"/>
          </a:xfrm>
          <a:custGeom>
            <a:avLst/>
            <a:gdLst>
              <a:gd name="textAreaLeft" fmla="*/ 47880 w 358920"/>
              <a:gd name="textAreaRight" fmla="*/ 311040 w 35892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2565360"/>
            <a:ext cx="358920" cy="576360"/>
          </a:xfrm>
          <a:custGeom>
            <a:avLst/>
            <a:gdLst>
              <a:gd name="textAreaLeft" fmla="*/ 47880 w 358920"/>
              <a:gd name="textAreaRight" fmla="*/ 311040 w 35892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80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4A7-E43B-4851-89BC-71AC078F2815}" type="slidenum">
              <a:t>3</a:t>
            </a:fld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964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9144000" cy="5763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Η υδατοκαλλιέργεια στην Ευρωπαϊκή Ένωση (2002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rcRect l="5284" t="0" r="5284" b="0"/>
          <a:stretch/>
        </p:blipFill>
        <p:spPr>
          <a:xfrm>
            <a:off x="0" y="1440000"/>
            <a:ext cx="2340000" cy="2493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40" y="836640"/>
            <a:ext cx="2266920" cy="79200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333300"/>
                </a:solidFill>
                <a:latin typeface="Times New Roman"/>
              </a:rPr>
              <a:t>Κυριότερα είδη υδατοκαλλιέργειας Ε.Ε. </a:t>
            </a:r>
            <a:r>
              <a:rPr b="0" lang="el-GR" sz="1200" spc="-1" strike="noStrike">
                <a:solidFill>
                  <a:srgbClr val="333300"/>
                </a:solidFill>
                <a:latin typeface="Times New Roman"/>
              </a:rPr>
              <a:t>(παραγωγή σε τόνους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rcRect l="3432" t="0" r="0" b="0"/>
          <a:stretch/>
        </p:blipFill>
        <p:spPr>
          <a:xfrm>
            <a:off x="20520" y="4917960"/>
            <a:ext cx="2895840" cy="1940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40" y="3933720"/>
            <a:ext cx="2338560" cy="100800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333300"/>
                </a:solidFill>
                <a:latin typeface="Times New Roman"/>
              </a:rPr>
              <a:t>Κυριότερα είδη υδατοκαλλιέργειας Ε.Ε.  </a:t>
            </a:r>
            <a:r>
              <a:rPr b="0" lang="el-GR" sz="1200" spc="-1" strike="noStrike">
                <a:solidFill>
                  <a:srgbClr val="333300"/>
                </a:solidFill>
                <a:latin typeface="Times New Roman"/>
              </a:rPr>
              <a:t>(αξία σε χιλιάδες €)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1989000"/>
            <a:ext cx="792000" cy="1944720"/>
          </a:xfrm>
          <a:prstGeom prst="rect">
            <a:avLst/>
          </a:prstGeom>
          <a:solidFill>
            <a:srgbClr val="e5d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333300"/>
                </a:solidFill>
                <a:latin typeface="Times New Roman"/>
              </a:rPr>
              <a:t>Μύδι</a:t>
            </a:r>
            <a:endParaRPr b="0" lang="en-US" sz="9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333300"/>
                </a:solidFill>
                <a:latin typeface="Times New Roman"/>
              </a:rPr>
              <a:t>Πέστροφα</a:t>
            </a:r>
            <a:endParaRPr b="0" lang="en-US" sz="9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333300"/>
                </a:solidFill>
                <a:latin typeface="Times New Roman"/>
              </a:rPr>
              <a:t>Κοινό μύδι</a:t>
            </a:r>
            <a:endParaRPr b="0" lang="en-US" sz="9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333300"/>
                </a:solidFill>
                <a:latin typeface="Times New Roman"/>
              </a:rPr>
              <a:t>Σολομός</a:t>
            </a:r>
            <a:endParaRPr b="0" lang="en-US" sz="9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333300"/>
                </a:solidFill>
                <a:latin typeface="Times New Roman"/>
              </a:rPr>
              <a:t>Στρείδι</a:t>
            </a:r>
            <a:endParaRPr b="0" lang="en-US" sz="9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333300"/>
                </a:solidFill>
                <a:latin typeface="Times New Roman"/>
              </a:rPr>
              <a:t>Τσιπούρα</a:t>
            </a:r>
            <a:endParaRPr b="0" lang="en-US" sz="9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333300"/>
                </a:solidFill>
                <a:latin typeface="Times New Roman"/>
              </a:rPr>
              <a:t>Κυπρίνος</a:t>
            </a:r>
            <a:endParaRPr b="0" lang="en-US" sz="9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333300"/>
                </a:solidFill>
                <a:latin typeface="Times New Roman"/>
              </a:rPr>
              <a:t>Αχιβάδα</a:t>
            </a:r>
            <a:endParaRPr b="0" lang="en-US" sz="9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333300"/>
                </a:solidFill>
                <a:latin typeface="Times New Roman"/>
              </a:rPr>
              <a:t>Λαβράκι</a:t>
            </a:r>
            <a:endParaRPr b="0" lang="en-US" sz="9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333300"/>
                </a:solidFill>
                <a:latin typeface="Times New Roman"/>
              </a:rPr>
              <a:t>Τόνος</a:t>
            </a:r>
            <a:endParaRPr b="0" lang="en-US" sz="9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602-09C5-4CB9-9EF7-812CF9C5A58B}" type="slidenum">
              <a:t>4</a:t>
            </a:fld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58920" y="0"/>
            <a:ext cx="756108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00"/>
                </a:solidFill>
                <a:latin typeface="Book Antiqua"/>
              </a:rPr>
              <a:t>ΙΧΘΥΟΚΑΛΛΙΕΡΓΕΙΕΣ </a:t>
            </a:r>
            <a:br>
              <a:rPr sz="3600"/>
            </a:br>
            <a:r>
              <a:rPr b="1" lang="el-GR" sz="2800" spc="-1" strike="noStrike">
                <a:solidFill>
                  <a:srgbClr val="333300"/>
                </a:solidFill>
                <a:latin typeface="Book Antiqua"/>
              </a:rPr>
              <a:t>ΕΣΩΤΕΡΙΚΩΝ ΥΔΑΤΩΝ ΣΤΗΝ ΕΛΛΑΔΑ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58560" y="1438200"/>
            <a:ext cx="75582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4240" indent="126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Τα κυριότερα εκτρεφόμενα είδη ιχθύων στα </a:t>
            </a:r>
            <a:r>
              <a:rPr b="1" lang="el-GR" sz="1800" spc="-1" strike="noStrike">
                <a:solidFill>
                  <a:srgbClr val="333300"/>
                </a:solidFill>
                <a:latin typeface="Verdana"/>
              </a:rPr>
              <a:t>γλυκά και υφάλμυρα νερά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 στην Ελλάδα, είναι η </a:t>
            </a:r>
            <a:r>
              <a:rPr b="0" lang="el-GR" sz="1800" spc="-1" strike="noStrike" u="sng">
                <a:solidFill>
                  <a:srgbClr val="333300"/>
                </a:solidFill>
                <a:uFillTx/>
                <a:latin typeface="Verdana"/>
              </a:rPr>
              <a:t>πέστροφα, ο κυπρίνος, το χέλι, ο σολομός, η τιλάπια, ο κέφαλος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 κ.α. Σήμερα λειτουργούν </a:t>
            </a:r>
            <a:r>
              <a:rPr b="1" lang="el-GR" sz="1800" spc="-1" strike="noStrike">
                <a:solidFill>
                  <a:srgbClr val="333300"/>
                </a:solidFill>
                <a:latin typeface="Verdana"/>
              </a:rPr>
              <a:t>122 μονάδες εσωτερικών υδάτων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, των οποίων η παραγωγή ανέρχεται σε </a:t>
            </a:r>
            <a:r>
              <a:rPr b="1" lang="el-GR" sz="1800" spc="-1" strike="noStrike">
                <a:solidFill>
                  <a:srgbClr val="333300"/>
                </a:solidFill>
                <a:latin typeface="Verdana"/>
              </a:rPr>
              <a:t>3.015 τόνους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 (στοιχεία 2005). 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marL="84240" indent="12600">
              <a:spcBef>
                <a:spcPts val="225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Η εκτροφή της πέστροφας, αποτελεί την πιο παλιά οργανωμένη μορφή καλλιέργειας ψαριών στην Ελλάδα. 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marL="84240" indent="12600">
              <a:spcBef>
                <a:spcPts val="225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Αναπτύχθηκε αρχικά σε ορεινές περιοχές της </a:t>
            </a:r>
            <a:r>
              <a:rPr b="0" lang="el-GR" sz="1800" spc="-1" strike="noStrike" u="sng">
                <a:solidFill>
                  <a:srgbClr val="333300"/>
                </a:solidFill>
                <a:uFillTx/>
                <a:latin typeface="Verdana"/>
              </a:rPr>
              <a:t>ΒΔ Ελλάδας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 και αργότερα επεκτάθηκε σε ολόκληρη την περιοχή της </a:t>
            </a:r>
            <a:r>
              <a:rPr b="0" lang="el-GR" sz="1800" spc="-1" strike="noStrike" u="sng">
                <a:solidFill>
                  <a:srgbClr val="333300"/>
                </a:solidFill>
                <a:uFillTx/>
                <a:latin typeface="Verdana"/>
              </a:rPr>
              <a:t>Ηπείρου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, της </a:t>
            </a:r>
            <a:r>
              <a:rPr b="0" lang="el-GR" sz="1800" spc="-1" strike="noStrike" u="sng">
                <a:solidFill>
                  <a:srgbClr val="333300"/>
                </a:solidFill>
                <a:uFillTx/>
                <a:latin typeface="Verdana"/>
              </a:rPr>
              <a:t>Μακεδονίας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 και σε άλλες </a:t>
            </a:r>
            <a:r>
              <a:rPr b="0" lang="el-GR" sz="1800" spc="-1" strike="noStrike" u="sng">
                <a:solidFill>
                  <a:srgbClr val="333300"/>
                </a:solidFill>
                <a:uFillTx/>
                <a:latin typeface="Verdana"/>
              </a:rPr>
              <a:t>περιοχές της χώρας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marL="84240" indent="12600">
              <a:spcBef>
                <a:spcPts val="225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Σήμερα, οι περισσότερες μονάδες είναι </a:t>
            </a:r>
            <a:r>
              <a:rPr b="0" lang="el-GR" sz="1800" spc="-1" strike="noStrike" u="sng">
                <a:solidFill>
                  <a:srgbClr val="333300"/>
                </a:solidFill>
                <a:uFillTx/>
                <a:latin typeface="Verdana"/>
              </a:rPr>
              <a:t>οικογενειακής μορφής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 και </a:t>
            </a:r>
            <a:r>
              <a:rPr b="0" lang="el-GR" sz="1800" spc="-1" strike="noStrike" u="sng">
                <a:solidFill>
                  <a:srgbClr val="333300"/>
                </a:solidFill>
                <a:uFillTx/>
                <a:latin typeface="Verdana"/>
              </a:rPr>
              <a:t>μικρής δυναμικότητας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333300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333300"/>
                </a:solidFill>
                <a:latin typeface="Verdana"/>
              </a:rPr>
              <a:t>ενώ υπάρχουν και μεγάλα καθετοποιημένα συγκροτήματα παραγωγής.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AA7-3E01-4FC0-A99D-C702DF627295}" type="slidenum">
              <a:t>5</a:t>
            </a:fld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63280" y="342864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00"/>
                </a:solidFill>
                <a:latin typeface="Book Antiqua"/>
              </a:rPr>
              <a:t>Παράγωγη Ψαριών</a:t>
            </a:r>
            <a:r>
              <a:rPr b="1" lang="el-GR" sz="3600" spc="-1" strike="noStrike">
                <a:solidFill>
                  <a:srgbClr val="333300"/>
                </a:solidFill>
                <a:latin typeface="Book Antiqua"/>
              </a:rPr>
              <a:t> </a:t>
            </a:r>
            <a:r>
              <a:rPr b="1" lang="el-GR" sz="2000" spc="-1" strike="noStrike">
                <a:solidFill>
                  <a:srgbClr val="333300"/>
                </a:solidFill>
                <a:latin typeface="Book Antiqua"/>
              </a:rPr>
              <a:t>(σε τόνους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63640" y="4057560"/>
          <a:ext cx="6480360" cy="2519280"/>
        </p:xfrm>
        <a:graphic>
          <a:graphicData uri="http://schemas.openxmlformats.org/drawingml/2006/table">
            <a:tbl>
              <a:tblPr/>
              <a:tblGrid>
                <a:gridCol w="1576440"/>
                <a:gridCol w="625320"/>
                <a:gridCol w="708120"/>
                <a:gridCol w="625680"/>
                <a:gridCol w="834840"/>
                <a:gridCol w="835200"/>
                <a:gridCol w="1274760"/>
              </a:tblGrid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ΕΤΟΣ</a:t>
                      </a: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000</a:t>
                      </a: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001</a:t>
                      </a: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002</a:t>
                      </a: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003</a:t>
                      </a: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Πέστροφα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.66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.334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.34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1.925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.188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.445,74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Κυπρίνος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166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126,8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121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165,9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107,06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Σολομός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6,05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18,5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14,22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5,81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Χέλια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675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735,08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664,2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42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556,25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373,08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Λοιπά είδη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(Κέφαλοι, Τιλάπια κ.λ.π.)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143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117,7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116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148,3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83,0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ΣΥΝΟΛΟ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3.656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3.34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3.235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.629,5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3.072,67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3.014,69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" descr=""/>
          <p:cNvPicPr/>
          <p:nvPr/>
        </p:nvPicPr>
        <p:blipFill>
          <a:blip r:embed="rId2"/>
          <a:srcRect l="5858" t="10484" r="29291" b="0"/>
          <a:stretch/>
        </p:blipFill>
        <p:spPr>
          <a:xfrm>
            <a:off x="1692360" y="593640"/>
            <a:ext cx="7119720" cy="2835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63640" y="115920"/>
            <a:ext cx="648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00"/>
                </a:solidFill>
                <a:latin typeface="Book Antiqua"/>
              </a:rPr>
              <a:t>Αριθμός μονάδων πάχυνσης </a:t>
            </a:r>
            <a:r>
              <a:rPr b="1" lang="el-GR" sz="1600" spc="-1" strike="noStrike">
                <a:solidFill>
                  <a:srgbClr val="333300"/>
                </a:solidFill>
                <a:latin typeface="Book Antiqua"/>
              </a:rPr>
              <a:t>(Εσωτ. Υδάτων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105264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00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443700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00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20000" y="4292640"/>
            <a:ext cx="1081080" cy="504720"/>
          </a:xfrm>
          <a:prstGeom prst="ellipse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99B-FC6B-4468-8168-41A3012F5D28}" type="slidenum">
              <a:t>6</a:t>
            </a:fld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Αξία Παραγωγής</a:t>
            </a:r>
            <a:r>
              <a:rPr b="0" lang="el-GR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(σε χιλ. ευρώ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58920" y="1484280"/>
          <a:ext cx="7554960" cy="4969080"/>
        </p:xfrm>
        <a:graphic>
          <a:graphicData uri="http://schemas.openxmlformats.org/drawingml/2006/table">
            <a:tbl>
              <a:tblPr/>
              <a:tblGrid>
                <a:gridCol w="1865160"/>
                <a:gridCol w="819360"/>
                <a:gridCol w="1028520"/>
                <a:gridCol w="974880"/>
                <a:gridCol w="877680"/>
                <a:gridCol w="916200"/>
                <a:gridCol w="1073160"/>
              </a:tblGrid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ΕΤΟΣ</a:t>
                      </a: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000</a:t>
                      </a: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001</a:t>
                      </a: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002</a:t>
                      </a: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003</a:t>
                      </a: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1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Πέστροφα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8.742,0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9.012,0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10.530,0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4.620,0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5.418,93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8.456,90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Κυπρίνος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604,0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480,0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484,0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525,0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596,89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445,07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Σολομός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88,0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58,0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10,0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179,45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135,88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60,12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Χέλια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4.655,0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4.137,0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4.981,5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2.436,0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4.268,92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3.770,57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Λοιπά είδη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(Κέφαλοι, Τιλάπια κ.λ.π.)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629,0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510,0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315,0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556,8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649,18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465,21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ΣΥΝΟΛΟ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14.718,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14.397,0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16.521,00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8.317,25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11.069,87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00"/>
                          </a:solidFill>
                          <a:latin typeface="Verdana"/>
                          <a:ea typeface="Times New Roman"/>
                        </a:rPr>
                        <a:t>13.197,87</a:t>
                      </a:r>
                      <a:endParaRPr b="0" lang="en-US" sz="1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826920" y="2349360"/>
            <a:ext cx="720720" cy="287640"/>
          </a:xfrm>
          <a:prstGeom prst="rightArrow">
            <a:avLst>
              <a:gd name="adj1" fmla="val 50000"/>
              <a:gd name="adj2" fmla="val 62641"/>
            </a:avLst>
          </a:prstGeom>
          <a:solidFill>
            <a:srgbClr val="ff00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DF5B-BFAB-4994-8BDD-5E2EB8855F7F}" type="slidenum">
              <a:t>7</a:t>
            </a:fld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6920" y="228600"/>
            <a:ext cx="7705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000000"/>
                </a:solidFill>
                <a:uFillTx/>
                <a:latin typeface="Book Antiqua"/>
              </a:rPr>
              <a:t>ΙΧΘΥΟΚΑΛΛΙΕΡΓΕΙΕΣ</a:t>
            </a:r>
            <a:r>
              <a:rPr b="1" lang="el-GR" sz="2800" spc="-1" strike="noStrike">
                <a:solidFill>
                  <a:srgbClr val="000000"/>
                </a:solidFill>
                <a:latin typeface="Book Antiqua"/>
              </a:rPr>
              <a:t>: </a:t>
            </a:r>
            <a:br>
              <a:rPr sz="2800"/>
            </a:br>
            <a:r>
              <a:rPr b="1" lang="el-GR" sz="3600" spc="-1" strike="noStrike">
                <a:solidFill>
                  <a:srgbClr val="000000"/>
                </a:solidFill>
                <a:latin typeface="Book Antiqua"/>
              </a:rPr>
              <a:t>ΧΡΗΣΗ ΒΙΟΛΟΓΙΚΩΝ ΠΟΡΩΝ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8560" y="1438200"/>
            <a:ext cx="75582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Το τροφικό επίπεδο ενός οργανισμού εκφράζει την σχετική θέση του στην ιεραρχία του τροφικού πλέγματος κάθε οικοσυστήματος. Η ιριδίζουσα πέστροφα 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(</a:t>
            </a:r>
            <a:r>
              <a:rPr b="0" i="1" lang="el-GR" sz="1400" spc="-1" strike="noStrike">
                <a:solidFill>
                  <a:srgbClr val="333300"/>
                </a:solidFill>
                <a:latin typeface="Verdana"/>
              </a:rPr>
              <a:t>Oncorhynchus mykiss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)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 έχει τροφικό επίπεδο </a:t>
            </a:r>
            <a:r>
              <a:rPr b="1" lang="el-GR" sz="1600" spc="-1" strike="noStrike">
                <a:solidFill>
                  <a:srgbClr val="333300"/>
                </a:solidFill>
                <a:latin typeface="Verdana"/>
              </a:rPr>
              <a:t>4,42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, ο σιβηρικός οξύρυγχος 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(</a:t>
            </a:r>
            <a:r>
              <a:rPr b="0" i="1" lang="el-GR" sz="1400" spc="-1" strike="noStrike">
                <a:solidFill>
                  <a:srgbClr val="333300"/>
                </a:solidFill>
                <a:latin typeface="Verdana"/>
              </a:rPr>
              <a:t>Acipenser baerii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)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 </a:t>
            </a:r>
            <a:r>
              <a:rPr b="1" lang="el-GR" sz="1600" spc="-1" strike="noStrike">
                <a:solidFill>
                  <a:srgbClr val="333300"/>
                </a:solidFill>
                <a:latin typeface="Verdana"/>
              </a:rPr>
              <a:t>3,22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, ο ρώσικος οξύρυγχος 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(</a:t>
            </a:r>
            <a:r>
              <a:rPr b="0" i="1" lang="el-GR" sz="1400" spc="-1" strike="noStrike">
                <a:solidFill>
                  <a:srgbClr val="333300"/>
                </a:solidFill>
                <a:latin typeface="Verdana"/>
              </a:rPr>
              <a:t>A. gueldenstaedtii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)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 </a:t>
            </a:r>
            <a:r>
              <a:rPr b="1" lang="el-GR" sz="1600" spc="-1" strike="noStrike">
                <a:solidFill>
                  <a:srgbClr val="333300"/>
                </a:solidFill>
                <a:latin typeface="Verdana"/>
              </a:rPr>
              <a:t>3,11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, το λαβράκι </a:t>
            </a:r>
            <a:r>
              <a:rPr b="1" lang="el-GR" sz="1600" spc="-1" strike="noStrike">
                <a:solidFill>
                  <a:srgbClr val="333300"/>
                </a:solidFill>
                <a:latin typeface="Verdana"/>
              </a:rPr>
              <a:t>3,79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 και η τσιπούρα </a:t>
            </a:r>
            <a:r>
              <a:rPr b="1" lang="el-GR" sz="1600" spc="-1" strike="noStrike">
                <a:solidFill>
                  <a:srgbClr val="333300"/>
                </a:solidFill>
                <a:latin typeface="Verdana"/>
              </a:rPr>
              <a:t>3,26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Η εκτροφή των ψαριών ιχθυοκαλλιέργειας πραγματοποιείται με βιομηχανικές τροφές που έχουν βασικά συστατικά τους ιχθυάλευρα, ιχθυέλαιο αλλά και δημητριακά, όπως το σιτάρι, το καλαμπόκι και η σόγια, δηλαδή υλικά που δεν φτάνουν στο πιάτο του καταναλωτή (</a:t>
            </a:r>
            <a:r>
              <a:rPr b="0" i="1" lang="el-GR" sz="1400" spc="-1" strike="noStrike">
                <a:solidFill>
                  <a:srgbClr val="333300"/>
                </a:solidFill>
                <a:latin typeface="Verdana"/>
              </a:rPr>
              <a:t>νωπά αλιεύματα ή δημητριακά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 με χαμηλή διατροφική αξία). </a:t>
            </a:r>
            <a:endParaRPr b="0" lang="en-US" sz="14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Αντίστοιχα για το </a:t>
            </a:r>
            <a:r>
              <a:rPr b="0" i="1" lang="el-GR" sz="1600" spc="-1" strike="noStrike">
                <a:solidFill>
                  <a:srgbClr val="333300"/>
                </a:solidFill>
                <a:latin typeface="Verdana"/>
              </a:rPr>
              <a:t>εκτρεφόμενο λαβράκι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 και την </a:t>
            </a:r>
            <a:r>
              <a:rPr b="0" i="1" lang="el-GR" sz="1600" spc="-1" strike="noStrike">
                <a:solidFill>
                  <a:srgbClr val="333300"/>
                </a:solidFill>
                <a:latin typeface="Verdana"/>
              </a:rPr>
              <a:t>εκτρεφόμενη τσιπούρα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, με βάση την σύσταση των ιχθυοτροφών, τα τροφικά τους επίπεδα είναι </a:t>
            </a:r>
            <a:r>
              <a:rPr b="1" lang="el-GR" sz="1600" spc="-1" strike="noStrike">
                <a:solidFill>
                  <a:srgbClr val="333300"/>
                </a:solidFill>
                <a:latin typeface="Verdana"/>
              </a:rPr>
              <a:t>2,03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 και </a:t>
            </a:r>
            <a:r>
              <a:rPr b="1" lang="el-GR" sz="1600" spc="-1" strike="noStrike">
                <a:solidFill>
                  <a:srgbClr val="333300"/>
                </a:solidFill>
                <a:latin typeface="Verdana"/>
              </a:rPr>
              <a:t>1,81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, ενώ αντίστοιχα χαμηλές είναι οι τιμές για τα άλλα εκτρεφόμενα είδη. Οι τιμές αυτές είναι ιδιαίτερα χαμηλές, χαμηλότερες ακόμη και από το τροφικό επίπεδο των ψαριών που προορίζονται για ιχθυάλευρα 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(</a:t>
            </a:r>
            <a:r>
              <a:rPr b="0" lang="el-GR" sz="1400" spc="-1" strike="noStrike" u="sng">
                <a:solidFill>
                  <a:srgbClr val="333300"/>
                </a:solidFill>
                <a:uFillTx/>
                <a:latin typeface="Verdana"/>
              </a:rPr>
              <a:t>αντζούγια Περού 2,7</a:t>
            </a:r>
            <a:r>
              <a:rPr b="0" lang="el-GR" sz="1400" spc="-1" strike="noStrike">
                <a:solidFill>
                  <a:srgbClr val="333300"/>
                </a:solidFill>
                <a:latin typeface="Verdana"/>
              </a:rPr>
              <a:t>)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3333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333300"/>
                </a:solidFill>
                <a:uFillTx/>
                <a:latin typeface="Verdana"/>
              </a:rPr>
              <a:t>ΙΧΘΥΟΚΑΛΛΙΕΡΓΕΙΑ</a:t>
            </a:r>
            <a:endParaRPr b="0" lang="en-US" sz="1600" spc="-1" strike="noStrike">
              <a:solidFill>
                <a:srgbClr val="3333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	</a:t>
            </a:r>
            <a:r>
              <a:rPr b="0" lang="el-GR" sz="1600" spc="-1" strike="noStrike">
                <a:solidFill>
                  <a:srgbClr val="333300"/>
                </a:solidFill>
                <a:latin typeface="Verdana"/>
              </a:rPr>
              <a:t>Καλύτερη χρήση των διαθέσιμων βιολογικών πόρων για την παραγωγή τροφίμων υψηλής διατροφικής αξίας      Αναβάθμιση χαμηλότερου τροφικού επιπέδου οργανισμών σε υψηλότερο και πιο εύληπτο από τον άνθρωπο. </a:t>
            </a:r>
            <a:endParaRPr b="0" lang="en-US" sz="16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6164280"/>
            <a:ext cx="360360" cy="217440"/>
          </a:xfrm>
          <a:prstGeom prst="rightArrow">
            <a:avLst>
              <a:gd name="adj1" fmla="val 50000"/>
              <a:gd name="adj2" fmla="val 41432"/>
            </a:avLst>
          </a:prstGeom>
          <a:solidFill>
            <a:srgbClr val="ffff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2C7-378E-4D67-B78B-E6360EA4F428}" type="slidenum">
              <a:t>8</a:t>
            </a:fld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8560" y="228600"/>
            <a:ext cx="7489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000000"/>
                </a:solidFill>
                <a:uFillTx/>
                <a:latin typeface="Book Antiqua"/>
              </a:rPr>
              <a:t>ΙΧΘΥΟΚΑΛΛΙΕΡΓΕΙΕΣ</a:t>
            </a:r>
            <a:r>
              <a:rPr b="1" lang="el-GR" sz="2800" spc="-1" strike="noStrike">
                <a:solidFill>
                  <a:srgbClr val="000000"/>
                </a:solidFill>
                <a:latin typeface="Book Antiqua"/>
              </a:rPr>
              <a:t>:</a:t>
            </a:r>
            <a:r>
              <a:rPr b="1" lang="el-GR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3200"/>
            </a:br>
            <a:r>
              <a:rPr b="1" lang="el-GR" sz="3600" spc="-1" strike="noStrike">
                <a:solidFill>
                  <a:srgbClr val="000000"/>
                </a:solidFill>
                <a:latin typeface="Book Antiqua"/>
              </a:rPr>
              <a:t>ΔΙΑΤΡΟΦΙΚΗ ΑΞΙΑ ΨΑΡΙΩΝ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8560" y="1458720"/>
            <a:ext cx="7558200" cy="53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00"/>
                </a:solidFill>
                <a:latin typeface="Verdana"/>
              </a:rPr>
              <a:t>Στα πλαίσια μιας ισορροπημένης διατροφής, μια κανονική κατανάλωση ψαριών δηλαδή 1-2 φορές την εβδομάδα ενδείκνυται σε όσους ακολουθούν μια διατροφή με χαμηλές θερμίδες αλλά σε όποιον θέλει να ακολουθήσει μια υγιή και σωστή διατροφή. 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00"/>
                </a:solidFill>
                <a:latin typeface="Verdana"/>
              </a:rPr>
              <a:t>Μελέτες που έγιναν σε πληθυσμούς με υψηλή κατανάλωση ιχθυελαίων αποκάλυψαν χαμηλά επίπεδα καρδιαγγειακών ασθενειών και άρχισαν να μελετώνται τα πλεονεκτήματα των ω3 λιπαρών οξέων. 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3300"/>
                </a:solidFill>
                <a:latin typeface="Verdana"/>
              </a:rPr>
              <a:t>Η κατανάλωση ψαριών ιχθυοκαλλιέργειας, χάρη στο χαμηλό ποσοστό της χοληστερόλης και την παρουσία ω3-πολυακόρεστων λιπαρών οξέων, που </a:t>
            </a:r>
            <a:r>
              <a:rPr b="0" lang="el-GR" sz="2000" spc="-1" strike="noStrike" u="sng">
                <a:solidFill>
                  <a:srgbClr val="333300"/>
                </a:solidFill>
                <a:uFillTx/>
                <a:latin typeface="Verdana"/>
              </a:rPr>
              <a:t>απουσιάζουν σε άλλα κρέατα</a:t>
            </a:r>
            <a:r>
              <a:rPr b="0" lang="el-GR" sz="2000" spc="-1" strike="noStrike">
                <a:solidFill>
                  <a:srgbClr val="333300"/>
                </a:solidFill>
                <a:latin typeface="Verdana"/>
              </a:rPr>
              <a:t>, </a:t>
            </a:r>
            <a:r>
              <a:rPr b="1" lang="el-GR" sz="2000" spc="-1" strike="noStrike">
                <a:solidFill>
                  <a:srgbClr val="333300"/>
                </a:solidFill>
                <a:latin typeface="Verdana"/>
              </a:rPr>
              <a:t>βοηθά στην καλή λειτουργία της καρδιάς, στη διατήρηση της φυσιολογικής πίεσης του αίματος και στη διατήρηση των </a:t>
            </a:r>
            <a:r>
              <a:rPr b="0" lang="el-GR" sz="2000" spc="-1" strike="noStrike">
                <a:solidFill>
                  <a:srgbClr val="333300"/>
                </a:solidFill>
                <a:latin typeface="Verdana"/>
              </a:rPr>
              <a:t>φυσιολογικών επιπέδων</a:t>
            </a:r>
            <a:r>
              <a:rPr b="1" lang="el-GR" sz="2000" spc="-1" strike="noStrike">
                <a:solidFill>
                  <a:srgbClr val="333300"/>
                </a:solidFill>
                <a:latin typeface="Verdana"/>
              </a:rPr>
              <a:t> τριγλυκεριδίων στο αίμα</a:t>
            </a:r>
            <a:r>
              <a:rPr b="0" lang="el-GR" sz="2000" spc="-1" strike="noStrike">
                <a:solidFill>
                  <a:srgbClr val="3333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87B7-703C-471C-AFB7-C7C74332AF9F}" type="slidenum">
              <a:t>9</a:t>
            </a:fld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8:35:47Z</dcterms:created>
  <dc:creator>u13431</dc:creator>
  <dc:description/>
  <cp:keywords/>
  <dc:language>en-US</dc:language>
  <cp:lastModifiedBy>u13431</cp:lastModifiedBy>
  <dcterms:modified xsi:type="dcterms:W3CDTF">2011-12-06T07:23:50Z</dcterms:modified>
  <cp:revision>51</cp:revision>
  <dc:subject/>
  <dc:title>ΙΧΘΥΟΚΑΛΛΙΕΡΓΕΙΕΣ ΕΣΩΤΕΡΙΚΩΝ ΥΔΑΤΩΝ: ΚΑΤΑΣΤΑΣΗ ΚΑΙ ΠΡΟΟΠΤΙΚΕ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lications">
    <vt:lpwstr>184;#Office 2000;#182;#Office XP;#65;#Microsoft Office PowerPoint 2007;#64;#PowerPoint 2003;#79;#Template 12</vt:lpwstr>
  </property>
  <property fmtid="{D5CDD505-2E9C-101B-9397-08002B2CF9AE}" pid="6" name="AssetId">
    <vt:lpwstr>TS006207074</vt:lpwstr>
  </property>
  <property fmtid="{D5CDD505-2E9C-101B-9397-08002B2CF9AE}" pid="7" name="AssetType">
    <vt:lpwstr>TP</vt:lpwstr>
  </property>
  <property fmtid="{D5CDD505-2E9C-101B-9397-08002B2CF9AE}" pid="8" name="AuthoringAssetId">
    <vt:lpwstr>TP006207074</vt:lpwstr>
  </property>
  <property fmtid="{D5CDD505-2E9C-101B-9397-08002B2CF9AE}" pid="9" name="BugNumber">
    <vt:lpwstr>498509L</vt:lpwstr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C3831ACA17D8814887A164412888521E</vt:lpwstr>
  </property>
  <property fmtid="{D5CDD505-2E9C-101B-9397-08002B2CF9AE}" pid="12" name="IsDeleted">
    <vt:lpwstr>0</vt:lpwstr>
  </property>
  <property fmtid="{D5CDD505-2E9C-101B-9397-08002B2CF9AE}" pid="13" name="IsSearchable">
    <vt:lpwstr>0</vt:lpwstr>
  </property>
  <property fmtid="{D5CDD505-2E9C-101B-9397-08002B2CF9AE}" pid="14" name="Markets">
    <vt:lpwstr>en-us</vt:lpwstr>
  </property>
  <property fmtid="{D5CDD505-2E9C-101B-9397-08002B2CF9AE}" pid="15" name="Milestone">
    <vt:lpwstr>Continuous</vt:lpwstr>
  </property>
  <property fmtid="{D5CDD505-2E9C-101B-9397-08002B2CF9AE}" pid="16" name="NumericId">
    <vt:lpwstr>-1.00000000000000</vt:lpwstr>
  </property>
  <property fmtid="{D5CDD505-2E9C-101B-9397-08002B2CF9AE}" pid="17" name="OpenTemplate">
    <vt:lpwstr>1</vt:lpwstr>
  </property>
  <property fmtid="{D5CDD505-2E9C-101B-9397-08002B2CF9AE}" pid="18" name="PrimaryImageGen">
    <vt:lpwstr>1</vt:lpwstr>
  </property>
  <property fmtid="{D5CDD505-2E9C-101B-9397-08002B2CF9AE}" pid="19" name="Provider">
    <vt:lpwstr>EY006220130</vt:lpwstr>
  </property>
  <property fmtid="{D5CDD505-2E9C-101B-9397-08002B2CF9AE}" pid="20" name="PublishStatusLookup">
    <vt:lpwstr>258085</vt:lpwstr>
  </property>
  <property fmtid="{D5CDD505-2E9C-101B-9397-08002B2CF9AE}" pid="21" name="PublishTargets">
    <vt:lpwstr>OfficeOnline</vt:lpwstr>
  </property>
  <property fmtid="{D5CDD505-2E9C-101B-9397-08002B2CF9AE}" pid="22" name="ShowIn">
    <vt:lpwstr>Show everywhere</vt:lpwstr>
  </property>
  <property fmtid="{D5CDD505-2E9C-101B-9397-08002B2CF9AE}" pid="23" name="SourceTitle">
    <vt:lpwstr>Project status report</vt:lpwstr>
  </property>
  <property fmtid="{D5CDD505-2E9C-101B-9397-08002B2CF9AE}" pid="24" name="TPAppVersion">
    <vt:lpwstr>11</vt:lpwstr>
  </property>
  <property fmtid="{D5CDD505-2E9C-101B-9397-08002B2CF9AE}" pid="25" name="TPApplication">
    <vt:lpwstr>PowerPoint</vt:lpwstr>
  </property>
  <property fmtid="{D5CDD505-2E9C-101B-9397-08002B2CF9AE}" pid="26" name="TPClientViewer">
    <vt:lpwstr>Microsoft Office PowerPoint</vt:lpwstr>
  </property>
  <property fmtid="{D5CDD505-2E9C-101B-9397-08002B2CF9AE}" pid="27" name="TPCommandLine">
    <vt:lpwstr>{PP} /n {FilePath}</vt:lpwstr>
  </property>
  <property fmtid="{D5CDD505-2E9C-101B-9397-08002B2CF9AE}" pid="28" name="TPComponent">
    <vt:lpwstr>PPTFiles</vt:lpwstr>
  </property>
  <property fmtid="{D5CDD505-2E9C-101B-9397-08002B2CF9AE}" pid="29" name="TPFriendlyName">
    <vt:lpwstr>Project status report</vt:lpwstr>
  </property>
  <property fmtid="{D5CDD505-2E9C-101B-9397-08002B2CF9AE}" pid="30" name="TPInstallLocation">
    <vt:lpwstr>{My Templates}</vt:lpwstr>
  </property>
  <property fmtid="{D5CDD505-2E9C-101B-9397-08002B2CF9AE}" pid="31" name="TPLaunchHelpLink">
    <vt:lpwstr/>
  </property>
  <property fmtid="{D5CDD505-2E9C-101B-9397-08002B2CF9AE}" pid="32" name="TPLaunchHelpLinkType">
    <vt:lpwstr>Template</vt:lpwstr>
  </property>
  <property fmtid="{D5CDD505-2E9C-101B-9397-08002B2CF9AE}" pid="33" name="TPNamespace">
    <vt:lpwstr>POWERPNT</vt:lpwstr>
  </property>
  <property fmtid="{D5CDD505-2E9C-101B-9397-08002B2CF9AE}" pid="34" name="TemplateStatus">
    <vt:lpwstr>Complete</vt:lpwstr>
  </property>
  <property fmtid="{D5CDD505-2E9C-101B-9397-08002B2CF9AE}" pid="35" name="TrustLevel">
    <vt:lpwstr>Microsoft Managed Content</vt:lpwstr>
  </property>
  <property fmtid="{D5CDD505-2E9C-101B-9397-08002B2CF9AE}" pid="36" name="UALocRecommendation">
    <vt:lpwstr>Localize</vt:lpwstr>
  </property>
  <property fmtid="{D5CDD505-2E9C-101B-9397-08002B2CF9AE}" pid="37" name="UANotes">
    <vt:lpwstr>LEGACY FROM TOW. Assigned to Luann for retrofit pass</vt:lpwstr>
  </property>
  <property fmtid="{D5CDD505-2E9C-101B-9397-08002B2CF9AE}" pid="38" name="display_urn:schemas-microsoft-com:office:office#APAuthor">
    <vt:lpwstr>REDMOND\cynvey</vt:lpwstr>
  </property>
  <property fmtid="{D5CDD505-2E9C-101B-9397-08002B2CF9AE}" pid="39" name="display_urn:schemas-microsoft-com:office:office#APEditor">
    <vt:lpwstr>REDMOND\v-luannv</vt:lpwstr>
  </property>
</Properties>
</file>